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FC6D-24AE-4990-B003-6075A696D6D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4E8F-9549-4DEE-921E-1FFEF85EDEF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2FC1-E59C-40E5-887A-7024B0A3C17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5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0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0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solidFill>
            <a:srgbClr val="b3d6ac"/>
          </a:solidFill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V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Bridging Activity Concept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utho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rega Al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gis Chikow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teete Beku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rmgard Hoeschle-Zele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Lilongw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13 June 2016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ill Sans"/>
              </a:rPr>
              <a:t>Target EPAs &amp; beneficia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ec182"/>
                </a:solidFill>
                <a:latin typeface="Gill Sans"/>
              </a:rPr>
              <a:t>NASFAM</a:t>
            </a: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; </a:t>
            </a:r>
            <a:r>
              <a:rPr b="1" lang="en-GB" sz="2400" spc="-1" strike="noStrike">
                <a:solidFill>
                  <a:srgbClr val="4ea5d8"/>
                </a:solidFill>
                <a:latin typeface="Gill Sans"/>
              </a:rPr>
              <a:t>CADECOM</a:t>
            </a: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; </a:t>
            </a:r>
            <a:r>
              <a:rPr b="1" lang="en-GB" sz="2400" spc="-1" strike="noStrike">
                <a:solidFill>
                  <a:srgbClr val="a088b7"/>
                </a:solidFill>
                <a:latin typeface="Gill Sans"/>
              </a:rPr>
              <a:t>F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80880" y="1981080"/>
          <a:ext cx="8458200" cy="490716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  <a:gridCol w="1409760"/>
                <a:gridCol w="1484280"/>
                <a:gridCol w="1335240"/>
                <a:gridCol w="14094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PAs and number of beneficiaries in brac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bene-ficia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goc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iya (607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uli (145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in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coshya (346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lonyeni (457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indi (272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che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jolomole (21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jawira (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ira (89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long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yanja (176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ingu (2509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ka (520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tsma (406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fumbwa (140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nyana (388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thipe (631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fairs Distri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As and beneficiaries to be determ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velop the Project M&amp;E Plan (Logframe/Workplan developed at inception workshop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gree methods of tracking and reporting achiev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0200" y="2285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23232"/>
                </a:solidFill>
                <a:latin typeface="Old English Text MT"/>
              </a:rPr>
              <a:t>Thank you</a:t>
            </a:r>
            <a:endParaRPr b="0" lang="en-US" sz="9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1066680" y="5819760"/>
            <a:ext cx="685800" cy="7570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7243920" y="586728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P:\logos\c\cimmyt\CIMMYT Logo.jpg"/>
          <p:cNvPicPr/>
          <p:nvPr/>
        </p:nvPicPr>
        <p:blipFill>
          <a:blip r:embed="rId3"/>
          <a:stretch/>
        </p:blipFill>
        <p:spPr>
          <a:xfrm>
            <a:off x="7118280" y="5057640"/>
            <a:ext cx="960480" cy="720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2" descr="P:\logos\i\ifpri\IFPRI_Logo_Standard.jpg"/>
          <p:cNvPicPr/>
          <p:nvPr/>
        </p:nvPicPr>
        <p:blipFill>
          <a:blip r:embed="rId4"/>
          <a:stretch/>
        </p:blipFill>
        <p:spPr>
          <a:xfrm>
            <a:off x="2838600" y="5857920"/>
            <a:ext cx="390240" cy="7095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P:\logos\i\ICRISAT\icrisat-logo.jpg"/>
          <p:cNvPicPr/>
          <p:nvPr/>
        </p:nvPicPr>
        <p:blipFill>
          <a:blip r:embed="rId5"/>
          <a:stretch/>
        </p:blipFill>
        <p:spPr>
          <a:xfrm>
            <a:off x="4510080" y="6037200"/>
            <a:ext cx="1506600" cy="561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AVRDC – The World Vegetable Center — avrdc.org"/>
          <p:cNvPicPr/>
          <p:nvPr/>
        </p:nvPicPr>
        <p:blipFill>
          <a:blip r:embed="rId6"/>
          <a:srcRect l="0" t="0" r="63858" b="0"/>
          <a:stretch/>
        </p:blipFill>
        <p:spPr>
          <a:xfrm>
            <a:off x="1066680" y="5148360"/>
            <a:ext cx="1967040" cy="538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P:\logos\i\iita\IITA_regular-sienna_with slogan (2).JPG"/>
          <p:cNvPicPr/>
          <p:nvPr/>
        </p:nvPicPr>
        <p:blipFill>
          <a:blip r:embed="rId7"/>
          <a:stretch/>
        </p:blipFill>
        <p:spPr>
          <a:xfrm>
            <a:off x="4191120" y="4444920"/>
            <a:ext cx="1123920" cy="5637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4" descr=""/>
          <p:cNvPicPr/>
          <p:nvPr/>
        </p:nvPicPr>
        <p:blipFill>
          <a:blip r:embed="rId8"/>
          <a:stretch/>
        </p:blipFill>
        <p:spPr>
          <a:xfrm>
            <a:off x="4145040" y="5191200"/>
            <a:ext cx="15699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-76320" y="1294920"/>
            <a:ext cx="92966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ill San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152280" y="2286000"/>
            <a:ext cx="8915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USAID Presentation: What the bridging activity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156834"/>
                </a:solidFill>
                <a:uFillTx/>
                <a:latin typeface="Arial"/>
              </a:rPr>
              <a:t>Proviso for the CN Development </a:t>
            </a:r>
            <a:r>
              <a:rPr b="1" lang="en-GB" sz="3200" spc="-1" strike="noStrike" u="sng">
                <a:solidFill>
                  <a:srgbClr val="156834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56834"/>
                </a:solidFill>
                <a:latin typeface="Arial"/>
              </a:rPr>
              <a:t>Do not re-invent the wheel: adapt to and build upon the current project situation;  engage  and learn from current implementers of the INVC Project &amp;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ivity Go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 rural poverty through increased household incomes from soybean and groundnut production and mark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ctivity Objecti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clusive agricultural sector growth, increased incomes, a diversified diet and improved soil heal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ctivity Compon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vancing value chain competitiv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roving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pacity development (embedd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dvancing value chain competitive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28600" y="1600200"/>
          <a:ext cx="8839080" cy="521964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0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b268"/>
                    </a:solidFill>
                  </a:tcPr>
                </a:tc>
              </a:tr>
              <a:tr h="48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marketing as a result of improved end-market competitiveness and t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access to market information and financial servic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commercial relationships in the value chains, including  vertical coordination of smallholders and 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household incomes and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lending to smallholder farmers and other value chain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olum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alu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 of soybean &amp; gnut sold in the domestic mar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alue of agriculture and rural loans disbursed to smallholder farmers and small busin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umber of smallholder farmers, SMEs, producer organizations, and trade and business associations receiving marketing and business development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of incremental sales of soybeans and groundnuts attributed to project implement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ss margin per hectare of soybean and groundnut production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 per capita expenditures of project benefici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b26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867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ill Sans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76320" y="1665360"/>
          <a:ext cx="8991360" cy="5164200"/>
        </p:xfrm>
        <a:graphic>
          <a:graphicData uri="http://schemas.openxmlformats.org/drawingml/2006/table">
            <a:tbl>
              <a:tblPr/>
              <a:tblGrid>
                <a:gridCol w="2997000"/>
                <a:gridCol w="5994360"/>
              </a:tblGrid>
              <a:tr h="49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05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market activities for farmers, traders &amp; processo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ssess domestic market demand and opportuniti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acilitate business relationships between farmers &amp;          buye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7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e access to market information and collective market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romote market information centr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trengthen market information system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xpand market opportunities and opt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romote community-level product aggregation &amp; bulk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85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e access to information servic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nk farmers to financial institut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acilitate bank lending through credit guarante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e household food processing, utilisation and storag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mproving agricultural produ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52280" y="1905120"/>
          <a:ext cx="8839440" cy="440676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1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4010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yields for legumes and associated crops by at least 5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access to, and use of productivity-enhancing technologies by male and female smallholder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hanced implementation of better soil fertility management, water conservation practices and other GAPs by male and female smallholde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volume of grain legume products available for household consumption, dietary diversity and market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land area under legume crop produc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olume of improved seed, rhizobia and other inputs used at HH lev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 production increased through intensification approach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diversified and steady food suppl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d income from sale of legum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mproving agricultural productivity cont’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52280" y="1905120"/>
          <a:ext cx="8839440" cy="419076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1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379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hanced use of agricultural extension and advisory servic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onstructed water resource management structure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umber of implemented GAPS for increased productiv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farmer capacity to practice and transfer knowledge and information on legume cropping GAPs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anded, more diversified income sources from new enterprises and employment opportunities related to legume value chain developme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867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ill Sans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76320" y="1665360"/>
          <a:ext cx="8839080" cy="4887720"/>
        </p:xfrm>
        <a:graphic>
          <a:graphicData uri="http://schemas.openxmlformats.org/drawingml/2006/table">
            <a:tbl>
              <a:tblPr/>
              <a:tblGrid>
                <a:gridCol w="8839080"/>
              </a:tblGrid>
              <a:tr h="53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138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abling farmers’ access to improved seed usi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roaches piloted by INV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fairs, tapping into CRS exper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Ps technology delivery and transfer working with lead farmers, supervised by researchers and extension sta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</a:tr>
              <a:tr h="100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advisory services and extension delivery systems, driven by hands-on training of lead farm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100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vironmental mitigation through demonstration of climate smart practices and emphasising climate-smart messages during train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609480"/>
          </a:xfrm>
          <a:prstGeom prst="rect">
            <a:avLst/>
          </a:prstGeom>
          <a:solidFill>
            <a:srgbClr val="fde5cd"/>
          </a:solidFill>
          <a:ln w="9360">
            <a:solidFill>
              <a:srgbClr val="fde5c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High potential, high achiever 15 EPAs in 5 distri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2" descr="C:\Users\IZeledon\Desktop\SoybeanProduction.png"/>
          <p:cNvPicPr/>
          <p:nvPr/>
        </p:nvPicPr>
        <p:blipFill>
          <a:blip r:embed="rId1"/>
          <a:stretch/>
        </p:blipFill>
        <p:spPr>
          <a:xfrm>
            <a:off x="457200" y="1992240"/>
            <a:ext cx="3809880" cy="46483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3"/>
          <p:cNvSpPr/>
          <p:nvPr/>
        </p:nvSpPr>
        <p:spPr>
          <a:xfrm>
            <a:off x="4343400" y="4321080"/>
            <a:ext cx="42670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d Fairs to be conducted in the district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laka, Mangochi, Machi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3124080" y="9144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rget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8:14:19Z</dcterms:created>
  <dc:creator>IZELEDON</dc:creator>
  <dc:description/>
  <dc:language>en-US</dc:language>
  <cp:lastModifiedBy>Mateete</cp:lastModifiedBy>
  <cp:lastPrinted>2011-10-06T11:45:23Z</cp:lastPrinted>
  <dcterms:modified xsi:type="dcterms:W3CDTF">2016-06-13T06:20:03Z</dcterms:modified>
  <cp:revision>149</cp:revision>
  <dc:subject/>
  <dc:title>Slide 1</dc:title>
</cp:coreProperties>
</file>