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9F29-FB3E-417C-B148-16D7DCCE3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D67CC-BC36-405F-A46A-A0ECFF497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D576-707A-4FB1-B8B2-26206AE7A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pata  26.5  67.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te   14.1  60.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ndazi 18.4  22.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266D-7FE0-4B9D-90E1-9E179FC9A5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B46B-FE7F-4C77-B9B9-167BA7781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636-1B0D-421E-8C03-54B0CCE84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7424-24F5-4A2B-800D-D144CD93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277-7586-4017-9E4E-7EEC6EE20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912-93BF-4E7C-84C6-106BF70C6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A19B-A6B8-4658-B226-B78E5A2E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D8F-467B-4B84-A0D4-03F21E9F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3C07-E3D8-455F-A7EA-91A90FAAF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2E5-C69C-4952-AFE1-AABE0B84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BF96-9DAD-4A58-9827-0DF5371C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80F-B104-49F5-9A09-26B3F9ABA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63D-17DF-4CE8-A69F-BF831196C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43828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428720"/>
            <a:ext cx="264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38A-E79E-4EDF-9983-5FE01889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42872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438280"/>
            <a:ext cx="40158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428720"/>
            <a:ext cx="8229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2" descr="dtma_comp copy"/>
          <p:cNvPicPr/>
          <p:nvPr/>
        </p:nvPicPr>
        <p:blipFill>
          <a:blip r:embed="rId2"/>
          <a:stretch/>
        </p:blipFill>
        <p:spPr>
          <a:xfrm>
            <a:off x="0" y="0"/>
            <a:ext cx="9186840" cy="1425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B3C5-A2B5-4450-90ED-35FC972F78F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114440" y="762120"/>
            <a:ext cx="4846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Lucida San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281952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  <a:ea typeface="Calibri"/>
              </a:rPr>
              <a:t>SIMLEZA SITE CHARACTERISATION AND MONITORING &amp; EVALUA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609480" y="5562720"/>
            <a:ext cx="3762360" cy="103968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6049440" y="5715000"/>
            <a:ext cx="13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ZARI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ing and Evalua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240" y="10663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905120"/>
          <a:ext cx="8610480" cy="4495680"/>
        </p:xfrm>
        <a:graphic>
          <a:graphicData uri="http://schemas.openxmlformats.org/drawingml/2006/table">
            <a:tbl>
              <a:tblPr/>
              <a:tblGrid>
                <a:gridCol w="3789360"/>
                <a:gridCol w="2409840"/>
                <a:gridCol w="2411280"/>
              </a:tblGrid>
              <a:tr h="93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R 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Prevalence of stunted children under five years of 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 FTF Indicator Name: Prevalence of underweight children under 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 : Prevalence of underweight wome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R 2.1  Smallholder Agricultural Productivity Increa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7200" y="1981080"/>
          <a:ext cx="8153280" cy="4554720"/>
        </p:xfrm>
        <a:graphic>
          <a:graphicData uri="http://schemas.openxmlformats.org/drawingml/2006/table">
            <a:tbl>
              <a:tblPr/>
              <a:tblGrid>
                <a:gridCol w="3581280"/>
                <a:gridCol w="1981440"/>
                <a:gridCol w="2590560"/>
              </a:tblGrid>
              <a:tr h="478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evalence of wasted children under five years of age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r capita expenditures of USG targeted beneficiaries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immyt &amp;II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3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 2-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ll partn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" y="1066680"/>
          <a:ext cx="8763120" cy="5607000"/>
        </p:xfrm>
        <a:graphic>
          <a:graphicData uri="http://schemas.openxmlformats.org/drawingml/2006/table">
            <a:tbl>
              <a:tblPr/>
              <a:tblGrid>
                <a:gridCol w="4724280"/>
                <a:gridCol w="2133720"/>
                <a:gridCol w="1905120"/>
              </a:tblGrid>
              <a:tr h="29232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dicato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sponsi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8460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(total production per hectare) for targeted commodi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1. 2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new technologies or management practices in one of the following phases of development as a result of USG assistance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1: under resear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2: under field tes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hase 3: made available for trans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2,3 &amp;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immyt &amp; II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farmers or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1,2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mber of individuals who have received USG supported short-term agricultural sector productivity or food security training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bjective 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504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1F88-A04D-4FD4-94B2-B1EF95E89052}" type="slidenum">
              <a:rPr b="0" lang="en-US" sz="1800" spc="-1" strike="noStrike">
                <a:solidFill>
                  <a:srgbClr val="000000"/>
                </a:solidFill>
                <a:latin typeface="Lucida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067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             </a:t>
            </a:r>
            <a:r>
              <a:rPr b="1" lang="en-US" sz="4000" spc="-1" strike="noStrike">
                <a:solidFill>
                  <a:srgbClr val="000000"/>
                </a:solidFill>
                <a:latin typeface="Lucida Sans"/>
              </a:rPr>
              <a:t>Thank you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read basket of the count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main crops contributes a significant share to national production – maize (22%); G/nut (30%): cotton (69%);  sunflower (73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tinct spatial differences based on bio physical conditions (agro-ecological; topography ) and economic develop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Basic Household Characteristic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2057400"/>
          <a:ext cx="8208720" cy="3559320"/>
        </p:xfrm>
        <a:graphic>
          <a:graphicData uri="http://schemas.openxmlformats.org/drawingml/2006/table">
            <a:tbl>
              <a:tblPr/>
              <a:tblGrid>
                <a:gridCol w="3255840"/>
                <a:gridCol w="1219320"/>
                <a:gridCol w="1152360"/>
                <a:gridCol w="1219320"/>
                <a:gridCol w="1361880"/>
              </a:tblGrid>
              <a:tr h="8920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haracteris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ge (years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ousehold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ducation (year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erage Farm size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5 (2.5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8 (2.6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7 (4.4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8 (3.5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ivestock Ownership (TL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rming as occupation 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2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pulation Density in  SIMLEZA survey districts in eastern Zambia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8229600" cy="38102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G:\CIMMYT\SIMLEZA\Maps revised\Poplation_eastern province ZAM.jpg"/>
          <p:cNvPicPr/>
          <p:nvPr/>
        </p:nvPicPr>
        <p:blipFill>
          <a:blip r:embed="rId2"/>
          <a:stretch/>
        </p:blipFill>
        <p:spPr>
          <a:xfrm>
            <a:off x="1849320" y="1143000"/>
            <a:ext cx="5770800" cy="560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  <a:ea typeface="Calibri"/>
              </a:rPr>
              <a:t>Soil Types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C:\Users\Munyaradzi\Documents\Planning meeting Malawi 2012\Cimmyt\Simleza\ZAMBIA MAP\Zambia_soils.jpg"/>
          <p:cNvPicPr/>
          <p:nvPr/>
        </p:nvPicPr>
        <p:blipFill>
          <a:blip r:embed="rId1"/>
          <a:stretch/>
        </p:blipFill>
        <p:spPr>
          <a:xfrm>
            <a:off x="3733920" y="1828800"/>
            <a:ext cx="4800600" cy="48769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"/>
          <p:cNvSpPr/>
          <p:nvPr/>
        </p:nvSpPr>
        <p:spPr>
          <a:xfrm>
            <a:off x="295200" y="1676520"/>
            <a:ext cx="343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Physically Ferralsols are good soils, well drained and with a good structure and deep profile.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Low capacity to retain and supply nutrients to plant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Ferralsols have low pHs (&lt; 5.2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Deficient in bases (Ca, Mg, K) which requires lime 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ng-term mean annual rainfall distribution of Zambia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LEZ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istri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85440" y="165744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19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G:\CIMMYT\SIMLEZA\Maps revised\Zamb_rainfall-2.jpg"/>
          <p:cNvPicPr/>
          <p:nvPr/>
        </p:nvPicPr>
        <p:blipFill>
          <a:blip r:embed="rId2"/>
          <a:stretch/>
        </p:blipFill>
        <p:spPr>
          <a:xfrm>
            <a:off x="533520" y="1523880"/>
            <a:ext cx="61894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0000"/>
                </a:solidFill>
                <a:latin typeface="Calibri"/>
                <a:ea typeface="Calibri"/>
              </a:rPr>
              <a:t>Maize &amp; Legume Production in Simleza Distric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33520" y="1752480"/>
          <a:ext cx="8208720" cy="5440320"/>
        </p:xfrm>
        <a:graphic>
          <a:graphicData uri="http://schemas.openxmlformats.org/drawingml/2006/table">
            <a:tbl>
              <a:tblPr/>
              <a:tblGrid>
                <a:gridCol w="3200400"/>
                <a:gridCol w="1274760"/>
                <a:gridCol w="1152360"/>
                <a:gridCol w="1219320"/>
                <a:gridCol w="1361880"/>
              </a:tblGrid>
              <a:tr h="90288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Yield  (kgs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aize                hybr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79.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2021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48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88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87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14.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08.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50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162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69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0.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mon Beans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5.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6.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9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8.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8.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5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2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bean   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1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5.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9.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5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4.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1.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 rowSpan="2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s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24.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1.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8.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1.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9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5.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7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pea         Improv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0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                   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o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8.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7.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4.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3.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981080"/>
          <a:ext cx="7772400" cy="4540320"/>
        </p:xfrm>
        <a:graphic>
          <a:graphicData uri="http://schemas.openxmlformats.org/drawingml/2006/table">
            <a:tbl>
              <a:tblPr/>
              <a:tblGrid>
                <a:gridCol w="1447920"/>
                <a:gridCol w="1928520"/>
                <a:gridCol w="1036800"/>
                <a:gridCol w="1122480"/>
                <a:gridCol w="1055520"/>
                <a:gridCol w="1181160"/>
              </a:tblGrid>
              <a:tr h="5493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z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3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58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2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92d050"/>
                          </a:solidFill>
                          <a:latin typeface="Calibri"/>
                          <a:ea typeface="Calibri"/>
                        </a:rPr>
                        <a:t>4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on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ya be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3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685800" y="2209680"/>
          <a:ext cx="7772400" cy="3154320"/>
        </p:xfrm>
        <a:graphic>
          <a:graphicData uri="http://schemas.openxmlformats.org/drawingml/2006/table">
            <a:tbl>
              <a:tblPr/>
              <a:tblGrid>
                <a:gridCol w="1371600"/>
                <a:gridCol w="2004840"/>
                <a:gridCol w="1036800"/>
                <a:gridCol w="1122480"/>
                <a:gridCol w="1055520"/>
                <a:gridCol w="1181160"/>
              </a:tblGrid>
              <a:tr h="77796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ket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p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33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at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17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undaz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294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n=806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7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4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b050"/>
                          </a:solidFill>
                          <a:latin typeface="Calibri"/>
                          <a:ea typeface="Calibri"/>
                        </a:rPr>
                        <a:t>5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rowSpan="3"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w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 g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llage mark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PH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n market/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"/>
                      </a:endParaRPr>
                    </a:p>
                  </a:txBody>
                  <a:tcPr anchor="b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360" y="1218960"/>
            <a:ext cx="6933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PH" sz="3000" spc="-1" strike="noStrike">
                <a:solidFill>
                  <a:srgbClr val="00b0f0"/>
                </a:solidFill>
                <a:latin typeface="Calibri"/>
                <a:ea typeface="Calibri"/>
              </a:rPr>
              <a:t>Type of market for maize and legumes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4T08:23:30Z</dcterms:created>
  <dc:creator>Mwangi</dc:creator>
  <dc:description/>
  <dc:language>en-US</dc:language>
  <cp:lastModifiedBy>Bekunda</cp:lastModifiedBy>
  <dcterms:modified xsi:type="dcterms:W3CDTF">2013-05-28T12:25:38Z</dcterms:modified>
  <cp:revision>216</cp:revision>
  <dc:subject/>
  <dc:title>The Drought Tolerant Maize for Africa Project</dc:title>
</cp:coreProperties>
</file>