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69CB-8847-4827-8189-C73C72E1E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418D-2D70-4CC2-A6C9-AB4098ACA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54C0-4C25-4679-952F-421451BE0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83C8-EFDC-4F30-8ACB-B8DA3D247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F2E2-CFE9-45E9-AD1B-7977510D7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1907-F60C-4CD5-8D7A-921F83017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BD9B-23E3-47B5-B651-99FF5A01F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C00CD-42A6-4C3D-A61F-3C53E33E70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5AA9-FA28-4BF1-BF1A-C6D0CC2DC1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55DE-0FAF-4E98-8699-C6AC834A90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FFB67-0685-4857-8A26-B198C43757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35EAF-4AC3-4A54-B437-8A2E120F9D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40DD-A793-4FFA-879B-2E26B5A9FE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245A3-FDD1-4322-8524-95F32ACEF9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C300F-6664-4DC6-AF45-B884F608A6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55AAB-2F9C-4FD5-8918-D042DB7171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07B2-5564-41FD-AF95-B27D9631BE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51B3-EDCA-4D6F-9FFC-BF29C81FED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507C-A45A-4CF6-AEF2-EEBB2F5300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BB76-A144-4E52-89B5-22F3388E06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C5B3-63A0-49E6-AA83-E5E94F7E30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F97C-6788-4DED-BE59-C10473771B7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C1CF-FF21-470B-B1C6-2ABDE554D86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DC4D7-A23C-49D2-AF83-E5DC0A0D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8950B-76F2-4C7D-BCE8-E59D1904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518AC-066D-4755-A85F-4618A3CB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95F67-B771-4C25-B8A3-826D419C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D9A1B-CA6A-4A2F-BA89-E6D502AE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A1CC4-AC0F-4B83-BA45-B84AD2B9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4FCB2-F41D-425A-A0BE-D0088754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6D733-6979-4BCE-A2C3-0F5FE2A3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A3E13-CD65-44B1-BA11-C31EA111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380F-9CA3-46BB-93EE-F7A15A50243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A643B-AAE1-4694-9F76-1E7093A7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E265A-20DE-4B7F-847F-08AAC511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43B05-63E2-4181-A03F-687CD2F3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C361-373F-43A6-8BE8-6E09F6B51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47D4-3EAE-49F2-AA90-09750C73D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9C8D-0A35-4E06-A777-A85CD324E8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47C4-5D7C-4906-8FC3-29740D7CA2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F93C-B02D-48BF-9675-908E96EFAA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1 group work repo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120" y="3581280"/>
            <a:ext cx="5410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hirou, Sibiry, Gatien, Joseph, Naomie, Jerome, Anni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1 Construction of development domains within and across the project mega-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development domains developed so far by IFPRI require more granular data to become relevant within the GS megasite, including: ethnic/linguistic layers, livestock density, LGP, landscape physiography / elev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dure already applied for Ghana can be replicated in Mali and improved with feedback to Gh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PRI (Chris) will continue to lead that activity until complete, including field visits to be organized in conjunction with activity 1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CRISAT (Sibiry) will provide supplementary granular data to IFPRI (Chris) for stratification and domain delineation within the GS mega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CRISAT (Eva) will help organize Mali field visits by IFPRI (Chris) before end of Dece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2 Identification of action research sites within the development domains of each mega-site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 statement in project document on consultation with local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ed to identify Mali units of analysis similar to Ghana districts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rc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rrondisseme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ecteur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mmu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y can be executed concurrently with 1.1 (development domai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participants should include: Carlo, Chris, Sibiry, Larbi, Tahir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idging the scale gap in site selection should not only be through partners / expert opinion but also informed by more granular GIS data (cf. 1.1 abo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felt that there is flexibility still possible in action and/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contro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ites finalization in UER and N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3 Establishment of R4D platform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to Tanzania, Malawi and Ghana, need to review and inventory current FtF investments in Mali – where are they made, who was contracted for platform establishment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portunity to expand existing innovations platforms into R4D platforms (more dynamic, proacti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treatment site where there is no R4D platform (control sites will be selected outside the intervention domain of R4D platform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Mali, potential scale mismatch between administrative divisions and critical mass of villages for R4D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4 Collect baseline information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HH survey instrument for the BL? What level of customization for AR objectives / approach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sue of subcontracting for BL survey administration: IPA or likes? Level of subcontracting? Training onl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 data will not be used to revise action / control site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 data may be used to guide deployment of technology-based interventions (agronomy/farm-level) but likely not process-based interventions (community/landscape-leve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5 Construction of farm household typologi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PRI (Naomie) will lead with IITA (Bernard) inputs for CRP1.2 areas and ICRISAT (Gatien) inputs for CRP1.1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6 Inventorize innovation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7 Identification and prioritization of innovations addressing major constraint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modeling?? -&gt; participatory scenario analysis (to avoid over-commitmen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23232"/>
                </a:solidFill>
                <a:latin typeface="Calibri"/>
              </a:rPr>
              <a:t>Sequencing, responsibility, funding of O1 activities</a:t>
            </a:r>
            <a:endParaRPr b="0" lang="en-US" sz="29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981000"/>
          <a:ext cx="8218440" cy="5770800"/>
        </p:xfrm>
        <a:graphic>
          <a:graphicData uri="http://schemas.openxmlformats.org/drawingml/2006/table">
            <a:tbl>
              <a:tblPr/>
              <a:tblGrid>
                <a:gridCol w="3319560"/>
                <a:gridCol w="650880"/>
                <a:gridCol w="576000"/>
                <a:gridCol w="576360"/>
                <a:gridCol w="576360"/>
                <a:gridCol w="719280"/>
                <a:gridCol w="649080"/>
                <a:gridCol w="11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 Domains: IFPRI-Chris (L), ICRISAT-Sib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Sites: IFPRI-Carlo (L), IFPRI-Chris, IITA-Larbi, ICRISAT-Sib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IITA/ICRISAT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Platforms: IITA-Larbi (L), ICRISAT-Eva (co-L), ICRAF-Joach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/ICRISAT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Baselines: IFPRI-Carlo (L), IFPRI-M&amp;E officer, IITA-Tahirou, ICRAF-Joachim, ICRISAT-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Typologies: IFPRI-Naomie (L), IITA-Bernard, ICRISAT-Gat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CRP1.1/1.2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Innovations: IITA-Larbi (L), ICRISAT-Eva (co-L), M&amp;E offi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IITA/ICRISAT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 Prioritizations: IITA-Larbi (L), ICRISAT-Eva (co-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/ICRISAT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 Sy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30T10:21:02Z</dcterms:modified>
  <cp:revision>20</cp:revision>
  <dc:subject/>
  <dc:title>Slide 1</dc:title>
</cp:coreProperties>
</file>