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35AC-34E1-4519-92EF-5159A89486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2D89-8151-443E-8AB4-55F2912BE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53AB-EB9D-4889-896E-0C3E6DD3D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2096-58EF-48EF-8626-88E60D7B53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EB81B-6DF8-463B-8CA1-49EEE182C6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A145-DECD-4CFB-8AD7-330FA8758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684D-B667-46D7-8777-32CAC6F2D1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7FFB4-A099-4791-9678-C99E32CA85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F6089-9651-437F-B07A-E78624340EE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30C1D-7CC0-4620-9E90-FF7F17CFB26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037E0-44E7-4CD4-A9EF-9977D07AF06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56AA3-75B1-4A64-BF4F-7A3337B641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AB9B-CA0D-4CC9-91B2-AF8CEE88C45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3397-324E-45DF-8327-40DB70D257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BA69A-60B9-40BF-8762-C194E9DB654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8AD32-7914-4593-B2B6-527A002184F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0AEF0-9CAB-47F5-B76A-7112841689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970089-85B3-4FE9-A408-27D544EF4DC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6F77-6E3D-4F8A-907C-FAB54B9732B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BE69-F91E-400E-A05E-F0ACF3C0FA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D0AB-B375-4714-A6C6-0DFE54268BF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C1DC-8F99-4E6C-8CE0-C582C332E5B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B04C1-1EE9-4354-ACCB-A7B2316A5B8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E62F1-7C0E-428B-B541-87C9C3570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A51D4-333B-427F-A9CF-93A1A7BA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85AAE-2102-4E32-8B4D-52D32E43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43D1F6-CC77-4BAC-98E6-AA0EF570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AD452-B58C-4F89-B645-A4BA0B84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7FF3E-3581-4AC0-9A6E-4AF5224E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076DF2-6029-4CDC-9449-DE6588E8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170BF-A041-479F-892A-A82D5287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4C84CE-14CF-4984-B046-B3E7FF339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E705-E0B2-4335-BEF5-7B064E6B2B1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90AFC-85D3-4DE1-BCC9-DC497337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4848F-ED02-47DF-8EB4-ED5EF05A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A61AFC-9460-4366-AC45-5CC47E52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0FA3-3BF9-4DD0-AA23-209AEA29A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D972-E5C8-48F5-A38F-727D3D1786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2371-3D6A-4D36-A2AC-8146B44086F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4449-4DDE-42FC-88D9-0EEF87DE264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A09F-5C91-437C-A54C-34BE209455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371240" y="1752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O1 group work repor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52120" y="35812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ahirou, Sibiry, Gatien, Joseph, Naomie, Jerome, Annie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1 Construction of development domains within and across the project mega-sit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development domains developed so far by IFPRI require more granular data to become relevant within the GS megasite, including: ethnic/linguistic layers, livestock density, LGP, landscape physiography / elev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dure already applied for Ghana can be replicated in Mali and improved with feedback to Ghan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Chris) will continue to lead that activity until complete, including field visits to be organized in conjunction with activity 1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Sibiry) will provide supplementary granular data to IFPRI (Chris) for stratification and domain delineation within the GS megasi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CRISAT (Eva) will help organize Mali field visits by IFPRI (Chris) before end of Decemb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21924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2 Identification of action research sites within the development domains of each mega-site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dd statement in project document on consultation with local part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eed to identify Mali units of analysis similar to Ghana districts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ercl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rrondissemen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secteur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s.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mmun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ity can be executed concurrently with 1.1 (development domai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ey participants should include: Carlo, Chris, Sibiry, Larbi, Tahiro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ridging the scale gap in site selection should not only be through partners / expert opinion but also informed by more granular GIS data (cf. 1.1 abo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felt that there is flexibility still possible in action and/or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contro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ites finalization in UER and N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3 Establishment of R4D platform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milar to Tanzania, Malawi and Ghana, need to review and inventory current FtF investments in Mali – where are they made, who was contracted for platform establishment etc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pportunity to expand existing innovations platforms into R4D platforms (more dynamic, proactive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treatment site where there is no R4D platform (control sites will be selected outside the intervention domain of R4D platform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Mali, potential scale mismatch between administrative divisions and critical mass of villages for R4D platfor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4 Collect baseline information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HH survey instrument for the BL? What level of customization for AR objectives / approache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ssue of subcontracting for BL survey administration: IPA or likes? Level of subcontracting? Training onl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will not be used to revise action / control site selec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L data may be used to guide deployment of technology-based interventions (agronomy/farm-level) but likely not process-based interventions (community/landscape-level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5 Construction of farm household typologie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PRI (Naomie) will lead with IITA (Bernard) inputs for CRP1.2 areas and ICRISAT (Gatien) inputs for CRP1.1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6 Inventorize innovation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Calibri"/>
              </a:rPr>
              <a:t>1.7 Identification and prioritization of innovations addressing major constraints</a:t>
            </a:r>
            <a:endParaRPr b="0" lang="en-US" sz="32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modeling?? -&gt; participatory scenario analysis (to avoid over-commitmen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23232"/>
                </a:solidFill>
                <a:latin typeface="Calibri"/>
              </a:rPr>
              <a:t>Sequencing, responsibility, funding of O1 activities</a:t>
            </a:r>
            <a:endParaRPr b="0" lang="en-US" sz="29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57200" y="981000"/>
          <a:ext cx="8218440" cy="5770800"/>
        </p:xfrm>
        <a:graphic>
          <a:graphicData uri="http://schemas.openxmlformats.org/drawingml/2006/table">
            <a:tbl>
              <a:tblPr/>
              <a:tblGrid>
                <a:gridCol w="3319560"/>
                <a:gridCol w="650880"/>
                <a:gridCol w="576000"/>
                <a:gridCol w="576360"/>
                <a:gridCol w="576360"/>
                <a:gridCol w="719280"/>
                <a:gridCol w="649080"/>
                <a:gridCol w="1150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$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 Domains: IFPRI-Chris (L)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 Sites: IFPRI-Carlo (L), IFPRI-Chris, IITA-Larbi, ICRISAT-Sibi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 Platforms: IITA-Larbi (L), ICRISAT-Eva (co-L), ICRAF-Joach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 Baselines: IFPRI-Carlo (L), IFPRI-M&amp;E officer, IITA-Tahirou, ICRAF-Joachim, ICRISAT-Ma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 Typologies: IFPRI-Naomie (L), IITA-Bernard, ICRISAT-Gati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CRP1.1/1.2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6 Innovations: IITA-Larbi (L), ICRISAT-Eva (co-L), M&amp;E offic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50%, IITA/ICRISAT 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 Prioritizations: IITA-Larbi (L), ICRISAT-Eva (co-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/ICRISAT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 Synthe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0T10:21:02Z</dcterms:modified>
  <cp:revision>20</cp:revision>
  <dc:subject/>
  <dc:title>Slide 1</dc:title>
</cp:coreProperties>
</file>