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62104-B92D-4464-8E74-1AD3F1B1A0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3FD61-9759-4A4F-ABC1-790EE9B76C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9047-C146-4617-97E7-BAF3EF0BD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9932-D451-414F-9922-8C05B29DE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4D0A-D076-49D2-9255-4D378CB46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F1A3-6B53-4F7C-93C6-2B00FE7A2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9A97C-915C-412B-A514-8829F0B33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D758C-0CD5-4572-BE13-314C69250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C5C07-7B00-441C-B431-3DD61D09B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B03C9-E36B-42D5-B6F3-965054728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FBE34-D771-4444-B7E4-BDAB554D8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6793B-667C-4E23-A4A8-155C82EED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F92C6-7E4D-4698-A9BE-843E6847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3395-E08F-4FDA-8984-AE71CB321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EF4C1-FFAE-4C5C-BBE7-A30E86992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6BED7-D6D0-47F4-AF07-22523C28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FA798-BC2B-4197-8347-92B5803C3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E1F0B-4E4C-4B9C-9888-9AB7FA312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5CDC9-880F-43C1-AE68-27A9307EC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A744-1AE0-4BC4-BCA2-4F463A843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4E16-D3DC-46D7-BE18-D5600E5E9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1F56-63EC-4739-A8C9-08698393E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66A4-662A-49FD-AE28-E7A61064C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8732-D3BE-45E0-AD3A-44C0FBAB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2E58-B17C-4119-BDE7-8F327CCB2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474E-F141-4E8C-9CA1-41AC51373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35A9F-F36D-4315-91B7-3D7E0318B7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16597-B831-434D-8B13-5D249621ED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700" spc="-1" strike="noStrike">
                <a:solidFill>
                  <a:srgbClr val="336666"/>
                </a:solidFill>
                <a:latin typeface="Arial Black"/>
              </a:rPr>
              <a:t>DISTRICT     AGRICULTURE DEVELOPMENT OFFICES IN MALAWI</a:t>
            </a:r>
            <a:endParaRPr b="0" lang="en-US" sz="37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752120" y="3580920"/>
            <a:ext cx="541044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300" spc="-1" strike="noStrike">
                <a:solidFill>
                  <a:srgbClr val="000000"/>
                </a:solidFill>
                <a:latin typeface="Arial"/>
              </a:rPr>
              <a:t>CHALLENGES IN INTENSIFICATION OF AGRICULTURAL ACTIVITIE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300" spc="-1" strike="noStrike">
                <a:solidFill>
                  <a:srgbClr val="336666"/>
                </a:solidFill>
                <a:latin typeface="Arial Black"/>
              </a:rPr>
              <a:t> </a:t>
            </a:r>
            <a:r>
              <a:rPr b="0" lang="en-CA" sz="3300" spc="-1" strike="noStrike">
                <a:solidFill>
                  <a:srgbClr val="336666"/>
                </a:solidFill>
                <a:latin typeface="Arial Black"/>
              </a:rPr>
              <a:t>CHALLENGE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000000"/>
                </a:solidFill>
                <a:latin typeface="Arial"/>
              </a:rPr>
              <a:t>Inadequate staff at field level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000000"/>
                </a:solidFill>
                <a:latin typeface="Arial"/>
              </a:rPr>
              <a:t>Erratic rainfall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000000"/>
                </a:solidFill>
                <a:latin typeface="Arial"/>
              </a:rPr>
              <a:t>Dwindling soil fertility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000000"/>
                </a:solidFill>
                <a:latin typeface="Arial"/>
              </a:rPr>
              <a:t>Inadequate financial resources to implement field activitie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300" spc="-1" strike="noStrike">
                <a:solidFill>
                  <a:srgbClr val="336666"/>
                </a:solidFill>
                <a:latin typeface="Arial Black"/>
              </a:rPr>
              <a:t>WAY FORWARD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000000"/>
                </a:solidFill>
                <a:latin typeface="Arial"/>
              </a:rPr>
              <a:t>Use of lead farmer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000000"/>
                </a:solidFill>
                <a:latin typeface="Arial"/>
              </a:rPr>
              <a:t>Use of drought tolerant intervention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000000"/>
                </a:solidFill>
                <a:latin typeface="Arial"/>
              </a:rPr>
              <a:t>Use of cropping systems that help to increase soil fertility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000000"/>
                </a:solidFill>
                <a:latin typeface="Arial"/>
              </a:rPr>
              <a:t>Encourage harmonization of programmes and resources to best implement  agric. Activitie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000000"/>
                </a:solidFill>
                <a:latin typeface="Arial"/>
              </a:rPr>
              <a:t>ZIKOM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 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Staffing Position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57200" y="1905120"/>
          <a:ext cx="7620120" cy="1993680"/>
        </p:xfrm>
        <a:graphic>
          <a:graphicData uri="http://schemas.openxmlformats.org/drawingml/2006/table">
            <a:tbl>
              <a:tblPr/>
              <a:tblGrid>
                <a:gridCol w="1447920"/>
                <a:gridCol w="1295280"/>
                <a:gridCol w="1636560"/>
                <a:gridCol w="1621080"/>
                <a:gridCol w="1619280"/>
              </a:tblGrid>
              <a:tr h="429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RI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L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VAC. 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TCHE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D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9" name="Object 27"/>
          <p:cNvGraphicFramePr/>
          <p:nvPr/>
        </p:nvGraphicFramePr>
        <p:xfrm>
          <a:off x="3352680" y="7162920"/>
          <a:ext cx="5186520" cy="75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0" name="Object 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7162920"/>
                    <a:ext cx="5186520" cy="7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336666"/>
                </a:solidFill>
                <a:latin typeface="Arial Black"/>
              </a:rPr>
              <a:t>RAINFALL VARIABILITY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nfall pattern is erratic in some parts of the distri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average, the mean rainfall for the districts in 2011/12 w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3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m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ainy days compared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8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m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ainy days last year same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rly planted crops (mainly maize and legumes), face great damage and full recovery is almost im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300" spc="-1" strike="noStrike">
                <a:solidFill>
                  <a:srgbClr val="336666"/>
                </a:solidFill>
                <a:latin typeface="Arial Black"/>
              </a:rPr>
              <a:t>Rainfall cont’d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04" name="Content Placeholder 5" descr=""/>
          <p:cNvPicPr/>
          <p:nvPr/>
        </p:nvPicPr>
        <p:blipFill>
          <a:blip r:embed="rId1"/>
          <a:stretch/>
        </p:blipFill>
        <p:spPr>
          <a:xfrm>
            <a:off x="755640" y="1901880"/>
            <a:ext cx="7711920" cy="405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Effects of Weather (rainfall) on Crop, Livestock   &amp; Fish Development 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or crop germination and emergence causing continued replanting/gap fill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or crop/pasture establishment and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or fertilizer utilization and very difficult to achieve timely fertilizer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big differences in crop stages within or among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difficult to achieve timely planting/transplanting and herbicides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rying up of p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Food Situation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cccc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ly, the food situation for the districts is at around 9% (farm families without own food) compared to almost 1% same time last year (fig. 2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cccc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ood is available in most marke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Food Situation con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10" name="Content Placeholder 5" descr=""/>
          <p:cNvPicPr/>
          <p:nvPr/>
        </p:nvPicPr>
        <p:blipFill>
          <a:blip r:embed="rId1"/>
          <a:stretch/>
        </p:blipFill>
        <p:spPr>
          <a:xfrm>
            <a:off x="755640" y="1901880"/>
            <a:ext cx="7711920" cy="405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36666"/>
                </a:solidFill>
                <a:latin typeface="Arial Black"/>
              </a:rPr>
              <a:t>Coping Mechanisms</a:t>
            </a:r>
            <a:br>
              <a:rPr sz="2900"/>
            </a:b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 insecure households are surviving through the following mea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ing casual labour in exchange for food or ca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ling charcoal and firew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es of other commodities like mats, vegetable and fru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hange pots and baskets with ma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Production figure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762120" y="167616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ize production has decreased by 12% from 175,000MT in 2010/11 season to 153,000MT in 2011/12 season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ry spells,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w soil fertility as a result of low input uptake.( FISP+ other soil fertility interventions to sustain soil productivity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5T11:02:08Z</dcterms:created>
  <dc:creator>Malon</dc:creator>
  <dc:description/>
  <dc:language>en-US</dc:language>
  <cp:lastModifiedBy>Admin</cp:lastModifiedBy>
  <dcterms:modified xsi:type="dcterms:W3CDTF">2012-10-02T16:40:55Z</dcterms:modified>
  <cp:revision>147</cp:revision>
  <dc:subject/>
  <dc:title>NTCHEU DISTRICT     AGRICULTURE DEVELOPMENT OFFICE</dc:title>
</cp:coreProperties>
</file>