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4ED7-224B-4249-8CFB-3082CA6B3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F9B-56DC-4828-8C2D-FE263D359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E555-3F47-4096-8823-0F6CC808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5A4D-36B7-483D-8ACC-E6127DB2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EAF1-D2D6-44DE-BE46-BD7991BDC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63AC-6CF9-4C62-90A4-82C7FF772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EAA7-5D31-424B-929E-D713AB6E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CE48-61DF-4C75-A11E-E5996B10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665C-C907-4D8E-8687-B0FC2299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D117-F8F5-4585-B126-AF0C3DC0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D352-638E-4D8C-8947-22240EF2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3F0A-9F59-4C07-8FFE-17AE9414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D531D-139A-43D6-B847-AAC87FAC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9ABE-B90D-4138-A0DC-489D270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E867-1854-4D0C-A3BA-42A5B6C3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8959-CB3E-4340-9332-C752D8F2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C63A-C229-4C01-AEF0-EDA6D51F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8DBF-F90E-4D60-B2A1-0C8535DF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CF37-248A-41BA-A81E-D52A8787F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2769-27FD-48A1-8215-A9682151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2B4-DFCE-4DF5-B218-359AC381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7E10-6D6C-4DE1-BBC3-763F749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BDE5-6F6C-4DD4-BEDB-48D90C64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186-8059-4339-9817-3143098F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1A01-9B36-4DEA-8874-E3F43C7B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F2A6-BE28-4718-9843-E5D912B0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186B3-D09D-4DBF-A008-878DE3AD0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E03-040E-415A-A06C-6A1925B45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336666"/>
                </a:solidFill>
                <a:latin typeface="Arial Black"/>
              </a:rPr>
              <a:t>DISTRICT     AGRICULTURE DEVELOPMENT OFFICES IN MALAWI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120" y="3580920"/>
            <a:ext cx="54104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300" spc="-1" strike="noStrike">
                <a:solidFill>
                  <a:srgbClr val="000000"/>
                </a:solidFill>
                <a:latin typeface="Arial"/>
              </a:rPr>
              <a:t>CHALLENGES IN INTENSIFICATION OF AGRICULTURAL ACTIVITI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CHALLEN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staff at field leve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rratic rainfall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Dwindling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Inadequate financial resources to implement field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WAY FORWAR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lead farmer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drought tolerant intervention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Use of cropping systems that help to increase soil fertility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Encourage harmonization of programmes and resources to best implement  agric. Activities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100" spc="-1" strike="noStrike">
                <a:solidFill>
                  <a:srgbClr val="000000"/>
                </a:solidFill>
                <a:latin typeface="Arial"/>
              </a:rPr>
              <a:t>ZIKOM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Staffing Posit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905120"/>
          <a:ext cx="7620120" cy="1993680"/>
        </p:xfrm>
        <a:graphic>
          <a:graphicData uri="http://schemas.openxmlformats.org/drawingml/2006/table">
            <a:tbl>
              <a:tblPr/>
              <a:tblGrid>
                <a:gridCol w="1447920"/>
                <a:gridCol w="1295280"/>
                <a:gridCol w="1636560"/>
                <a:gridCol w="1621080"/>
                <a:gridCol w="1619280"/>
              </a:tblGrid>
              <a:tr h="429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AC.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Object 27"/>
          <p:cNvGraphicFramePr/>
          <p:nvPr/>
        </p:nvGraphicFramePr>
        <p:xfrm>
          <a:off x="3352680" y="7162920"/>
          <a:ext cx="5186520" cy="7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7162920"/>
                    <a:ext cx="5186520" cy="7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336666"/>
                </a:solidFill>
                <a:latin typeface="Arial Black"/>
              </a:rPr>
              <a:t>RAINFALL VARIABILITY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fall pattern is erratic in some parts of the distri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the mean rainfall for the districts in 2011/12 w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compared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8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m 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ny days last year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rly planted crops (mainly maize and legumes), face great damage and full recovery is almost im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300" spc="-1" strike="noStrike">
                <a:solidFill>
                  <a:srgbClr val="336666"/>
                </a:solidFill>
                <a:latin typeface="Arial Black"/>
              </a:rPr>
              <a:t>Rainfall cont’d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4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Effects of Weather (rainfall) on Crop, Livestock   &amp; Fish Development 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 germination and emergence causing continued replanting/gap fill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crop/pasture establishment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fertilizer utilization and very difficult to achieve timely fertilizer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ig differences in crop stages within or among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icult to achieve timely planting/transplanting and herbicides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rying up of p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6960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, the food situation for the districts is at around 9% (farm families without own food) compared to almost 1% same time last year (fig. 2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od is available in most mark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Food Situation con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10" name="Content Placeholder 5" descr=""/>
          <p:cNvPicPr/>
          <p:nvPr/>
        </p:nvPicPr>
        <p:blipFill>
          <a:blip r:embed="rId1"/>
          <a:stretch/>
        </p:blipFill>
        <p:spPr>
          <a:xfrm>
            <a:off x="755640" y="1901880"/>
            <a:ext cx="7711920" cy="405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36666"/>
                </a:solidFill>
                <a:latin typeface="Arial Black"/>
              </a:rPr>
              <a:t>Coping Mechanisms</a:t>
            </a:r>
            <a:br>
              <a:rPr sz="2900"/>
            </a:b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 insecure households are surviving through the following mea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ing casual labour in exchange for food or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ling charcoal and firew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of other commodities like mats, vegetable and fr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pots and baskets with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Production figur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62120" y="16761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Maize production has decreased by 12% from 175,000MT in 2010/11 season to 153,000MT in 2011/12 season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dry spells,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w soil fertility as a result of low input uptake.( FISP+ other soil fertility interventions to sustain soil productivity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11:02:08Z</dcterms:created>
  <dc:creator>Malon</dc:creator>
  <dc:description/>
  <dc:language>en-US</dc:language>
  <cp:lastModifiedBy>Admin</cp:lastModifiedBy>
  <dcterms:modified xsi:type="dcterms:W3CDTF">2012-10-02T16:40:55Z</dcterms:modified>
  <cp:revision>147</cp:revision>
  <dc:subject/>
  <dc:title>NTCHEU DISTRICT     AGRICULTURE DEVELOPMENT OFFICE</dc:title>
</cp:coreProperties>
</file>