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07D1-DBA5-44E4-A6F0-272643B3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8EED-394A-45BF-8334-1EFD9E60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65BF9-E4A6-485A-8C51-3014BB3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09032-3C7D-4B97-9AF9-32725501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D280D-70E0-494C-A812-1B0AC351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EB0B0-D6D7-474A-9DA8-8427621A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0108-51A4-4071-8C45-E0AA7929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CF03D-6721-47F6-AAB6-27F3DEB1F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1EDCA-2457-45BB-AB29-CAD2534C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A4B0-65F3-44DC-835C-015E12E3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AC02A-4FF8-43D5-B399-9FB2C3AB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AFB4C-9F3F-4786-8678-F3DF846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E12E0-DA2E-4C9A-A04E-3BB6BD74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0578-6564-4DEC-8224-E9ABB9B5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F8AEC-ACA9-4565-A4C4-88E32FD9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A4CFDC-E440-4D74-8FD6-BE035EC8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34F54-8BF1-4176-824C-DF80604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E9B01-5828-42E4-BE54-83E43D909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75AC5-9AF8-43D4-AE27-C00B1884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B7782-C32A-487C-BAE9-53654FAB5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0686-65FA-4204-85A6-0C186234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2205-36F3-48B8-A86F-9E54D28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2C11-B338-44FB-B88A-B94F2A58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A38B-EBB8-447C-9DFB-B559961F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0EED-2985-4390-A6EE-C7225273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8112-83CF-4F67-89FB-DE6E7101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9461-03FD-4580-8BC0-4BC7CC66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A482-6CBC-4927-9FA3-EC0087F3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E6E7-5FCD-4365-8871-5D3A3DC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A3B2-AE16-4438-B83C-A6347E51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2CC-D4AF-4977-93B9-420F497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4D9A-9096-4DC0-A685-29EA7E7C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086D-39D3-43CD-9B7A-AE161580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6BE6-5B49-4ACD-9360-919025EC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CD06-2C45-48EF-8284-B86B14A4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C5F17-849D-4A7D-B8A1-6C913EA7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F588-B228-4DB7-97C8-C652DF917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B943-5380-4690-95CA-55C3AE1F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0EAC-A5C9-4D53-986D-7882C9C0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B2EF-0082-4A88-93B8-9F3026E5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3542-16F8-4C04-BA87-FEEBEA87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1871-78EA-4537-9220-0C261A39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F36F-C5F2-41BB-8640-3795C739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E820-F8F3-4737-BE6B-41DFF9E1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9C79-B24F-462B-A9E0-2955A626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D6AA7-B99D-4E24-9550-FAE44EA2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A8C7-C487-47C0-99D6-7CE73951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1120A-B6A4-4720-AD4A-2495CA6F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124D-C9C2-4B5F-B243-D5B691195AF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85CF-63B9-40E2-AD26-7D6ACDDB329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0818-D740-4F1D-A94C-D6B32A1EA2E0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27BA-ED6F-4DF9-909C-70C27A38EE5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-14400" y="1944720"/>
            <a:ext cx="9105840" cy="19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ralling, planting density and N fertilizer rate effect on soil, weed and maize yie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tent Placeholder 2"/>
          <p:cNvSpPr/>
          <p:nvPr/>
        </p:nvSpPr>
        <p:spPr>
          <a:xfrm>
            <a:off x="54000" y="4653000"/>
            <a:ext cx="909000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, Larbi Asamo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poku Andrews, Francis Marthy Tetteh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oeschle-Zeledon Irmg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3E0C-92F8-484E-B3B7-B205ADF1BD7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9F57-487D-47D9-842F-C26CF45D71CC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-12600" y="-7452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1"/>
          <p:cNvSpPr/>
          <p:nvPr/>
        </p:nvSpPr>
        <p:spPr>
          <a:xfrm>
            <a:off x="6924600" y="-111240"/>
            <a:ext cx="2237040" cy="640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5CCD-6C60-4A4F-981C-F6E0CDD6557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itle 1"/>
          <p:cNvSpPr/>
          <p:nvPr/>
        </p:nvSpPr>
        <p:spPr>
          <a:xfrm>
            <a:off x="12600" y="24120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properties as affected by SDSG in northern Ghana, 2014 and 2015 cropping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645400" y="32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509B-01A0-4E4B-992E-BF3ADEF61AF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2600" y="1125360"/>
          <a:ext cx="9097920" cy="5480280"/>
        </p:xfrm>
        <a:graphic>
          <a:graphicData uri="http://schemas.openxmlformats.org/drawingml/2006/table">
            <a:tbl>
              <a:tblPr/>
              <a:tblGrid>
                <a:gridCol w="3097440"/>
                <a:gridCol w="596880"/>
                <a:gridCol w="720720"/>
                <a:gridCol w="720720"/>
                <a:gridCol w="644400"/>
                <a:gridCol w="809640"/>
                <a:gridCol w="1433520"/>
                <a:gridCol w="1074600"/>
              </a:tblGrid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8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99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8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4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angeable K (cmol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carbo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376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bial biomass nitroge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3E60-2404-4D08-947E-D88232286B2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318E-DE60-4F94-836E-375BDC6BB909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FEB2F-872C-470F-A751-3AB2C519F4B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2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itle 1"/>
          <p:cNvSpPr/>
          <p:nvPr/>
        </p:nvSpPr>
        <p:spPr>
          <a:xfrm>
            <a:off x="57240" y="1496880"/>
            <a:ext cx="518940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1"/>
          <p:cNvSpPr/>
          <p:nvPr/>
        </p:nvSpPr>
        <p:spPr>
          <a:xfrm>
            <a:off x="22320" y="234936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E8BB-0721-4C21-9833-2256C5303A9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31E-7886-4963-9160-67C91BD556D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51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1"/>
          <p:cNvSpPr/>
          <p:nvPr/>
        </p:nvSpPr>
        <p:spPr>
          <a:xfrm>
            <a:off x="127080" y="1936800"/>
            <a:ext cx="89294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8041-3363-4B59-B47E-7F92C7E996B6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6CC4-A9F5-4DE3-92EE-245E8331F7A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3B0B-CD14-4155-BB49-1D5B51B0FA0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49FB-305E-4536-AD71-5DF9F3679CB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Content Placeholder 2"/>
          <p:cNvSpPr/>
          <p:nvPr/>
        </p:nvSpPr>
        <p:spPr>
          <a:xfrm>
            <a:off x="46080" y="765000"/>
            <a:ext cx="913140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proper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9439-BE94-49D9-ACA6-CB3F1A81E353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3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8E9-728E-4DCD-ADCF-341196EA280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7F255-8AF7-4B59-B346-B5F3A72ADF1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8AEC-C639-4648-9D66-ADCA8C93CFD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, Jonathan (IITA)</cp:lastModifiedBy>
  <cp:lastPrinted>2015-09-01T11:16:39Z</cp:lastPrinted>
  <dcterms:modified xsi:type="dcterms:W3CDTF">2016-12-14T07:39:46Z</dcterms:modified>
  <cp:revision>979</cp:revision>
  <dc:subject/>
  <dc:title>Diapositiva 1</dc:title>
</cp:coreProperties>
</file>