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6.jpeg" ContentType="image/jpeg"/>
  <Override PartName="/ppt/media/image15.wmf" ContentType="image/x-wmf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DEF64-558F-4E1B-9E47-BD3F40D475A4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4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9ED31-CB8D-42CE-8734-9088A9FF8869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09379-D06B-41DD-BA6F-6F6DD3B36BBA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63F34-234F-4EEB-A425-B2909054E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640F4-E83C-4B85-9AC8-54A43F948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DFE2-EF26-4A46-8846-A6847DEA4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8AA46-4CF9-4A95-A69F-7CBEA94F97DA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DDE30-48B1-4AC0-9313-8AD774790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2819D-5482-43A6-8EC9-9B68B34CC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F1899-09FB-4CBB-ADD3-A852D92D5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D2A96-467F-41A6-9B48-43AC13BC5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13792-6C46-4370-A83C-3DDE081BC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0BD6C-0012-4749-A9CA-95FFEA366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4AC02-69AD-46CD-B5BC-308CC8D76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C1E58-15FE-4868-99A9-B1A83A9ED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AEC8C-01C4-4A51-826E-6814B46AA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D1EAC-B34C-4747-8AC9-C341D6312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1C8D4-D7B4-4A79-92BD-A59872FC8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C81FE-65E2-4123-BEBA-9D5C24EFC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57B06-4994-42CA-8696-473DD7298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83158-6A99-451A-8CA0-91AFBE13A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B7C21-9312-48A6-A415-89669E495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48A7F-F0B4-47BC-9F55-2AC341132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FBF13-4048-463D-9E36-36C195EEA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AFE46-CBBE-45E0-93C5-B934A0B7A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7F80F-B5C1-4384-83DA-55FBD562B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3C148-FF61-4155-BCFE-6D6883004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E5D05-D8DA-4BC9-B28C-7ECED52E2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45CF2-136A-4196-B641-D3AFBF5285C5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AB442-D881-4F26-871A-3E6E472A7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01D67-D9E4-4D13-9844-1DFE2001C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B4143-BB1C-44A4-AEB0-92F7B8EF4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1B6B4-0EE3-4F3D-B931-5716ABA2A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672720"/>
            <a:ext cx="838224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99036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99036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67272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67272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67272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8224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0" y="45720"/>
            <a:ext cx="91440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8224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04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3672720"/>
            <a:ext cx="838224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880" y="3672720"/>
            <a:ext cx="838224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04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5160" y="99036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49440" y="99036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880" y="367272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5160" y="367272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49440" y="367272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8224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0" y="45720"/>
            <a:ext cx="91440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04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80880" y="3672720"/>
            <a:ext cx="838224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80880" y="3672720"/>
            <a:ext cx="838224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8088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04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15160" y="99036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49440" y="99036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80880" y="367272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15160" y="367272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49440" y="367272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45720"/>
            <a:ext cx="91440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672720"/>
            <a:ext cx="838224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45720"/>
            <a:ext cx="9144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8224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209680" y="6244920"/>
            <a:ext cx="5029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earch Days 2010, 29 Nov-2 Dec 2010, Cotonou, Ben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9" descr="www"/>
          <p:cNvPicPr/>
          <p:nvPr/>
        </p:nvPicPr>
        <p:blipFill>
          <a:blip r:embed="rId2"/>
          <a:stretch/>
        </p:blipFill>
        <p:spPr>
          <a:xfrm>
            <a:off x="7467480" y="6477120"/>
            <a:ext cx="1676520" cy="2142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0" descr="africarice-logo-with-circle-tiff-format-by Raman"/>
          <p:cNvPicPr/>
          <p:nvPr/>
        </p:nvPicPr>
        <p:blipFill>
          <a:blip r:embed="rId3"/>
          <a:stretch/>
        </p:blipFill>
        <p:spPr>
          <a:xfrm>
            <a:off x="0" y="6222960"/>
            <a:ext cx="2043000" cy="63504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1" descr="www"/>
          <p:cNvPicPr/>
          <p:nvPr/>
        </p:nvPicPr>
        <p:blipFill>
          <a:blip r:embed="rId4"/>
          <a:stretch/>
        </p:blipFill>
        <p:spPr>
          <a:xfrm>
            <a:off x="7467480" y="6477120"/>
            <a:ext cx="1676520" cy="2142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2" descr="africarice-logo-with-circle-tiff-format-by Raman"/>
          <p:cNvPicPr/>
          <p:nvPr/>
        </p:nvPicPr>
        <p:blipFill>
          <a:blip r:embed="rId5"/>
          <a:stretch/>
        </p:blipFill>
        <p:spPr>
          <a:xfrm>
            <a:off x="0" y="6222960"/>
            <a:ext cx="204300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9" descr="www"/>
          <p:cNvPicPr/>
          <p:nvPr/>
        </p:nvPicPr>
        <p:blipFill>
          <a:blip r:embed="rId2"/>
          <a:stretch/>
        </p:blipFill>
        <p:spPr>
          <a:xfrm>
            <a:off x="7467480" y="6477120"/>
            <a:ext cx="1676520" cy="214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africarice-logo-with-circle-tiff-format-by Raman"/>
          <p:cNvPicPr/>
          <p:nvPr/>
        </p:nvPicPr>
        <p:blipFill>
          <a:blip r:embed="rId3"/>
          <a:stretch/>
        </p:blipFill>
        <p:spPr>
          <a:xfrm>
            <a:off x="0" y="6222960"/>
            <a:ext cx="20430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www"/>
          <p:cNvPicPr/>
          <p:nvPr/>
        </p:nvPicPr>
        <p:blipFill>
          <a:blip r:embed="rId4"/>
          <a:stretch/>
        </p:blipFill>
        <p:spPr>
          <a:xfrm>
            <a:off x="7467480" y="6477120"/>
            <a:ext cx="1676520" cy="214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2" descr="africarice-logo-with-circle-tiff-format-by Raman"/>
          <p:cNvPicPr/>
          <p:nvPr/>
        </p:nvPicPr>
        <p:blipFill>
          <a:blip r:embed="rId5"/>
          <a:stretch/>
        </p:blipFill>
        <p:spPr>
          <a:xfrm>
            <a:off x="0" y="6222960"/>
            <a:ext cx="2043000" cy="6350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45720"/>
            <a:ext cx="9144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8224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2"/>
          </p:nvPr>
        </p:nvSpPr>
        <p:spPr>
          <a:xfrm>
            <a:off x="2209680" y="6244920"/>
            <a:ext cx="5029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11 AfricaRice Science Week and GRiSP-Africa Science For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2-16 September 2011, Cotonou, Ben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9" descr="www"/>
          <p:cNvPicPr/>
          <p:nvPr/>
        </p:nvPicPr>
        <p:blipFill>
          <a:blip r:embed="rId2"/>
          <a:stretch/>
        </p:blipFill>
        <p:spPr>
          <a:xfrm>
            <a:off x="7467480" y="6477120"/>
            <a:ext cx="1676520" cy="214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africarice-logo-with-circle-tiff-format-by Raman"/>
          <p:cNvPicPr/>
          <p:nvPr/>
        </p:nvPicPr>
        <p:blipFill>
          <a:blip r:embed="rId3"/>
          <a:stretch/>
        </p:blipFill>
        <p:spPr>
          <a:xfrm>
            <a:off x="0" y="6222960"/>
            <a:ext cx="2043000" cy="635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www"/>
          <p:cNvPicPr/>
          <p:nvPr/>
        </p:nvPicPr>
        <p:blipFill>
          <a:blip r:embed="rId4"/>
          <a:stretch/>
        </p:blipFill>
        <p:spPr>
          <a:xfrm>
            <a:off x="7467480" y="6477120"/>
            <a:ext cx="1676520" cy="214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africarice-logo-with-circle-tiff-format-by Raman"/>
          <p:cNvPicPr/>
          <p:nvPr/>
        </p:nvPicPr>
        <p:blipFill>
          <a:blip r:embed="rId5"/>
          <a:stretch/>
        </p:blipFill>
        <p:spPr>
          <a:xfrm>
            <a:off x="0" y="6222960"/>
            <a:ext cx="2043000" cy="6350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45720"/>
            <a:ext cx="9144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8224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3"/>
          </p:nvPr>
        </p:nvSpPr>
        <p:spPr>
          <a:xfrm>
            <a:off x="2209680" y="6244920"/>
            <a:ext cx="5029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3"/>
          <p:cNvSpPr/>
          <p:nvPr/>
        </p:nvSpPr>
        <p:spPr>
          <a:xfrm>
            <a:off x="0" y="23760"/>
            <a:ext cx="9144000" cy="67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Sustainable Intensification &amp; Diversification of Rice-based Inland Valley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ul Kie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gional Representative for East and Southern 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frica Rice Center (AfricaR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stainable Intensification of Cereal-based Farm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-9 February 2012, Dar es Salaam, Tanza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C:\Users\PKiepe\Pictures\Presentations\inland valley 3.jpg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3279600"/>
          </a:xfrm>
          <a:prstGeom prst="rect">
            <a:avLst/>
          </a:prstGeom>
          <a:ln w="0">
            <a:noFill/>
          </a:ln>
        </p:spPr>
      </p:pic>
      <p:sp>
        <p:nvSpPr>
          <p:cNvPr id="138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Rain-fed Lowl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IMG_0241"/>
          <p:cNvPicPr/>
          <p:nvPr/>
        </p:nvPicPr>
        <p:blipFill>
          <a:blip r:embed="rId1"/>
          <a:stretch/>
        </p:blipFill>
        <p:spPr>
          <a:xfrm>
            <a:off x="782640" y="914400"/>
            <a:ext cx="752328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  <a:ea typeface="Times New Roman"/>
              </a:rPr>
              <a:t>Yield Potential of Rice Ecologies</a:t>
            </a:r>
            <a:r>
              <a:rPr b="0" lang="en-GB" sz="3600" spc="-1" strike="noStrike">
                <a:solidFill>
                  <a:srgbClr val="008000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876240" y="1447920"/>
          <a:ext cx="7391520" cy="4267080"/>
        </p:xfrm>
        <a:graphic>
          <a:graphicData uri="http://schemas.openxmlformats.org/drawingml/2006/table">
            <a:tbl>
              <a:tblPr/>
              <a:tblGrid>
                <a:gridCol w="3730680"/>
                <a:gridCol w="1527120"/>
                <a:gridCol w="2133720"/>
              </a:tblGrid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ice Ecolog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u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ain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grove swam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 - 6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ep water / floa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 - 3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rigated syste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 - 8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nfed lowlan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 - 7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nfed uplan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 - 4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" descr=""/>
          <p:cNvPicPr/>
          <p:nvPr/>
        </p:nvPicPr>
        <p:blipFill>
          <a:blip r:embed="rId1"/>
          <a:stretch/>
        </p:blipFill>
        <p:spPr>
          <a:xfrm>
            <a:off x="760320" y="803160"/>
            <a:ext cx="3570480" cy="25416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1" descr="image15"/>
          <p:cNvPicPr/>
          <p:nvPr/>
        </p:nvPicPr>
        <p:blipFill>
          <a:blip r:embed="rId2"/>
          <a:stretch/>
        </p:blipFill>
        <p:spPr>
          <a:xfrm>
            <a:off x="716040" y="3586320"/>
            <a:ext cx="3657600" cy="2590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3" descr="irrigation field 3"/>
          <p:cNvPicPr/>
          <p:nvPr/>
        </p:nvPicPr>
        <p:blipFill>
          <a:blip r:embed="rId3"/>
          <a:stretch/>
        </p:blipFill>
        <p:spPr>
          <a:xfrm>
            <a:off x="4724280" y="3543480"/>
            <a:ext cx="3657600" cy="26208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45720"/>
            <a:ext cx="9144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Mega Environ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760320" y="28828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in-fed Up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724280" y="5715000"/>
            <a:ext cx="326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rrigat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" descr=""/>
          <p:cNvPicPr/>
          <p:nvPr/>
        </p:nvPicPr>
        <p:blipFill>
          <a:blip r:embed="rId4"/>
          <a:stretch/>
        </p:blipFill>
        <p:spPr>
          <a:xfrm>
            <a:off x="4724280" y="803160"/>
            <a:ext cx="3657600" cy="25434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10"/>
          <p:cNvSpPr/>
          <p:nvPr/>
        </p:nvSpPr>
        <p:spPr>
          <a:xfrm>
            <a:off x="4711680" y="28828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lan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716040" y="57150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in-fed Low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108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Not All Lowlands Are Suit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685800" y="137160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gile wetlands should be saved and not developed for agri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tional uses like cultural ceremonies should continu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biodiversity can be utilized but not destroy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vironmental services need to be taken into ac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5" descr="TG0610 no go area"/>
          <p:cNvPicPr/>
          <p:nvPr/>
        </p:nvPicPr>
        <p:blipFill>
          <a:blip r:embed="rId1"/>
          <a:stretch/>
        </p:blipFill>
        <p:spPr>
          <a:xfrm>
            <a:off x="1447920" y="1295280"/>
            <a:ext cx="6248160" cy="46864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23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Cultural Ceremonies Should Contin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traight Connector 7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  <a:ea typeface="Arial"/>
              </a:rPr>
              <a:t>Presentation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457200" y="1219320"/>
            <a:ext cx="8686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1. Rice Production in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2. Importance of Lowlands for Crop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. Production Constraint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4. Production Opportunitie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5.</a:t>
            </a:r>
            <a:r>
              <a:rPr b="1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Importance of Lowlands for Tanz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6.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23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Land Tenure Confli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467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vs traditional ow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 owner vs ten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ve vs immigr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stream vs downstr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Effect of Climate Anomal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frica crop failure due to drought occurs already once every 5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ence and severity of drought expected to worsen with climate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n-fed ecologies are most vulne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rigated lowlands face increased water compet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92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Low Labour Produ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83059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ual labour lead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ltivating small pl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 planting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ate harves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w y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d leveling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neven maturit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harvest and post-harvest lo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ud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  <a:ea typeface="Arial"/>
              </a:rPr>
              <a:t>Presentation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457200" y="1219320"/>
            <a:ext cx="8686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1. Rice Production in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2. Importance of Lowlands for Crop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3. Production Constraint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. Production Opportunitie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5.</a:t>
            </a:r>
            <a:r>
              <a:rPr b="1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Relevance of Proposal for Tanz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6.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  <a:ea typeface="Arial"/>
              </a:rPr>
              <a:t>Presentation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457200" y="1219320"/>
            <a:ext cx="8686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. Rice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. Importance of Lowlands for Crop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. Production Constraint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. Production Opportunitie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levance of Proposal for Tanz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6.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Land Tenure Conflic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-Stakeholder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all stakeh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 users (gender!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 ow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cy ma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otiate long-term lease of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for inves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4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108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Improved Water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600" y="13716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d water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conser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nded pad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our b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harv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rvo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-catch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Water Produ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3962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water produ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low water-us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ize water productivity of shared water bo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125-2585_IMG"/>
          <p:cNvPicPr/>
          <p:nvPr/>
        </p:nvPicPr>
        <p:blipFill>
          <a:blip r:embed="rId1"/>
          <a:stretch/>
        </p:blipFill>
        <p:spPr>
          <a:xfrm>
            <a:off x="5029200" y="2743200"/>
            <a:ext cx="3770280" cy="3124080"/>
          </a:xfrm>
          <a:prstGeom prst="rect">
            <a:avLst/>
          </a:prstGeom>
          <a:ln w="0">
            <a:noFill/>
          </a:ln>
        </p:spPr>
      </p:pic>
      <p:sp>
        <p:nvSpPr>
          <p:cNvPr id="206" name="Straight Connector 4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Small-Scale Mech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6960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 preparation (one power tiller plows the equivalent of 90 able m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s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field to f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farm to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3" descr=""/>
          <p:cNvPicPr/>
          <p:nvPr/>
        </p:nvPicPr>
        <p:blipFill>
          <a:blip r:embed="rId1"/>
          <a:stretch/>
        </p:blipFill>
        <p:spPr>
          <a:xfrm>
            <a:off x="4572000" y="2654280"/>
            <a:ext cx="4411800" cy="3308400"/>
          </a:xfrm>
          <a:prstGeom prst="rect">
            <a:avLst/>
          </a:prstGeom>
          <a:ln w="0">
            <a:noFill/>
          </a:ln>
        </p:spPr>
      </p:pic>
      <p:sp>
        <p:nvSpPr>
          <p:cNvPr id="210" name="Straight Connector 4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  <a:ea typeface="Arial"/>
              </a:rPr>
              <a:t>Presentation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457200" y="1219320"/>
            <a:ext cx="8686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1. Rice Production in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2. Importance of Lowlands for Crop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3. Production Constraint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4. Production Opportunitie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levance of Proposal for Tanz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6.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108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Importance for Tanz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e is the second most important crop in Tanz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5% of rice is produced in rain-fed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ivity of rice is generally 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ing vegetables will decrease undernourish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getables will increase farm in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  <a:ea typeface="Arial"/>
              </a:rPr>
              <a:t>Purpose of Propos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457200" y="1219320"/>
            <a:ext cx="8153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99960" algn="just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nhance the productivity and competitiveness of inland valley lowlands through sustainable intensification and diversification of agricultural productivity and product value chain development while conserving land and water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Work In Rice Development Hub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396252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ce sector employs 20 million farm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of them w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tains livelihood of 100M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"/>
          <p:cNvPicPr/>
          <p:nvPr/>
        </p:nvPicPr>
        <p:blipFill>
          <a:blip r:embed="rId1"/>
          <a:stretch/>
        </p:blipFill>
        <p:spPr>
          <a:xfrm>
            <a:off x="4800600" y="3513240"/>
            <a:ext cx="3505320" cy="26524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"/>
          <p:cNvPicPr/>
          <p:nvPr/>
        </p:nvPicPr>
        <p:blipFill>
          <a:blip r:embed="rId2"/>
          <a:stretch/>
        </p:blipFill>
        <p:spPr>
          <a:xfrm>
            <a:off x="4800600" y="914400"/>
            <a:ext cx="3505320" cy="234324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6"/>
          <p:cNvSpPr/>
          <p:nvPr/>
        </p:nvSpPr>
        <p:spPr>
          <a:xfrm>
            <a:off x="3048480" y="54100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produc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5106960" y="548640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ra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8"/>
          <p:cNvSpPr/>
          <p:nvPr/>
        </p:nvSpPr>
        <p:spPr>
          <a:xfrm>
            <a:off x="5031720" y="266688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9" descr=""/>
          <p:cNvPicPr/>
          <p:nvPr/>
        </p:nvPicPr>
        <p:blipFill>
          <a:blip r:embed="rId3"/>
          <a:stretch/>
        </p:blipFill>
        <p:spPr>
          <a:xfrm>
            <a:off x="896760" y="3510000"/>
            <a:ext cx="3581640" cy="264960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10"/>
          <p:cNvSpPr/>
          <p:nvPr/>
        </p:nvSpPr>
        <p:spPr>
          <a:xfrm>
            <a:off x="2746080" y="548640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traight Connector 10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  <a:ea typeface="Arial"/>
              </a:rPr>
              <a:t>Four Main Pill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457200" y="1219320"/>
            <a:ext cx="8153280" cy="27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57160" indent="-4572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ulti-Stakeholder Plat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nvironmental Systems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tensification &amp; Divers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ork in Rice Development Hu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  <a:ea typeface="Arial"/>
              </a:rPr>
              <a:t>Produ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457200" y="1219320"/>
            <a:ext cx="868680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ibrant inland valley communities that resolve constraints and confli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patial model applicable at national scale to determine agricultural potential and ecosystem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novations that enhance productivity and resource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ccessful adaption by private sector and development part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  <a:ea typeface="Arial"/>
              </a:rPr>
              <a:t>Presentation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457200" y="1219320"/>
            <a:ext cx="8686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. Rice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2. Importance of Lowlands for Crop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3. Production Constraint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4. Production Opportunitie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5.</a:t>
            </a:r>
            <a:r>
              <a:rPr b="1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Relevance of Proposal for Tanz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6.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  <a:ea typeface="Arial"/>
              </a:rPr>
              <a:t>Presentation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457200" y="1219320"/>
            <a:ext cx="8686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1. Rice Production in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2. Importance of Lowlands for Crop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3. Production Constraint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4. Production Opportunitie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5.</a:t>
            </a:r>
            <a:r>
              <a:rPr b="1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Relevance of Proposal for Tanz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6.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826920" y="1371600"/>
            <a:ext cx="801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nzania has to step up rice production because the world market runs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n-fed lowlands can largely supply enough rice for Tanzania and bey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fficient lowland area will remain intact for traditional and environmental 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ization of sound water management can make rain-fed lowlands climate pro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"/>
          <p:cNvSpPr/>
          <p:nvPr/>
        </p:nvSpPr>
        <p:spPr>
          <a:xfrm>
            <a:off x="533520" y="0"/>
            <a:ext cx="8153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traight Connector 6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3"/>
          <p:cNvSpPr/>
          <p:nvPr/>
        </p:nvSpPr>
        <p:spPr>
          <a:xfrm>
            <a:off x="3505320" y="420516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kton Pro"/>
              </a:rPr>
              <a:t>Center of Excellence for Rice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709560" y="685800"/>
            <a:ext cx="7745400" cy="539604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6"/>
          <p:cNvSpPr/>
          <p:nvPr/>
        </p:nvSpPr>
        <p:spPr>
          <a:xfrm>
            <a:off x="1295280" y="1447920"/>
            <a:ext cx="449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santeni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457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Rice P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1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e is the World’s most important sta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ple food of more than 3 billion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d in more than 130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e is usually grown for the domestic market (only 6% is grown for expo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12 countries export rice while only 5 of them dominate world ex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Content Placeholder 4" descr=""/>
          <p:cNvPicPr/>
          <p:nvPr/>
        </p:nvPicPr>
        <p:blipFill>
          <a:blip r:embed="rId1"/>
          <a:stretch/>
        </p:blipFill>
        <p:spPr>
          <a:xfrm>
            <a:off x="938160" y="228600"/>
            <a:ext cx="7367760" cy="5715000"/>
          </a:xfrm>
          <a:prstGeom prst="rect">
            <a:avLst/>
          </a:prstGeom>
          <a:ln w="0">
            <a:noFill/>
          </a:ln>
        </p:spPr>
      </p:pic>
      <p:sp>
        <p:nvSpPr>
          <p:cNvPr id="149" name="Straight Connector 5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Rice Production in Af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066680" y="1295280"/>
          <a:ext cx="7140600" cy="4389480"/>
        </p:xfrm>
        <a:graphic>
          <a:graphicData uri="http://schemas.openxmlformats.org/drawingml/2006/table">
            <a:tbl>
              <a:tblPr/>
              <a:tblGrid>
                <a:gridCol w="2362320"/>
                <a:gridCol w="2819520"/>
                <a:gridCol w="195876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ion (M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re (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agasc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gyp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ger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in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nzan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Rice Demand in Af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ple food for many Afric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1975 demand in Africa higher than production in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frica imported 9.3 Mt in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/3 of the world mark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0% of its own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e demand in Africa is growing fastest in the world (6% per y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Rice Production Constraints in Af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tional production leads to low yie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dependence on rain-f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use of external inp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dated varieties &amp; poor seed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or grain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ufficient policy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research and extension capa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  <a:ea typeface="Arial"/>
              </a:rPr>
              <a:t>Presentation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457200" y="1219320"/>
            <a:ext cx="8686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1. Rice Production in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. Importance of Lowlands for Crop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3. Production Constraint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4. Production Opportunitie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5.</a:t>
            </a:r>
            <a:r>
              <a:rPr b="1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Relevance of Proposal for Tanz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6.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1:27:07Z</dcterms:created>
  <dc:creator>Raman, R (AfricaRice)</dc:creator>
  <dc:description/>
  <dc:language>en-US</dc:language>
  <cp:lastModifiedBy>PBallantyne</cp:lastModifiedBy>
  <dcterms:modified xsi:type="dcterms:W3CDTF">2012-02-07T05:35:49Z</dcterms:modified>
  <cp:revision>178</cp:revision>
  <dc:subject/>
  <dc:title>Slide 1</dc:title>
</cp:coreProperties>
</file>