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3.png" ContentType="image/png"/>
  <Override PartName="/ppt/media/image12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10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ftr" idx="10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 type="sldNum" idx="10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B91C-8D6B-43A8-AE28-4307E8416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CAA5-AEDD-4711-AEBB-20F59E4C09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83EB-0FBC-425C-9CEB-D31F915F31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DCA7-1B0C-4992-BAB4-624BBB85A8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6C05-A335-48B2-92D1-A634A9E8ADF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B570-ADD8-45CB-8D08-95875C0E5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844A-197A-4DF4-A770-5D3BE849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F4432D-A094-4F8F-9852-FAF1511F1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B22C-53A8-4BA0-B305-88927F218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4B3408-E865-40A1-A808-A109D499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121BF82-FBDB-488B-AE81-8C4E9502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23CB70-44C6-4482-BE4B-5EEF1FC9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7B7B99-F12D-47CD-AD24-66B5CAC6A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AC3228-4029-458A-93F7-6846020F0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0E09D6-5C89-4E04-BB97-B06AC097B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158B4B-72BD-4832-B6AC-DC6310D4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1AC52E-EBA5-45C2-B43D-C8440882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C8555C-5CD5-4E63-AC23-705665C4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E1FD0B-14CC-41C3-8849-A6F35679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A816-B6DB-4A85-B957-EBDB89716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252CA6-1373-4EAE-A3BD-5BABF28F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9CEDB-7778-4763-A0BA-9CED57C7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30CA5-E47A-48B5-94B8-9CE1B05E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7B026-6EA1-42A6-8779-A32906B9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748082-0B97-4489-9B04-B5BEE120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029C98-7386-4542-B30E-FB1F89EA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C4447-1332-4D16-99E5-A2501F4E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ADBFF4-5B6C-42C6-B03A-830DE44C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746B0B-E065-48CB-83B8-434A9BD8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754460-99C3-46EA-BA38-F6EE3FD04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AAE1-6F21-4311-9BB5-DD475A243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820E22-96A1-49D0-9CE9-3FB9A13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41A91B-333E-4F04-9DCF-7CCE523B6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CAD7CF-1F9A-451A-A346-242280B8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C1FD3D-108F-429E-A9CD-D2CF2DA9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98B940-8401-475E-B2B6-57EFDDCC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46AF86-AF62-4C1B-94EC-3E7E4C07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2D886B-247C-461E-8971-8205C24EB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90265-6AF6-456D-B7F5-A61A4AC87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112E35-BC69-421D-B740-88DBED441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49E055-152D-405B-B3A4-BEDA4581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2554-53F3-44CC-B295-0283930D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2F1C9F-A983-4F2F-BD57-8BFC3A39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185D9-A0CF-46A5-BE1F-C479019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DC5806-CAD0-4BD4-8B5B-1E00803D5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E95FD-6013-4917-A40D-2BF2DC376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485D41-2CAA-4AF1-8F0C-BF0E4824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81FE97-F536-4B86-AB29-FF4F507D2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AD13F33-FB81-4A54-B265-3E2A00E1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012D8AC-3732-41B0-93EE-58F1394D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E907FD-228E-473F-B0B2-BA170FD8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C8987F5-2317-46ED-9B13-40544544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BD9D-180F-46E5-ADFF-12F662B9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9E0EC51-A846-4F2D-BB29-26063A1F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C43924-4EC4-4E9F-BB60-B6F7DBEB8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5E2104-0EAF-49AB-BE3A-F9D7310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05A31B-5E88-4153-AF1B-B7C6A3E6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809636-B50E-411E-A4EE-02BA1246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9D3561-6247-4662-9089-A037D1FE0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4F2C6F6-23CA-4E1C-A8A0-D7BDDED7D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D92E-A98C-4268-A3A2-39240A53B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56798-4A5E-4A31-9368-73795338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58D8-3C75-4EA0-AAD9-48C569A7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F456F2-346D-40D7-9E8F-AC79D594F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6B573-89DB-450D-AF71-0B4931958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A9F56-359E-4C23-A456-987EB093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49BFC8-AA8F-42B6-8352-C5D3F5B6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DB0F30-6D41-41AC-A777-49112673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5ED6A-A90C-462B-8D82-5371C9FD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271C62-5859-47C5-90B9-5CB98605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3DDF90-5E1B-405E-9681-5E94AFE0C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B2B8B-95BA-4ED2-BF6B-6113B728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0DDB-EBF6-4994-B7BE-D14BC940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D7F07-C56F-4634-91BF-52CCCFE5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57332-60C3-4F77-BA21-AFE8C529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36A492-EF8E-4ACC-8F3D-98A920417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F4E13F-E1AF-4D08-8543-F85934B3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67BCB1-9D7A-46F3-A5D5-F1F059C8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A6A05B-6897-42C3-980B-F8E5977BD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83298-2F09-4FB5-9324-399C646C8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9FB597-49EC-430B-9867-AFF6DA02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E5999-AD9B-462A-AA88-0B8C12E25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CA5F2-FE08-45BB-A3F5-C76C998E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97FC-26FA-42DB-8DDE-DF54B484A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2943-F1B3-4804-9663-B6E4DAA1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3020F8-7449-4AAB-9FFD-6DE5A6AC7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B9725B-11E9-4766-B314-63B373A6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B16611-6B48-42E9-AB09-78A02276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46833A-4884-4C7B-82D4-B782FDE5A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773BC-4C4C-4455-86D6-D1ADEF5E7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D0E79-E002-46F2-B873-6398324B0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8B18B-4427-41B3-8C39-EBFF7E51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4E485-C2B9-4E25-A708-EEE18DDD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538F78-3568-4FF7-A615-58B271F37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45776-929B-43AF-87C8-A18ED4B4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E116-8A69-4D27-ABC6-47F4D383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BE7994-206C-4D06-A3D6-65BC0AE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4E6FA-C448-4345-A641-63230C17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DBC16-B7C3-41DB-B83E-EA822DC1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3485AF-09D9-4A21-9769-16D912AC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189E44-3697-44A0-8F22-70F2E29C4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5F424-404F-4743-9E9D-9D927B34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A926EA-79FD-48B3-AABD-ADF224CD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95F10-8E97-4B8D-8E72-6D49FF86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AF580-D661-412F-9308-0B6DCC2A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13A8A8-53DB-4459-BAF9-7975270D7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6EDE-7291-4AE1-85E6-5DEE90DE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DABA6A-B8F1-4B66-BBF0-ACEA39D3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71544A-ECDE-4FFC-9DC8-6D6A083F3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E76007-1696-42AA-8610-3A3687671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70E8CA-4220-4D2B-A79F-89128AEB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8E17FC-EE80-4A36-8B94-E4C525BF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D6C8FA-F00F-4025-86E9-183EFACA6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38B01F-7775-4193-BCAA-43226FFD5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A6F19E-F506-43F3-ACCA-84A53ECCC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7F8F22-C8A6-46D7-A8E2-84B34722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633634-BF42-4549-9D1A-7B5C2568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BC07-D9A4-43F9-8220-F455EB8DE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58D074-FE81-4292-B1C8-B40DABD3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B2AE7-EC57-416C-A35E-9547B0E0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AEAA9A-07E5-4677-A4EB-AA618497E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44E686-6DF7-428C-B699-73CD55C6E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94AB0E-8BA7-43BD-884F-0FF0AD38E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9D46FF-7C10-405D-91A5-A38FB400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CF969B-96FA-4315-8FE8-DADD04FD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611EB6-827D-4CEB-AFAA-A90D7D34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2B64EF-9BEF-43CF-8991-8066926E0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D2AAD5-5F63-4B83-99D2-4C4141020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FB6B-9F95-49EF-815F-6DC15D72A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048B9D-9FC5-40DB-A491-CEE50EC39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1AB110-29B1-4D02-970D-6D4E849F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1DDFC-223F-47E2-B2AC-776C02E8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5E959-8E90-4CB7-BB7D-CAF12710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979CB2-56A7-4789-B953-F20A5A38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A75D07-CC37-47AD-8DB5-71698F5C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AEB19C-7DF1-4D9D-85B0-CB8CBD9EE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40C755-8DC6-4600-9489-415CDF27E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5E738-B579-4B2F-A20B-9DAE2BCF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5A8267-BEEC-4385-A086-D55FEBC5C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EE174-9413-42EF-A148-CA8E3875B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A286A-4D95-4B5D-A707-7E647F464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FB2C6F-63B0-4F9D-96EF-0B59DD1E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D3731C-0183-4FDE-AA39-5B90ACE7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749248-AD4C-433F-AF37-39158371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7BBE87-239B-4C28-AD29-18B19FD2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70EFF-76C5-4153-89A7-6945B648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7B5B3C-590B-42BC-94F7-442C59D7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3B8DCE-6AA3-4718-BA0A-3E30040CA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F00DD-8CD4-4596-9B7C-4C2B8F935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090FE1-C897-4136-9D35-1063E98E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A740-FD7E-47DD-B749-C6704BC9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072300-DCEB-41A8-8A26-6DCDC48C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5AFB9-5E95-4247-BEEF-FD8ACAD4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AD1825-FFCC-4F2F-AC3A-0B1EACDD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0977F1-3EB4-4689-AE68-0603885B8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BDC0A3-21C7-4A16-B51E-33405CF87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8DC437-9D9A-4BAA-8E9A-36E4382A7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83A9FD-26C8-43CA-AFFA-F3A9A437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1023D7-3DC4-4B14-AD8C-2DDCCAB2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114C9D-611F-4785-87E8-871E046F7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53FD8C-77BD-403B-8044-5098DD0E6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15F57-CD92-4392-A8A2-63BC3252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B38D6A-D5A1-48A5-9DB8-8D63300A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0853C6-BDD4-4933-9FB9-4E753D49E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CD0BB4-D59B-4838-AAAB-D639B021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C133F5-88DC-4649-813F-F296B0A4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1E8831-94CB-4B28-A51E-C2728FCA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EB6FDD-145A-49D3-90DC-E00D2EC2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AFF475-DAD0-4F66-ACBF-1546750B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73E198-DCCB-4541-97FA-21214E5B1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13B59-D9E9-4414-8897-6DCE6C28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2CDF1A-06D8-43FE-A483-7EB09187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2600F-19C0-46FD-A933-743C8A5C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1C7D0A-6605-4257-BA1D-CA73F7D9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E92D5B-2EE7-460B-8613-6C81C293F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3DA1F6-AC1D-4694-B5B4-8359A9D3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F48672-E291-4C54-AB63-21892B03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E7AFDF-BE54-4505-A578-6744F6F8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676214-E28A-4482-9866-8B999B5FB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931A24-8727-44B4-9CC6-F06230B5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F2CB5A-B09C-4529-A538-1DAFCB612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3E989B-C36F-45F6-BB82-1336D4A50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ABEC7-970F-4BBF-A517-2BBBC6BD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04A8B-3DD9-4A79-962D-25224795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05B4C4-6450-417F-B661-B93D297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57AD0-460B-4A91-A8FE-9108570D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2FD30C-BF9D-4399-B470-791CBB03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07A0B8-0041-419E-8289-7785FF851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E89595-1951-4901-900A-CC00DAADD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8D1936-DF2C-4C85-A32C-2348CE50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BF301C-6CBF-435D-B6D1-996BFA70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6FEA5A-0133-4881-9C43-5B67583A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C1D3F5D-4FD0-4006-B34B-F922C730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180DE2-9D7C-442F-8258-3D20343C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E19-A229-49DF-8805-AE6F9083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FE234-03D2-4A85-A632-3177E9FEE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7D52AF-FE9E-48B1-8998-D8E59DD79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E5BAE7-6B49-416A-AB41-D162B99B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B42901-4EB3-4803-99B3-27E03394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9D18DA-4E1F-4E30-A84E-B7A4F51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8AEA4C-43E3-4B9A-BF94-5F9ED609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33D075-29EA-40D8-AB98-9A247C56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FC8031-5D8C-4420-979E-394770AF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3726DF-630A-4FDB-BDDB-8C1ABA20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2CCF96-1563-4AA0-8431-EE227E7D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9B1A98-81FF-4403-8941-0E541B4E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2E362-710B-4D22-BF22-EAC24DDE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64B064-F727-4B10-BE7D-C4896190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53CFC0-6B03-4746-9524-631B0697A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42249A-FBF2-4266-8CBE-2FF33F6C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81CC25-9ECF-4BDE-B0B4-8584D31C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59D5E2-E4BB-4471-8BDF-AA7C57899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F8DF0F-94D8-47DE-B3D8-51C15902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5FA171-077B-4B76-9407-82F81EDA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3FBA94-F4FA-4DAB-9960-B4E69FF29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869700B-D0AE-4F80-A46F-23AF8A21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268185-79EC-46A4-A13A-D99C19DC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60A4-4FD4-4D9E-BEF5-CE9B600B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9C3615-F8A3-4F01-A365-F2F248C5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3D1ACF-52CA-4043-BFDD-E40AC383C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37354D-CDF4-46FA-808B-32FD9D466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B2F9894-5C5E-40A0-90AD-50D66D981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B0C23D-B945-49FC-8D32-9E0F7DB2B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00EE6C-725D-4320-B1FD-FDAEE1EF7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823678-FB0C-4337-906F-853FA656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111F72-5FDD-42FC-8707-B850C687B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3E7ED9-6874-41F4-BACD-CADCB4CD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CB5ACE-3165-4DB6-958B-5D9B3822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E6DEF-32CF-4B93-A9CC-7A5FB23E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7E3E63-A4E9-4E06-A381-F3012FDE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7DF445-8692-4C98-887C-82389E28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328D97-8275-4B95-9323-66E2890A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65B2B3-9E27-4FC4-BC7B-7FF051A3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2C32F4-55FF-47E7-A38C-F9A005CB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25C95D-6DCB-4294-9989-E31F6CDC7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74FAEC-40AC-4188-BBEE-27357BB46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6FD9D9-B6B4-41C1-BD33-6E01F64E0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528BBB-3930-4595-A17D-BADD6D93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E8D9BB-56E9-4FE7-88A3-CA6C2AA2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6D180-91A0-4661-BEBB-8C3D3A1B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A72BB0-756B-4F09-965E-5D68B670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8F6579-0C7C-49B9-B55E-25A4A574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BF7D69-6547-4FF8-849D-7A94E3F91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7F4AFCB-7043-4425-BCF2-98F4EEA9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3945F6-8FE9-4E44-A7F2-5BD14C4A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BB15B9-0B90-4BBF-AAFB-F086E8DF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E02A3FC-C7D9-4386-97C7-4E8CC86A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38DC4D-7142-48F0-8C08-4C6CA9D6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25A254-4AA0-4A85-92C9-AF2B8959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730D13C-DE40-4C55-9228-C8BD605E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432C7-6568-4BD3-AEE5-BB329C9A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30A969-6A89-44F1-9A0C-0F1F1D25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112399-9FC4-4CDF-8259-CA86D129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A6A7DA-9856-4181-B718-B430F873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1A14DF-D2F6-4FCE-9BE5-760C893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D0A4C6-49B3-4E27-AA86-D0956C69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96BBB21-EED8-47D3-B412-C788C01A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A96E7D7-084D-4DB7-953F-5CD6184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2EAE98-57D2-4546-AB3E-74D84951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B286B2E-61A9-4D28-BA6F-DBE6ECDD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03A277-955D-4705-B981-C3F3F4115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CE22B-038C-4629-8FB5-B8D30D97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CDCEC6-F20D-4A11-9612-35A7F20E0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DC59CED-8A61-40C7-A3EC-0BE08B546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EC8CB5-499F-492F-9E62-E9ED8648B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F95802-A24D-4928-B372-80701BE9F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B5E24B-CE80-4F82-961A-C32E3314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E3096A-BE63-4530-8D2B-DE921D93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041D0F-C565-4518-951B-9A161027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A29D52B-41BE-4B41-A4DF-9BB51F3F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6D2B6CB-F18F-44A9-9AB4-7750D47D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C7B9E1-4784-43DD-AA3E-A05AED0D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15622D-BC65-4CC5-BA76-9962C10F9435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E180E9-2C2D-47CE-910F-4F55DA4E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DCE4BB-2E0E-4490-8465-81CB78AB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AE1D61-0C24-4982-A803-8FA03612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67DBD1-9574-4A58-BF28-CC792F746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E00380-289F-486B-9737-80A6EF7D2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00F463-4926-4033-9D5D-FE3DA2F8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8809308-1D14-4F7D-822A-5CDD4BA5B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BED946-3D2E-4731-BE91-3ADAF8C7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3B65300-6448-4109-99BB-6B1A272F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DEB092-D3C0-4ABF-B148-F601250D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C91CF4-9F8B-4432-B43B-30F839B67716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1D62A0-E2B4-49C9-99A3-7E9FDC93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F921A5-01C2-45C2-97BB-C0EEA39B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3ECE17-CF45-4A61-BF02-366D7E7D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4201E9E-8DCD-49C2-A407-3514AB733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331DCD-BF9A-41AB-A7C1-2591E379D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385637-F797-4208-938A-0C5D8D709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9656E30-FFEC-426D-9A8F-E5C6AB38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EBB753-1842-4C30-B18A-80D6BD9E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55075D-C3FF-429F-AA94-BA9BCA20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0B5894-CDCA-4AB6-A998-813C5A86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5F5462-2F3D-407F-AC15-086D5FDA4726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F2FFF2-1B1C-479A-BC03-F3B16F59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F70E0F-3E89-47CF-838A-FE8E561A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9821E2-559C-4BEA-AB86-4AA43ABF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0B21D36-8D20-4C00-8357-59F2FA63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B6D049-9939-470C-B6F5-F504B41A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548A91-80D9-4525-A6D9-E215DB18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B1571D-6209-495A-A457-45B4734F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759A8E6-CB50-4C62-BD08-045744B1E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B8F404-8CDA-484F-9FC6-4FBAB880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487081-DF4B-4704-BDC7-9E35E43F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A2B2-D1F7-4BA4-8E6A-741F21DF5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39FBA7-0457-4564-8077-DC23C06847CB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E54FB2F-6379-4FF7-AE55-04062C80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B654AD-5837-4389-ADE5-83F6FFB4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911D5F7-24A0-426E-98BE-36957644B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670ED7-AFB9-474A-81C3-7F88835A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27DB63-DAD0-4D83-A54E-87FA8B0B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F70D92-7BD1-4512-A1EC-F4A1D794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F8ED3F-CD9B-428A-9548-BBDB43BB9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90F9B7-6E49-4822-82D0-43335051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8CB3E0B-5E6B-4EDF-A649-07F3AE1B3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02CEE06-942B-4880-8116-26D4B4E13822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840757-500A-43CC-8E12-9A94B6F537B4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C9A4BE1-BF86-43B9-992C-DAB1FB579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8FE22DB-9A81-4EBE-AD9A-389C143B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5766D13-A041-4504-B94D-D7075A88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685DCE5-4CB2-422D-A227-DE4FE4C9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015B45E-443D-4C99-9215-626A59773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18070B6-BA1C-4973-B6FE-CD4550C4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27E25EE-FA9C-4F36-910F-06128B27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A356EF0-688A-4EB3-98AD-7EF08A4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8614994-9BB0-44C2-9048-552D27C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2CADDD-328D-493D-8468-C69D3AC373FF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697DC3DC-5D2C-4F65-A2B4-473406B6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EABA98C-1167-4F40-A250-BD7E1A5E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3B2F58E-64FE-43C8-9848-DCFF05614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C5DF87C-0FDF-46E4-B8BD-15F72451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5C0893F-719E-4F1E-852A-84A0142F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7F84DA76-ACAB-4B15-933C-89694810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1B9FBA2-5B39-493E-9578-38E271B8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EA8BFCE-2BC5-4568-B4A9-CCCE6556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2FC8F49-F904-4B9E-B056-7AFBEBB8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CFD754A-A908-4A1F-A8AE-33FFD469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6A1EB8-AEB2-4ED5-A41B-AFC76C57DF23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8A13AB2-77F8-49AB-8175-A1CFB947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9491C4C-8C66-42AF-99FE-162B5B50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D7A0AA7-0A62-42CC-90E6-A03D8DB58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567F6A3D-4D15-476B-90B7-EC1AE9A20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6C26D2D-FED7-41C3-81FF-F736C86B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0C7674B-F7E9-41F2-8A6D-AF715B645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8AB6CDC-D925-4ED6-8F55-D55216D3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B622090-E926-4EB2-BF7C-A27625C4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74E5F60-1B3C-44B6-91B5-00CE00C1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EF77086-A3E4-44B2-AEF2-AED2D019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71B6BD-2E29-4928-9F6C-6A5D2642D330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50C6D46-D1C1-463E-9832-0FC546A1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F9DFFC5-17D4-46D7-81AE-E5921738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7F471FD-9080-49B2-B142-4BE00A74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FEE85C0-D0FF-4356-BD06-2ABD14F07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FB61130-DE1A-4223-8DBC-EEA21C0D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B56AA7C-7681-43D6-BE26-B2755CC2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C94230A-0CFD-47D0-A4DC-667F84EE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C7ACA99-AD6F-4FA8-9686-68DF81F26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9B61078-93C7-40B4-9756-702FFB7F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EFA9BE8E-7744-483E-BF9B-C69E6BA8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8BA30A-5170-429D-971D-D52C736BE114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A7004C3-DEB0-406A-A001-F7E82F79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3B4B8F24-4731-4144-B676-E321ECED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1B2C63D-F8C4-46EC-BD20-457F3120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A110FA8-8B9F-4194-9F41-70DDC59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8F20F96-A313-4FBA-B3A2-B7D0C784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3F66357-DF95-4EB7-BD60-96C8FCB7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50F8C3A-F3D0-47BD-8CBF-44B6D14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A1DF4E8-2EEA-43F2-A60F-E3272CC8E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55CDD07-B84F-4ECD-8593-A5F3F055D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C66F28-E59E-4340-B62E-82235846220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67C406-D010-4FBB-BA78-5AACC136B3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C8828E-C19D-40DB-889F-B34A18B1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4422-C657-4609-94E0-4483DDAF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CF086-60A1-4618-95B9-1DDC631A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59BBDA-0673-41DD-A69A-E1BA9973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090AFB-DF2D-4966-859E-749F0ECA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1C69D-2F3B-47F5-BD16-B6010826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B4AB74-C3D0-44C7-8C56-664B92503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E3FC8A-781C-414B-8CEE-7C6D2A3D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A1C129-17CA-4D6E-B77A-89D012AF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DE370-F770-430D-8376-F6BF69F9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D96EDF-CC4E-4B3B-86EF-CE16A5F6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950F5-151C-4773-97D0-7554868F6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97A5-E41E-4D71-9F40-B1865D8F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876A57-CB3F-49E4-9E88-E1036F84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ADAB00-85A3-4777-A89F-2BDB8D02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90AAB9-99D1-49D1-B15B-D2B52D02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E2C8E5-2CFC-4B4F-889F-6680CF16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9D505B-D2C5-4C9C-A213-3F53808A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36458F-79AB-4EEC-9EB1-9A946105C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3BCCE0-1E3A-4BE2-AC70-F0EBA358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284749-FBC8-4F8C-8C47-9845671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5AD4B9-064B-42F2-8158-66D71E31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9300D2-E288-46BF-8672-2F9E8607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56C0-D590-4208-A23B-B2D91FAA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B7C1F1-526A-4F3E-9B3A-F471ADD8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CAEBBB-2F89-4FB7-B6CD-86154BA56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35E219-256C-4E09-88CB-11D828DF9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9B7-532C-4C6A-8EA2-A04141E3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9177-940D-48F4-AA03-1817F4D59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D1C6D-0D72-4764-A06C-2E76A6F68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73024-E4B2-449B-9B70-DB50220C6BA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616E-87E7-41E3-A299-9DCCDA618A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9628B-AF73-426A-85E8-3EC6338C021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EDD5-204D-449F-85D5-9AA91C78C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67DB-5740-4BF3-A218-CB7ABB286D2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9FE5-809C-4E54-BE13-C954485EB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C3D2E-1C95-40A4-839D-3EE487DD077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585F-F92D-4983-9BBE-C91ACDE95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1DDFD-3153-44C7-94B5-74D61473675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3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D290-F10C-4275-B11C-FD998257472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50CF-A69D-4D85-9245-B95123BBBE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6282-9C3C-4BA3-8871-9E93B865F0B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D939-0017-4A23-AE83-0DE311C4F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EFA9-B569-4087-B3AD-D88CA08189F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5AB6-1070-41D3-9251-312CF6920E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B02D-1B2C-4996-96A3-2968CC558D9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B557-9DF3-4076-8D4B-010C402E2A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9416-2EC3-49CD-9F69-D498243B1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E50F-A5A9-4578-8614-071D89C8BD1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996B-D866-43C1-B33D-A38B91A353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D529-95EE-42EB-9D8F-D66D9A74B88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4BBC-803F-4574-B968-B2E8202BF1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81E55-6A10-4E73-84FE-43D1D62EE81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5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6F45-4994-43EE-9F91-F0FE3A1E0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3CE2-0764-4A0A-A881-CB8613BD8AF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5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5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923C7-8B8F-4BA6-8BA0-8A0F90C11F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DA4A-9B84-4231-B194-AE52A3F4A34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2B46-296E-43BC-B1CB-27D7F48B5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66EB8-5394-4C9F-9202-33E31E81497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B6A3-C96D-4ED8-868F-92BC49AF0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E5F0-3858-4179-B052-B32ACFA462A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D8C0-5CEA-4779-AB03-51AEFB42E3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F00C-07A6-4F27-BE51-3532EF279EF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2C0B-11BD-43BC-92E1-26B68AF1A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B8F3-6868-4687-B8DB-199B70D049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D792-BA2E-471A-807A-665C58A908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E3FE9-F6BE-49CA-B6AC-E6FEE3C29B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C673-3529-4AFF-A8C2-EC1A4BAB04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BE7E-9EEB-4DE0-A034-19B20C44BC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43AF-AAF0-444C-89F6-E6B5C2135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89DD-DA78-4EAA-B716-ADE4768340D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C47A-A8C2-4AD9-B175-9B8EE2FA8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A8BB1-7514-4A26-BB2D-87C50A63C6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E837-B8D6-4117-839D-B7D451AAEF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5A712-FF0B-4826-BC8A-69573BFBACB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E960-3BB9-41F1-8EC1-57EE80092D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6C17-1CEF-41BC-8824-7096CFEF90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777CF-C5BE-4DA8-9094-8BE5B1E247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66D1-D326-49C4-BB6A-8C314B3BEF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8986-7987-459D-BD22-CC17380340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9EAC0-30D5-47D0-AEA1-35B5894BE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9FB4-1BE8-4029-88D7-83FF0B5B2E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A4C6-5495-4C3A-BF20-953A0D4F85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EF48-3C76-40B5-BE66-63AB39FD51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4C745-E281-48DE-9737-93A0E2124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E88B-8B9E-4156-9BD1-F0B72110E2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6EEB-2C72-4BBD-A060-7CADE7ABE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BA3B-D8C3-4F97-A183-4933FBF1BA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4B654-3C3A-411D-B32C-87DC7F29AD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256D8-0DFE-411B-A9F2-164394DC95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8C4D-6483-4E07-AFE1-55AC97F793C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E417-94CB-4734-AAD5-3AE8480B8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409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ubtitle 2" descr=""/>
          <p:cNvPicPr/>
          <p:nvPr/>
        </p:nvPicPr>
        <p:blipFill>
          <a:blip r:embed="rId1"/>
          <a:stretch/>
        </p:blipFill>
        <p:spPr>
          <a:xfrm>
            <a:off x="1670040" y="3389400"/>
            <a:ext cx="5578560" cy="14637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643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670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647" name="Rectangle 9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Picture 2" descr=""/>
          <p:cNvPicPr/>
          <p:nvPr/>
        </p:nvPicPr>
        <p:blipFill>
          <a:blip r:embed="rId1"/>
          <a:stretch/>
        </p:blipFill>
        <p:spPr>
          <a:xfrm>
            <a:off x="120600" y="1757520"/>
            <a:ext cx="8866080" cy="4497120"/>
          </a:xfrm>
          <a:prstGeom prst="rect">
            <a:avLst/>
          </a:prstGeom>
          <a:ln w="0">
            <a:noFill/>
          </a:ln>
        </p:spPr>
      </p:pic>
      <p:sp>
        <p:nvSpPr>
          <p:cNvPr id="1989" name="TextBox 3"/>
          <p:cNvSpPr/>
          <p:nvPr/>
        </p:nvSpPr>
        <p:spPr>
          <a:xfrm>
            <a:off x="157680" y="533520"/>
            <a:ext cx="892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 of Farming Systems in Bridging CAADP-CGIAR 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ublin Process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4"/>
          <p:cNvSpPr/>
          <p:nvPr/>
        </p:nvSpPr>
        <p:spPr>
          <a:xfrm>
            <a:off x="242280" y="625644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ft  Conceptual Framework, Nov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1" name="Group 52"/>
          <p:cNvGrpSpPr/>
          <p:nvPr/>
        </p:nvGrpSpPr>
        <p:grpSpPr>
          <a:xfrm>
            <a:off x="341280" y="1079640"/>
            <a:ext cx="5129280" cy="5194080"/>
            <a:chOff x="341280" y="1079640"/>
            <a:chExt cx="5129280" cy="5194080"/>
          </a:xfrm>
        </p:grpSpPr>
        <p:sp>
          <p:nvSpPr>
            <p:cNvPr id="1992" name="Rectangle 49"/>
            <p:cNvSpPr/>
            <p:nvPr/>
          </p:nvSpPr>
          <p:spPr>
            <a:xfrm>
              <a:off x="595080" y="107964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astern &amp; Southern Africa Maize-based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8"/>
            <p:cNvSpPr/>
            <p:nvPr/>
          </p:nvSpPr>
          <p:spPr>
            <a:xfrm>
              <a:off x="341280" y="143172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thiopian High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5"/>
          <p:cNvSpPr/>
          <p:nvPr/>
        </p:nvSpPr>
        <p:spPr>
          <a:xfrm>
            <a:off x="111240" y="1765440"/>
            <a:ext cx="4876560" cy="48402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dano-Sahelia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5" name="Group 59"/>
          <p:cNvGrpSpPr/>
          <p:nvPr/>
        </p:nvGrpSpPr>
        <p:grpSpPr>
          <a:xfrm>
            <a:off x="276120" y="2540160"/>
            <a:ext cx="4492800" cy="3993840"/>
            <a:chOff x="276120" y="2540160"/>
            <a:chExt cx="4492800" cy="3993840"/>
          </a:xfrm>
        </p:grpSpPr>
        <p:sp>
          <p:nvSpPr>
            <p:cNvPr id="1996" name="TextBox 44"/>
            <p:cNvSpPr/>
            <p:nvPr/>
          </p:nvSpPr>
          <p:spPr>
            <a:xfrm>
              <a:off x="276120" y="499140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7" name="Group 51"/>
            <p:cNvGrpSpPr/>
            <p:nvPr/>
          </p:nvGrpSpPr>
          <p:grpSpPr>
            <a:xfrm>
              <a:off x="329400" y="2540160"/>
              <a:ext cx="4439520" cy="3993840"/>
              <a:chOff x="329400" y="2540160"/>
              <a:chExt cx="4439520" cy="3993840"/>
            </a:xfrm>
          </p:grpSpPr>
          <p:sp>
            <p:nvSpPr>
              <p:cNvPr id="1998" name="Freeform 17"/>
              <p:cNvSpPr/>
              <p:nvPr/>
            </p:nvSpPr>
            <p:spPr>
              <a:xfrm>
                <a:off x="1148760" y="2540160"/>
                <a:ext cx="3620160" cy="3887640"/>
              </a:xfrm>
              <a:custGeom>
                <a:avLst/>
                <a:gdLst/>
                <a:ahLst/>
                <a:rect l="l" t="t" r="r" b="b"/>
                <a:pathLst>
                  <a:path w="846312" h="590559">
                    <a:moveTo>
                      <a:pt x="139145" y="62327"/>
                    </a:moveTo>
                    <a:cubicBezTo>
                      <a:pt x="215345" y="36811"/>
                      <a:pt x="365568" y="-5859"/>
                      <a:pt x="478779" y="672"/>
                    </a:cubicBezTo>
                    <a:cubicBezTo>
                      <a:pt x="591990" y="7203"/>
                      <a:pt x="766162" y="36811"/>
                      <a:pt x="818413" y="101515"/>
                    </a:cubicBezTo>
                    <a:cubicBezTo>
                      <a:pt x="870665" y="166219"/>
                      <a:pt x="842362" y="308344"/>
                      <a:pt x="792288" y="388898"/>
                    </a:cubicBezTo>
                    <a:cubicBezTo>
                      <a:pt x="742214" y="469452"/>
                      <a:pt x="583282" y="560893"/>
                      <a:pt x="517968" y="584841"/>
                    </a:cubicBezTo>
                    <a:cubicBezTo>
                      <a:pt x="452654" y="608789"/>
                      <a:pt x="441950" y="550924"/>
                      <a:pt x="400402" y="532589"/>
                    </a:cubicBezTo>
                    <a:cubicBezTo>
                      <a:pt x="358854" y="514254"/>
                      <a:pt x="333717" y="495498"/>
                      <a:pt x="268679" y="474832"/>
                    </a:cubicBezTo>
                    <a:cubicBezTo>
                      <a:pt x="203641" y="454166"/>
                      <a:pt x="49180" y="440334"/>
                      <a:pt x="10174" y="408595"/>
                    </a:cubicBezTo>
                    <a:cubicBezTo>
                      <a:pt x="-28832" y="376856"/>
                      <a:pt x="58591" y="319229"/>
                      <a:pt x="34642" y="284395"/>
                    </a:cubicBezTo>
                    <a:cubicBezTo>
                      <a:pt x="10693" y="249561"/>
                      <a:pt x="6339" y="192956"/>
                      <a:pt x="21579" y="153767"/>
                    </a:cubicBezTo>
                    <a:cubicBezTo>
                      <a:pt x="36819" y="114579"/>
                      <a:pt x="62945" y="87843"/>
                      <a:pt x="139145" y="62327"/>
                    </a:cubicBezTo>
                    <a:close/>
                  </a:path>
                </a:pathLst>
              </a:custGeom>
              <a:solidFill>
                <a:srgbClr val="c3d69b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46"/>
              <p:cNvSpPr/>
              <p:nvPr/>
            </p:nvSpPr>
            <p:spPr>
              <a:xfrm>
                <a:off x="329400" y="5389560"/>
                <a:ext cx="1497240" cy="1144440"/>
              </a:xfrm>
              <a:custGeom>
                <a:avLst/>
                <a:gdLst/>
                <a:ahLst/>
                <a:rect l="l" t="t" r="r" b="b"/>
                <a:pathLst>
                  <a:path w="700442" h="450127">
                    <a:moveTo>
                      <a:pt x="47680" y="152"/>
                    </a:moveTo>
                    <a:cubicBezTo>
                      <a:pt x="150531" y="4734"/>
                      <a:pt x="595121" y="86424"/>
                      <a:pt x="677852" y="158270"/>
                    </a:cubicBezTo>
                    <a:cubicBezTo>
                      <a:pt x="760583" y="230116"/>
                      <a:pt x="593089" y="386741"/>
                      <a:pt x="544069" y="431226"/>
                    </a:cubicBezTo>
                    <a:cubicBezTo>
                      <a:pt x="495049" y="475711"/>
                      <a:pt x="458886" y="428114"/>
                      <a:pt x="383731" y="425182"/>
                    </a:cubicBezTo>
                    <a:cubicBezTo>
                      <a:pt x="308576" y="422250"/>
                      <a:pt x="151050" y="442000"/>
                      <a:pt x="93141" y="413633"/>
                    </a:cubicBezTo>
                    <a:cubicBezTo>
                      <a:pt x="35232" y="385266"/>
                      <a:pt x="41675" y="302122"/>
                      <a:pt x="36275" y="254980"/>
                    </a:cubicBezTo>
                    <a:cubicBezTo>
                      <a:pt x="30875" y="207838"/>
                      <a:pt x="84692" y="165614"/>
                      <a:pt x="60743" y="130780"/>
                    </a:cubicBezTo>
                    <a:cubicBezTo>
                      <a:pt x="36794" y="95946"/>
                      <a:pt x="-55171" y="-4430"/>
                      <a:pt x="47680" y="152"/>
                    </a:cubicBezTo>
                    <a:close/>
                  </a:path>
                </a:pathLst>
              </a:custGeom>
              <a:solidFill>
                <a:srgbClr val="99ff33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0" name="Group 56"/>
          <p:cNvGrpSpPr/>
          <p:nvPr/>
        </p:nvGrpSpPr>
        <p:grpSpPr>
          <a:xfrm>
            <a:off x="452520" y="2608200"/>
            <a:ext cx="4048200" cy="3156120"/>
            <a:chOff x="452520" y="2608200"/>
            <a:chExt cx="4048200" cy="3156120"/>
          </a:xfrm>
        </p:grpSpPr>
        <p:grpSp>
          <p:nvGrpSpPr>
            <p:cNvPr id="2001" name="Group 54"/>
            <p:cNvGrpSpPr/>
            <p:nvPr/>
          </p:nvGrpSpPr>
          <p:grpSpPr>
            <a:xfrm>
              <a:off x="452520" y="2608200"/>
              <a:ext cx="4048200" cy="3156120"/>
              <a:chOff x="452520" y="2608200"/>
              <a:chExt cx="4048200" cy="3156120"/>
            </a:xfrm>
          </p:grpSpPr>
          <p:grpSp>
            <p:nvGrpSpPr>
              <p:cNvPr id="2002" name="Group 20"/>
              <p:cNvGrpSpPr/>
              <p:nvPr/>
            </p:nvGrpSpPr>
            <p:grpSpPr>
              <a:xfrm>
                <a:off x="1794960" y="2947680"/>
                <a:ext cx="2705760" cy="2816640"/>
                <a:chOff x="1794960" y="2947680"/>
                <a:chExt cx="2705760" cy="2816640"/>
              </a:xfrm>
            </p:grpSpPr>
            <p:sp>
              <p:nvSpPr>
                <p:cNvPr id="2003" name="Freeform 10"/>
                <p:cNvSpPr/>
                <p:nvPr/>
              </p:nvSpPr>
              <p:spPr>
                <a:xfrm>
                  <a:off x="2812680" y="3455640"/>
                  <a:ext cx="808200" cy="677880"/>
                </a:xfrm>
                <a:custGeom>
                  <a:avLst/>
                  <a:gdLst/>
                  <a:ahLst/>
                  <a:rect l="l" t="t" r="r" b="b"/>
                  <a:pathLst>
                    <a:path w="808354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88307" y="146869"/>
                        <a:pt x="805724" y="188235"/>
                      </a:cubicBezTo>
                      <a:cubicBezTo>
                        <a:pt x="823141" y="229601"/>
                        <a:pt x="716461" y="223069"/>
                        <a:pt x="714284" y="253549"/>
                      </a:cubicBezTo>
                      <a:cubicBezTo>
                        <a:pt x="712107" y="284029"/>
                        <a:pt x="781775" y="334104"/>
                        <a:pt x="792661" y="371115"/>
                      </a:cubicBezTo>
                      <a:cubicBezTo>
                        <a:pt x="803547" y="408126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5130" y="543109"/>
                        <a:pt x="361587" y="540932"/>
                      </a:cubicBezTo>
                      <a:cubicBezTo>
                        <a:pt x="318044" y="538755"/>
                        <a:pt x="161290" y="621487"/>
                        <a:pt x="126456" y="606247"/>
                      </a:cubicBezTo>
                      <a:cubicBezTo>
                        <a:pt x="91622" y="591007"/>
                        <a:pt x="169998" y="488681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13"/>
                <p:cNvSpPr/>
                <p:nvPr/>
              </p:nvSpPr>
              <p:spPr>
                <a:xfrm>
                  <a:off x="3851280" y="3266640"/>
                  <a:ext cx="649440" cy="868320"/>
                </a:xfrm>
                <a:custGeom>
                  <a:avLst/>
                  <a:gdLst/>
                  <a:ahLst/>
                  <a:rect l="l" t="t" r="r" b="b"/>
                  <a:pathLst>
                    <a:path w="649272" h="867634">
                      <a:moveTo>
                        <a:pt x="105001" y="127848"/>
                      </a:moveTo>
                      <a:cubicBezTo>
                        <a:pt x="157252" y="108254"/>
                        <a:pt x="224744" y="-39792"/>
                        <a:pt x="314007" y="10282"/>
                      </a:cubicBezTo>
                      <a:cubicBezTo>
                        <a:pt x="403270" y="60356"/>
                        <a:pt x="601390" y="360803"/>
                        <a:pt x="640579" y="428294"/>
                      </a:cubicBezTo>
                      <a:cubicBezTo>
                        <a:pt x="679768" y="495786"/>
                        <a:pt x="575265" y="345563"/>
                        <a:pt x="549139" y="415231"/>
                      </a:cubicBezTo>
                      <a:cubicBezTo>
                        <a:pt x="523013" y="484900"/>
                        <a:pt x="518658" y="785345"/>
                        <a:pt x="483824" y="846305"/>
                      </a:cubicBezTo>
                      <a:cubicBezTo>
                        <a:pt x="448990" y="907265"/>
                        <a:pt x="411979" y="822357"/>
                        <a:pt x="340133" y="780991"/>
                      </a:cubicBezTo>
                      <a:cubicBezTo>
                        <a:pt x="268287" y="739625"/>
                        <a:pt x="105001" y="641654"/>
                        <a:pt x="52750" y="598111"/>
                      </a:cubicBezTo>
                      <a:cubicBezTo>
                        <a:pt x="499" y="554568"/>
                        <a:pt x="9207" y="561100"/>
                        <a:pt x="26624" y="519734"/>
                      </a:cubicBezTo>
                      <a:cubicBezTo>
                        <a:pt x="44041" y="478368"/>
                        <a:pt x="161607" y="415231"/>
                        <a:pt x="157253" y="349917"/>
                      </a:cubicBezTo>
                      <a:cubicBezTo>
                        <a:pt x="152899" y="284603"/>
                        <a:pt x="7031" y="169214"/>
                        <a:pt x="499" y="127848"/>
                      </a:cubicBezTo>
                      <a:cubicBezTo>
                        <a:pt x="-6033" y="86482"/>
                        <a:pt x="52750" y="147442"/>
                        <a:pt x="105001" y="127848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14"/>
                <p:cNvSpPr/>
                <p:nvPr/>
              </p:nvSpPr>
              <p:spPr>
                <a:xfrm>
                  <a:off x="1794960" y="4128840"/>
                  <a:ext cx="843120" cy="1014480"/>
                </a:xfrm>
                <a:custGeom>
                  <a:avLst/>
                  <a:gdLst/>
                  <a:ahLst/>
                  <a:rect l="l" t="t" r="r" b="b"/>
                  <a:pathLst>
                    <a:path w="843315" h="1014208">
                      <a:moveTo>
                        <a:pt x="368999" y="470328"/>
                      </a:moveTo>
                      <a:cubicBezTo>
                        <a:pt x="338519" y="498631"/>
                        <a:pt x="382062" y="439848"/>
                        <a:pt x="460439" y="431140"/>
                      </a:cubicBezTo>
                      <a:cubicBezTo>
                        <a:pt x="538816" y="422432"/>
                        <a:pt x="806605" y="372357"/>
                        <a:pt x="839262" y="418077"/>
                      </a:cubicBezTo>
                      <a:cubicBezTo>
                        <a:pt x="871919" y="463797"/>
                        <a:pt x="697748" y="607489"/>
                        <a:pt x="656382" y="705460"/>
                      </a:cubicBezTo>
                      <a:cubicBezTo>
                        <a:pt x="615016" y="803431"/>
                        <a:pt x="667268" y="973248"/>
                        <a:pt x="591068" y="1005905"/>
                      </a:cubicBezTo>
                      <a:cubicBezTo>
                        <a:pt x="514868" y="1038562"/>
                        <a:pt x="290622" y="968893"/>
                        <a:pt x="199182" y="901402"/>
                      </a:cubicBezTo>
                      <a:cubicBezTo>
                        <a:pt x="107742" y="833911"/>
                        <a:pt x="75085" y="690220"/>
                        <a:pt x="42428" y="600957"/>
                      </a:cubicBezTo>
                      <a:cubicBezTo>
                        <a:pt x="9771" y="511694"/>
                        <a:pt x="-7647" y="424608"/>
                        <a:pt x="3239" y="365825"/>
                      </a:cubicBezTo>
                      <a:cubicBezTo>
                        <a:pt x="14125" y="307042"/>
                        <a:pt x="64199" y="293980"/>
                        <a:pt x="107742" y="248260"/>
                      </a:cubicBezTo>
                      <a:cubicBezTo>
                        <a:pt x="151285" y="202540"/>
                        <a:pt x="199182" y="132871"/>
                        <a:pt x="264496" y="91505"/>
                      </a:cubicBezTo>
                      <a:cubicBezTo>
                        <a:pt x="329810" y="50139"/>
                        <a:pt x="436491" y="-2112"/>
                        <a:pt x="499628" y="65"/>
                      </a:cubicBezTo>
                      <a:cubicBezTo>
                        <a:pt x="562765" y="2242"/>
                        <a:pt x="619371" y="61025"/>
                        <a:pt x="643319" y="104568"/>
                      </a:cubicBezTo>
                      <a:cubicBezTo>
                        <a:pt x="667267" y="148111"/>
                        <a:pt x="682507" y="200362"/>
                        <a:pt x="643319" y="261322"/>
                      </a:cubicBezTo>
                      <a:cubicBezTo>
                        <a:pt x="604131" y="322282"/>
                        <a:pt x="399479" y="442025"/>
                        <a:pt x="368999" y="47032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15"/>
                <p:cNvSpPr/>
                <p:nvPr/>
              </p:nvSpPr>
              <p:spPr>
                <a:xfrm>
                  <a:off x="3454200" y="4259160"/>
                  <a:ext cx="817560" cy="677880"/>
                </a:xfrm>
                <a:custGeom>
                  <a:avLst/>
                  <a:gdLst/>
                  <a:ahLst/>
                  <a:rect l="l" t="t" r="r" b="b"/>
                  <a:pathLst>
                    <a:path w="817237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75244" y="127275"/>
                        <a:pt x="805724" y="188235"/>
                      </a:cubicBezTo>
                      <a:cubicBezTo>
                        <a:pt x="836204" y="249195"/>
                        <a:pt x="797015" y="323218"/>
                        <a:pt x="792661" y="371115"/>
                      </a:cubicBezTo>
                      <a:cubicBezTo>
                        <a:pt x="788307" y="419012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0776" y="569235"/>
                        <a:pt x="361587" y="540932"/>
                      </a:cubicBezTo>
                      <a:cubicBezTo>
                        <a:pt x="322398" y="512629"/>
                        <a:pt x="209187" y="477795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11"/>
                <p:cNvSpPr/>
                <p:nvPr/>
              </p:nvSpPr>
              <p:spPr>
                <a:xfrm>
                  <a:off x="3098520" y="4861080"/>
                  <a:ext cx="760680" cy="903240"/>
                </a:xfrm>
                <a:custGeom>
                  <a:avLst/>
                  <a:gdLst/>
                  <a:ahLst/>
                  <a:rect l="l" t="t" r="r" b="b"/>
                  <a:pathLst>
                    <a:path w="759599" h="903484">
                      <a:moveTo>
                        <a:pt x="275055" y="223207"/>
                      </a:moveTo>
                      <a:cubicBezTo>
                        <a:pt x="284852" y="188373"/>
                        <a:pt x="294650" y="153539"/>
                        <a:pt x="327307" y="144830"/>
                      </a:cubicBezTo>
                      <a:cubicBezTo>
                        <a:pt x="359964" y="136121"/>
                        <a:pt x="442695" y="142652"/>
                        <a:pt x="470998" y="170955"/>
                      </a:cubicBezTo>
                      <a:cubicBezTo>
                        <a:pt x="499301" y="199258"/>
                        <a:pt x="470998" y="290698"/>
                        <a:pt x="497124" y="314647"/>
                      </a:cubicBezTo>
                      <a:cubicBezTo>
                        <a:pt x="523250" y="338596"/>
                        <a:pt x="584210" y="288521"/>
                        <a:pt x="627753" y="314647"/>
                      </a:cubicBezTo>
                      <a:cubicBezTo>
                        <a:pt x="671296" y="340773"/>
                        <a:pt x="747495" y="416973"/>
                        <a:pt x="758381" y="471401"/>
                      </a:cubicBezTo>
                      <a:cubicBezTo>
                        <a:pt x="769267" y="525829"/>
                        <a:pt x="703953" y="591144"/>
                        <a:pt x="693067" y="641218"/>
                      </a:cubicBezTo>
                      <a:cubicBezTo>
                        <a:pt x="682181" y="691292"/>
                        <a:pt x="706130" y="754430"/>
                        <a:pt x="693067" y="771847"/>
                      </a:cubicBezTo>
                      <a:cubicBezTo>
                        <a:pt x="680004" y="789264"/>
                        <a:pt x="662587" y="745721"/>
                        <a:pt x="614690" y="745721"/>
                      </a:cubicBezTo>
                      <a:cubicBezTo>
                        <a:pt x="566793" y="745721"/>
                        <a:pt x="470998" y="745721"/>
                        <a:pt x="405684" y="771847"/>
                      </a:cubicBezTo>
                      <a:cubicBezTo>
                        <a:pt x="340370" y="797973"/>
                        <a:pt x="277232" y="915538"/>
                        <a:pt x="222804" y="902475"/>
                      </a:cubicBezTo>
                      <a:cubicBezTo>
                        <a:pt x="168376" y="889412"/>
                        <a:pt x="113947" y="760961"/>
                        <a:pt x="79113" y="693470"/>
                      </a:cubicBezTo>
                      <a:cubicBezTo>
                        <a:pt x="44279" y="625979"/>
                        <a:pt x="26861" y="573727"/>
                        <a:pt x="13798" y="497527"/>
                      </a:cubicBezTo>
                      <a:cubicBezTo>
                        <a:pt x="735" y="421327"/>
                        <a:pt x="-1442" y="319001"/>
                        <a:pt x="735" y="236270"/>
                      </a:cubicBezTo>
                      <a:cubicBezTo>
                        <a:pt x="2912" y="153539"/>
                        <a:pt x="2912" y="14201"/>
                        <a:pt x="26861" y="1138"/>
                      </a:cubicBezTo>
                      <a:cubicBezTo>
                        <a:pt x="50810" y="-11925"/>
                        <a:pt x="127010" y="90401"/>
                        <a:pt x="144427" y="157893"/>
                      </a:cubicBezTo>
                      <a:cubicBezTo>
                        <a:pt x="161844" y="225385"/>
                        <a:pt x="116124" y="369076"/>
                        <a:pt x="131364" y="406087"/>
                      </a:cubicBezTo>
                      <a:cubicBezTo>
                        <a:pt x="146604" y="443098"/>
                        <a:pt x="205387" y="421327"/>
                        <a:pt x="235867" y="379961"/>
                      </a:cubicBezTo>
                      <a:cubicBezTo>
                        <a:pt x="266347" y="338595"/>
                        <a:pt x="303358" y="192727"/>
                        <a:pt x="314244" y="157893"/>
                      </a:cubicBezTo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16"/>
                <p:cNvSpPr/>
                <p:nvPr/>
              </p:nvSpPr>
              <p:spPr>
                <a:xfrm>
                  <a:off x="1794960" y="2947680"/>
                  <a:ext cx="642960" cy="831960"/>
                </a:xfrm>
                <a:custGeom>
                  <a:avLst/>
                  <a:gdLst/>
                  <a:ahLst/>
                  <a:rect l="l" t="t" r="r" b="b"/>
                  <a:pathLst>
                    <a:path w="827729" h="620363">
                      <a:moveTo>
                        <a:pt x="126456" y="91883"/>
                      </a:moveTo>
                      <a:cubicBezTo>
                        <a:pt x="202656" y="61403"/>
                        <a:pt x="352879" y="-6088"/>
                        <a:pt x="466090" y="443"/>
                      </a:cubicBezTo>
                      <a:cubicBezTo>
                        <a:pt x="579301" y="6974"/>
                        <a:pt x="751295" y="78820"/>
                        <a:pt x="805724" y="131071"/>
                      </a:cubicBezTo>
                      <a:cubicBezTo>
                        <a:pt x="860153" y="183322"/>
                        <a:pt x="797015" y="266054"/>
                        <a:pt x="792661" y="313951"/>
                      </a:cubicBezTo>
                      <a:cubicBezTo>
                        <a:pt x="788307" y="361848"/>
                        <a:pt x="827496" y="368380"/>
                        <a:pt x="779599" y="418454"/>
                      </a:cubicBezTo>
                      <a:cubicBezTo>
                        <a:pt x="731702" y="468528"/>
                        <a:pt x="570593" y="590449"/>
                        <a:pt x="505279" y="614397"/>
                      </a:cubicBezTo>
                      <a:cubicBezTo>
                        <a:pt x="439965" y="638345"/>
                        <a:pt x="411662" y="583916"/>
                        <a:pt x="387713" y="562145"/>
                      </a:cubicBezTo>
                      <a:cubicBezTo>
                        <a:pt x="363764" y="540374"/>
                        <a:pt x="400776" y="512071"/>
                        <a:pt x="361587" y="483768"/>
                      </a:cubicBezTo>
                      <a:cubicBezTo>
                        <a:pt x="322398" y="455465"/>
                        <a:pt x="209187" y="420631"/>
                        <a:pt x="152581" y="392328"/>
                      </a:cubicBezTo>
                      <a:cubicBezTo>
                        <a:pt x="135164" y="353139"/>
                        <a:pt x="45902" y="348785"/>
                        <a:pt x="21953" y="313951"/>
                      </a:cubicBezTo>
                      <a:cubicBezTo>
                        <a:pt x="-1996" y="279117"/>
                        <a:pt x="-6350" y="222512"/>
                        <a:pt x="8890" y="183323"/>
                      </a:cubicBezTo>
                      <a:cubicBezTo>
                        <a:pt x="24130" y="144135"/>
                        <a:pt x="50256" y="122363"/>
                        <a:pt x="126456" y="91883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9" name="TextBox 38"/>
              <p:cNvSpPr/>
              <p:nvPr/>
            </p:nvSpPr>
            <p:spPr>
              <a:xfrm>
                <a:off x="452520" y="2608200"/>
                <a:ext cx="78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ub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0" name="Straight Arrow Connector 41"/>
              <p:cNvCxnSpPr>
                <a:endCxn id="2005" idx="7"/>
              </p:cNvCxnSpPr>
              <p:nvPr/>
            </p:nvCxnSpPr>
            <p:spPr>
              <a:xfrm>
                <a:off x="838080" y="3160080"/>
                <a:ext cx="961200" cy="133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2011" name="Straight Arrow Connector 40"/>
            <p:cNvCxnSpPr>
              <a:endCxn id="2008" idx="10"/>
            </p:cNvCxnSpPr>
            <p:nvPr/>
          </p:nvCxnSpPr>
          <p:spPr>
            <a:xfrm>
              <a:off x="1257120" y="2918880"/>
              <a:ext cx="545040" cy="2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12" name="Group 57"/>
          <p:cNvGrpSpPr/>
          <p:nvPr/>
        </p:nvGrpSpPr>
        <p:grpSpPr>
          <a:xfrm>
            <a:off x="1985760" y="1984320"/>
            <a:ext cx="2266920" cy="4521960"/>
            <a:chOff x="1985760" y="1984320"/>
            <a:chExt cx="2266920" cy="4521960"/>
          </a:xfrm>
        </p:grpSpPr>
        <p:sp>
          <p:nvSpPr>
            <p:cNvPr id="2013" name="TextBox 25"/>
            <p:cNvSpPr/>
            <p:nvPr/>
          </p:nvSpPr>
          <p:spPr>
            <a:xfrm>
              <a:off x="2977200" y="198432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TextBox 26"/>
            <p:cNvSpPr/>
            <p:nvPr/>
          </p:nvSpPr>
          <p:spPr>
            <a:xfrm>
              <a:off x="1993320" y="61380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Straight Connector 22"/>
            <p:cNvSpPr/>
            <p:nvPr/>
          </p:nvSpPr>
          <p:spPr>
            <a:xfrm flipH="1">
              <a:off x="1985760" y="2033280"/>
              <a:ext cx="2266920" cy="42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58"/>
          <p:cNvGrpSpPr/>
          <p:nvPr/>
        </p:nvGrpSpPr>
        <p:grpSpPr>
          <a:xfrm>
            <a:off x="1908000" y="1742760"/>
            <a:ext cx="2683440" cy="3800880"/>
            <a:chOff x="1908000" y="1742760"/>
            <a:chExt cx="2683440" cy="3800880"/>
          </a:xfrm>
        </p:grpSpPr>
        <p:cxnSp>
          <p:nvCxnSpPr>
            <p:cNvPr id="2017" name="Straight Arrow Connector 37"/>
            <p:cNvCxnSpPr/>
            <p:nvPr/>
          </p:nvCxnSpPr>
          <p:spPr>
            <a:xfrm>
              <a:off x="4590720" y="1742760"/>
              <a:ext cx="1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2018" name="Group 53"/>
            <p:cNvGrpSpPr/>
            <p:nvPr/>
          </p:nvGrpSpPr>
          <p:grpSpPr>
            <a:xfrm>
              <a:off x="1908000" y="2108160"/>
              <a:ext cx="2536920" cy="3435480"/>
              <a:chOff x="1908000" y="2108160"/>
              <a:chExt cx="2536920" cy="3435480"/>
            </a:xfrm>
          </p:grpSpPr>
          <p:grpSp>
            <p:nvGrpSpPr>
              <p:cNvPr id="2019" name="Group 50"/>
              <p:cNvGrpSpPr/>
              <p:nvPr/>
            </p:nvGrpSpPr>
            <p:grpSpPr>
              <a:xfrm>
                <a:off x="2045520" y="3287880"/>
                <a:ext cx="2399400" cy="2255760"/>
                <a:chOff x="2045520" y="3287880"/>
                <a:chExt cx="2399400" cy="2255760"/>
              </a:xfrm>
            </p:grpSpPr>
            <p:sp>
              <p:nvSpPr>
                <p:cNvPr id="2020" name="TextBox 7"/>
                <p:cNvSpPr/>
                <p:nvPr/>
              </p:nvSpPr>
              <p:spPr>
                <a:xfrm>
                  <a:off x="3289680" y="4962240"/>
                  <a:ext cx="38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1" name="Group 19"/>
                <p:cNvGrpSpPr/>
                <p:nvPr/>
              </p:nvGrpSpPr>
              <p:grpSpPr>
                <a:xfrm>
                  <a:off x="2045520" y="3287880"/>
                  <a:ext cx="2399400" cy="1285200"/>
                  <a:chOff x="2045520" y="3287880"/>
                  <a:chExt cx="2399400" cy="1285200"/>
                </a:xfrm>
              </p:grpSpPr>
              <p:sp>
                <p:nvSpPr>
                  <p:cNvPr id="2022" name="TextBox 4"/>
                  <p:cNvSpPr/>
                  <p:nvPr/>
                </p:nvSpPr>
                <p:spPr>
                  <a:xfrm>
                    <a:off x="3094560" y="336204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TextBox 8"/>
                  <p:cNvSpPr/>
                  <p:nvPr/>
                </p:nvSpPr>
                <p:spPr>
                  <a:xfrm>
                    <a:off x="3922200" y="337428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4" name="Group 18"/>
                  <p:cNvGrpSpPr/>
                  <p:nvPr/>
                </p:nvGrpSpPr>
                <p:grpSpPr>
                  <a:xfrm>
                    <a:off x="2045520" y="3287880"/>
                    <a:ext cx="2399400" cy="1285200"/>
                    <a:chOff x="2045520" y="3287880"/>
                    <a:chExt cx="2399400" cy="1285200"/>
                  </a:xfrm>
                </p:grpSpPr>
                <p:sp>
                  <p:nvSpPr>
                    <p:cNvPr id="2025" name="TextBox 5"/>
                    <p:cNvSpPr/>
                    <p:nvPr/>
                  </p:nvSpPr>
                  <p:spPr>
                    <a:xfrm>
                      <a:off x="3264480" y="356760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TextBox 6"/>
                    <p:cNvSpPr/>
                    <p:nvPr/>
                  </p:nvSpPr>
                  <p:spPr>
                    <a:xfrm>
                      <a:off x="2045520" y="39916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TextBox 9"/>
                    <p:cNvSpPr/>
                    <p:nvPr/>
                  </p:nvSpPr>
                  <p:spPr>
                    <a:xfrm>
                      <a:off x="4061520" y="32878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8" name="Straight Connector 30"/>
              <p:cNvSpPr/>
              <p:nvPr/>
            </p:nvSpPr>
            <p:spPr>
              <a:xfrm>
                <a:off x="2431800" y="2552760"/>
                <a:ext cx="760320" cy="1052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31"/>
              <p:cNvSpPr/>
              <p:nvPr/>
            </p:nvSpPr>
            <p:spPr>
              <a:xfrm>
                <a:off x="2549520" y="2378160"/>
                <a:ext cx="1563840" cy="11509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Box 27"/>
              <p:cNvSpPr/>
              <p:nvPr/>
            </p:nvSpPr>
            <p:spPr>
              <a:xfrm>
                <a:off x="1908000" y="2108160"/>
                <a:ext cx="659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i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1" name="Group 73"/>
          <p:cNvGrpSpPr/>
          <p:nvPr/>
        </p:nvGrpSpPr>
        <p:grpSpPr>
          <a:xfrm>
            <a:off x="4932360" y="2490840"/>
            <a:ext cx="950760" cy="3103560"/>
            <a:chOff x="4932360" y="2490840"/>
            <a:chExt cx="950760" cy="3103560"/>
          </a:xfrm>
        </p:grpSpPr>
        <p:sp>
          <p:nvSpPr>
            <p:cNvPr id="2032" name="Freeform 66"/>
            <p:cNvSpPr/>
            <p:nvPr/>
          </p:nvSpPr>
          <p:spPr>
            <a:xfrm>
              <a:off x="5208480" y="24908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67"/>
            <p:cNvSpPr/>
            <p:nvPr/>
          </p:nvSpPr>
          <p:spPr>
            <a:xfrm>
              <a:off x="4932360" y="37022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68"/>
            <p:cNvSpPr/>
            <p:nvPr/>
          </p:nvSpPr>
          <p:spPr>
            <a:xfrm>
              <a:off x="4960800" y="4843440"/>
              <a:ext cx="725400" cy="750960"/>
            </a:xfrm>
            <a:custGeom>
              <a:avLst/>
              <a:gdLst/>
              <a:ahLst/>
              <a:rect l="l" t="t" r="r" b="b"/>
              <a:pathLst>
                <a:path w="725646" h="750162">
                  <a:moveTo>
                    <a:pt x="509450" y="0"/>
                  </a:moveTo>
                  <a:cubicBezTo>
                    <a:pt x="805542" y="375557"/>
                    <a:pt x="738050" y="424541"/>
                    <a:pt x="653142" y="548638"/>
                  </a:cubicBezTo>
                  <a:cubicBezTo>
                    <a:pt x="568234" y="672735"/>
                    <a:pt x="419643" y="775606"/>
                    <a:pt x="0" y="744582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Freeform 69"/>
          <p:cNvSpPr/>
          <p:nvPr/>
        </p:nvSpPr>
        <p:spPr>
          <a:xfrm>
            <a:off x="3556080" y="3952800"/>
            <a:ext cx="587160" cy="67968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arrow" w="med"/>
            <a:tailEnd len="med" type="arrow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6" name="Group 76"/>
          <p:cNvGrpSpPr/>
          <p:nvPr/>
        </p:nvGrpSpPr>
        <p:grpSpPr>
          <a:xfrm>
            <a:off x="1455480" y="3567240"/>
            <a:ext cx="780840" cy="1709640"/>
            <a:chOff x="1455480" y="3567240"/>
            <a:chExt cx="780840" cy="1709640"/>
          </a:xfrm>
        </p:grpSpPr>
        <p:sp>
          <p:nvSpPr>
            <p:cNvPr id="2037" name="Freeform 70"/>
            <p:cNvSpPr/>
            <p:nvPr/>
          </p:nvSpPr>
          <p:spPr>
            <a:xfrm flipH="1">
              <a:off x="1455120" y="459756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71"/>
            <p:cNvSpPr/>
            <p:nvPr/>
          </p:nvSpPr>
          <p:spPr>
            <a:xfrm flipH="1">
              <a:off x="1650240" y="356724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Freeform 72"/>
          <p:cNvSpPr/>
          <p:nvPr/>
        </p:nvSpPr>
        <p:spPr>
          <a:xfrm flipH="1">
            <a:off x="771480" y="5156280"/>
            <a:ext cx="587520" cy="67932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arrow" w="med"/>
            <a:tailEnd len="med" type="arrow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80"/>
          <p:cNvGrpSpPr/>
          <p:nvPr/>
        </p:nvGrpSpPr>
        <p:grpSpPr>
          <a:xfrm>
            <a:off x="3498120" y="1967760"/>
            <a:ext cx="5112360" cy="3350160"/>
            <a:chOff x="3498120" y="1967760"/>
            <a:chExt cx="5112360" cy="3350160"/>
          </a:xfrm>
        </p:grpSpPr>
        <p:sp>
          <p:nvSpPr>
            <p:cNvPr id="2041" name="Freeform 78"/>
            <p:cNvSpPr/>
            <p:nvPr/>
          </p:nvSpPr>
          <p:spPr>
            <a:xfrm rot="19320000">
              <a:off x="3644640" y="2076120"/>
              <a:ext cx="58716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Box 79"/>
            <p:cNvSpPr/>
            <p:nvPr/>
          </p:nvSpPr>
          <p:spPr>
            <a:xfrm>
              <a:off x="6172200" y="46753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e46c0a"/>
                </a:buClr>
                <a:buFont typeface="Calibri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Country to cou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barriers to spill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TextBox 81"/>
          <p:cNvSpPr/>
          <p:nvPr/>
        </p:nvSpPr>
        <p:spPr>
          <a:xfrm>
            <a:off x="338400" y="282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 Monitoring and Reporting S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Group 83"/>
          <p:cNvGrpSpPr/>
          <p:nvPr/>
        </p:nvGrpSpPr>
        <p:grpSpPr>
          <a:xfrm>
            <a:off x="5529240" y="287280"/>
            <a:ext cx="3538440" cy="4443480"/>
            <a:chOff x="5529240" y="287280"/>
            <a:chExt cx="3538440" cy="4443480"/>
          </a:xfrm>
        </p:grpSpPr>
        <p:grpSp>
          <p:nvGrpSpPr>
            <p:cNvPr id="2045" name="Group 77"/>
            <p:cNvGrpSpPr/>
            <p:nvPr/>
          </p:nvGrpSpPr>
          <p:grpSpPr>
            <a:xfrm>
              <a:off x="6019200" y="1742760"/>
              <a:ext cx="3048480" cy="2988000"/>
              <a:chOff x="6019200" y="1742760"/>
              <a:chExt cx="3048480" cy="2988000"/>
            </a:xfrm>
          </p:grpSpPr>
          <p:sp>
            <p:nvSpPr>
              <p:cNvPr id="2046" name="TextBox 74"/>
              <p:cNvSpPr/>
              <p:nvPr/>
            </p:nvSpPr>
            <p:spPr>
              <a:xfrm>
                <a:off x="6019200" y="1742760"/>
                <a:ext cx="289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Fostering Spillover by Desig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TextBox 75"/>
              <p:cNvSpPr/>
              <p:nvPr/>
            </p:nvSpPr>
            <p:spPr>
              <a:xfrm>
                <a:off x="6171480" y="2167920"/>
                <a:ext cx="28962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sites to local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to non-implementation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ub-systems to (sub-)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ystems to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ites to si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TextBox 82"/>
            <p:cNvSpPr/>
            <p:nvPr/>
          </p:nvSpPr>
          <p:spPr>
            <a:xfrm>
              <a:off x="5529240" y="287280"/>
              <a:ext cx="279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alibri"/>
                </a:rPr>
                <a:t>&amp; Spillover Nee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neation and characterization (typologies?) of target farming system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lies on the fusion of spatially-explicit agricultural production, environmental, and farm/household data, and a conceptual model of impact pathways/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Technology/Intervention Inventor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aracterized inventory of the nature of the individual and integrated farming system components whose adoption and impacts is being evaluated. Includes characterization of spillover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sive Modeling of Projected Change (with and w/o interventions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roductivity and income change, land, labour (sex differentiated) and wate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ion assessmen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to the ability to measure and model change in indicators is the need (with additional information/assumptions) to assess attribution of changes to an agreed level of specif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1" name="Group 71"/>
          <p:cNvGrpSpPr/>
          <p:nvPr/>
        </p:nvGrpSpPr>
        <p:grpSpPr>
          <a:xfrm>
            <a:off x="492840" y="4594320"/>
            <a:ext cx="7230960" cy="2165400"/>
            <a:chOff x="492840" y="4594320"/>
            <a:chExt cx="7230960" cy="2165400"/>
          </a:xfrm>
        </p:grpSpPr>
        <p:grpSp>
          <p:nvGrpSpPr>
            <p:cNvPr id="2052" name="Group 63"/>
            <p:cNvGrpSpPr/>
            <p:nvPr/>
          </p:nvGrpSpPr>
          <p:grpSpPr>
            <a:xfrm>
              <a:off x="833760" y="4594320"/>
              <a:ext cx="6814440" cy="2143800"/>
              <a:chOff x="833760" y="4594320"/>
              <a:chExt cx="6814440" cy="2143800"/>
            </a:xfrm>
          </p:grpSpPr>
          <p:grpSp>
            <p:nvGrpSpPr>
              <p:cNvPr id="2053" name="Group 57"/>
              <p:cNvGrpSpPr/>
              <p:nvPr/>
            </p:nvGrpSpPr>
            <p:grpSpPr>
              <a:xfrm>
                <a:off x="833760" y="4594320"/>
                <a:ext cx="6814440" cy="2143800"/>
                <a:chOff x="833760" y="4594320"/>
                <a:chExt cx="6814440" cy="2143800"/>
              </a:xfrm>
            </p:grpSpPr>
            <p:grpSp>
              <p:nvGrpSpPr>
                <p:cNvPr id="2054" name="Group 43"/>
                <p:cNvGrpSpPr/>
                <p:nvPr/>
              </p:nvGrpSpPr>
              <p:grpSpPr>
                <a:xfrm>
                  <a:off x="1612440" y="4877280"/>
                  <a:ext cx="6035760" cy="1434960"/>
                  <a:chOff x="1612440" y="4877280"/>
                  <a:chExt cx="6035760" cy="1434960"/>
                </a:xfrm>
              </p:grpSpPr>
              <p:sp>
                <p:nvSpPr>
                  <p:cNvPr id="2055" name="Freeform 33"/>
                  <p:cNvSpPr/>
                  <p:nvPr/>
                </p:nvSpPr>
                <p:spPr>
                  <a:xfrm>
                    <a:off x="1652040" y="4958280"/>
                    <a:ext cx="5794560" cy="13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580593" y="1141784"/>
                          <a:pt x="817581" y="1025435"/>
                        </a:cubicBezTo>
                        <a:cubicBezTo>
                          <a:pt x="1054569" y="909086"/>
                          <a:pt x="1198072" y="731868"/>
                          <a:pt x="1421930" y="619717"/>
                        </a:cubicBezTo>
                        <a:cubicBezTo>
                          <a:pt x="1645788" y="507566"/>
                          <a:pt x="1919610" y="404673"/>
                          <a:pt x="2160728" y="352531"/>
                        </a:cubicBezTo>
                        <a:cubicBezTo>
                          <a:pt x="2401846" y="300389"/>
                          <a:pt x="2594590" y="348455"/>
                          <a:pt x="2868637" y="306868"/>
                        </a:cubicBezTo>
                        <a:cubicBezTo>
                          <a:pt x="3142684" y="265281"/>
                          <a:pt x="3317168" y="154154"/>
                          <a:pt x="3805009" y="103009"/>
                        </a:cubicBezTo>
                        <a:cubicBezTo>
                          <a:pt x="4292850" y="51864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Straight Connector 34"/>
                  <p:cNvSpPr/>
                  <p:nvPr/>
                </p:nvSpPr>
                <p:spPr>
                  <a:xfrm>
                    <a:off x="5456520" y="5061600"/>
                    <a:ext cx="1990080" cy="12333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Isosceles Triangle 35"/>
                  <p:cNvSpPr/>
                  <p:nvPr/>
                </p:nvSpPr>
                <p:spPr>
                  <a:xfrm>
                    <a:off x="1612440" y="4988520"/>
                    <a:ext cx="5727960" cy="131760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Rectangle 36"/>
                  <p:cNvSpPr/>
                  <p:nvPr/>
                </p:nvSpPr>
                <p:spPr>
                  <a:xfrm>
                    <a:off x="4724640" y="4877280"/>
                    <a:ext cx="2923560" cy="143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Freeform 37"/>
                  <p:cNvSpPr/>
                  <p:nvPr/>
                </p:nvSpPr>
                <p:spPr>
                  <a:xfrm>
                    <a:off x="4712040" y="5123520"/>
                    <a:ext cx="2672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3658" h="108777">
                        <a:moveTo>
                          <a:pt x="0" y="107240"/>
                        </a:moveTo>
                        <a:cubicBezTo>
                          <a:pt x="297410" y="63706"/>
                          <a:pt x="688771" y="14516"/>
                          <a:pt x="996494" y="2780"/>
                        </a:cubicBezTo>
                        <a:cubicBezTo>
                          <a:pt x="1304217" y="-8956"/>
                          <a:pt x="1566811" y="19155"/>
                          <a:pt x="1846338" y="36821"/>
                        </a:cubicBezTo>
                        <a:lnTo>
                          <a:pt x="2673658" y="108777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Straight Connector 38"/>
                  <p:cNvSpPr/>
                  <p:nvPr/>
                </p:nvSpPr>
                <p:spPr>
                  <a:xfrm>
                    <a:off x="1652040" y="6304320"/>
                    <a:ext cx="579456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Straight Connector 47"/>
                <p:cNvSpPr/>
                <p:nvPr/>
              </p:nvSpPr>
              <p:spPr>
                <a:xfrm>
                  <a:off x="833760" y="6314400"/>
                  <a:ext cx="28954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TextBox 52"/>
                <p:cNvSpPr/>
                <p:nvPr/>
              </p:nvSpPr>
              <p:spPr>
                <a:xfrm>
                  <a:off x="4419000" y="636984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Straight Connector 55"/>
                <p:cNvSpPr/>
                <p:nvPr/>
              </p:nvSpPr>
              <p:spPr>
                <a:xfrm>
                  <a:off x="851040" y="4594320"/>
                  <a:ext cx="4680" cy="17456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Straight Connector 62"/>
              <p:cNvSpPr/>
              <p:nvPr/>
            </p:nvSpPr>
            <p:spPr>
              <a:xfrm>
                <a:off x="4741920" y="5005440"/>
                <a:ext cx="0" cy="128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TextBox 66"/>
            <p:cNvSpPr/>
            <p:nvPr/>
          </p:nvSpPr>
          <p:spPr>
            <a:xfrm>
              <a:off x="707976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Box 68"/>
            <p:cNvSpPr/>
            <p:nvPr/>
          </p:nvSpPr>
          <p:spPr>
            <a:xfrm>
              <a:off x="49284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69"/>
          <p:cNvGrpSpPr/>
          <p:nvPr/>
        </p:nvGrpSpPr>
        <p:grpSpPr>
          <a:xfrm>
            <a:off x="542160" y="1036800"/>
            <a:ext cx="7181640" cy="2254320"/>
            <a:chOff x="542160" y="1036800"/>
            <a:chExt cx="7181640" cy="2254320"/>
          </a:xfrm>
        </p:grpSpPr>
        <p:grpSp>
          <p:nvGrpSpPr>
            <p:cNvPr id="2068" name="Group 39"/>
            <p:cNvGrpSpPr/>
            <p:nvPr/>
          </p:nvGrpSpPr>
          <p:grpSpPr>
            <a:xfrm>
              <a:off x="1626840" y="1353960"/>
              <a:ext cx="6036480" cy="1434240"/>
              <a:chOff x="1626840" y="1353960"/>
              <a:chExt cx="6036480" cy="1434240"/>
            </a:xfrm>
          </p:grpSpPr>
          <p:sp>
            <p:nvSpPr>
              <p:cNvPr id="2069" name="Freeform 3"/>
              <p:cNvSpPr/>
              <p:nvPr/>
            </p:nvSpPr>
            <p:spPr>
              <a:xfrm>
                <a:off x="1666440" y="1434960"/>
                <a:ext cx="5795280" cy="1316880"/>
              </a:xfrm>
              <a:custGeom>
                <a:avLst/>
                <a:gdLst/>
                <a:ahLst/>
                <a:rect l="l" t="t" r="r" b="b"/>
                <a:pathLst>
                  <a:path w="5795682" h="1317812">
                    <a:moveTo>
                      <a:pt x="0" y="1317812"/>
                    </a:moveTo>
                    <a:cubicBezTo>
                      <a:pt x="254373" y="1285315"/>
                      <a:pt x="443433" y="1252818"/>
                      <a:pt x="660827" y="1143000"/>
                    </a:cubicBezTo>
                    <a:cubicBezTo>
                      <a:pt x="878221" y="1033182"/>
                      <a:pt x="1015192" y="797182"/>
                      <a:pt x="1304364" y="658906"/>
                    </a:cubicBezTo>
                    <a:cubicBezTo>
                      <a:pt x="1593536" y="520630"/>
                      <a:pt x="1979086" y="405991"/>
                      <a:pt x="2395860" y="313342"/>
                    </a:cubicBezTo>
                    <a:cubicBezTo>
                      <a:pt x="2812634" y="220693"/>
                      <a:pt x="3238372" y="155233"/>
                      <a:pt x="3805009" y="103009"/>
                    </a:cubicBezTo>
                    <a:cubicBezTo>
                      <a:pt x="4371646" y="50785"/>
                      <a:pt x="5132124" y="34336"/>
                      <a:pt x="5795682" y="0"/>
                    </a:cubicBez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9"/>
              <p:cNvSpPr/>
              <p:nvPr/>
            </p:nvSpPr>
            <p:spPr>
              <a:xfrm>
                <a:off x="7461720" y="1434960"/>
                <a:ext cx="0" cy="133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Isosceles Triangle 10"/>
              <p:cNvSpPr/>
              <p:nvPr/>
            </p:nvSpPr>
            <p:spPr>
              <a:xfrm>
                <a:off x="1626840" y="1464840"/>
                <a:ext cx="5728680" cy="1316880"/>
              </a:xfrm>
              <a:prstGeom prst="triangle">
                <a:avLst>
                  <a:gd name="adj" fmla="val 10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25"/>
              <p:cNvSpPr/>
              <p:nvPr/>
            </p:nvSpPr>
            <p:spPr>
              <a:xfrm>
                <a:off x="3395520" y="1353960"/>
                <a:ext cx="4267800" cy="143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"/>
              <p:cNvSpPr/>
              <p:nvPr/>
            </p:nvSpPr>
            <p:spPr>
              <a:xfrm>
                <a:off x="3381120" y="1434960"/>
                <a:ext cx="4031280" cy="493920"/>
              </a:xfrm>
              <a:custGeom>
                <a:avLst/>
                <a:gdLst/>
                <a:ahLst/>
                <a:rect l="l" t="t" r="r" b="b"/>
                <a:pathLst>
                  <a:path w="4032196" h="494852">
                    <a:moveTo>
                      <a:pt x="0" y="494852"/>
                    </a:moveTo>
                    <a:cubicBezTo>
                      <a:pt x="31536" y="477483"/>
                      <a:pt x="354169" y="388491"/>
                      <a:pt x="386506" y="372291"/>
                    </a:cubicBezTo>
                    <a:cubicBezTo>
                      <a:pt x="418843" y="356091"/>
                      <a:pt x="153042" y="407475"/>
                      <a:pt x="194020" y="397650"/>
                    </a:cubicBezTo>
                    <a:cubicBezTo>
                      <a:pt x="234998" y="387825"/>
                      <a:pt x="324457" y="362449"/>
                      <a:pt x="632374" y="313342"/>
                    </a:cubicBezTo>
                    <a:cubicBezTo>
                      <a:pt x="940291" y="264235"/>
                      <a:pt x="1474886" y="155233"/>
                      <a:pt x="2041523" y="103009"/>
                    </a:cubicBezTo>
                    <a:cubicBezTo>
                      <a:pt x="2608160" y="50785"/>
                      <a:pt x="3368638" y="34336"/>
                      <a:pt x="403219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26"/>
              <p:cNvSpPr/>
              <p:nvPr/>
            </p:nvSpPr>
            <p:spPr>
              <a:xfrm>
                <a:off x="1666440" y="2780280"/>
                <a:ext cx="5795280" cy="0"/>
              </a:xfrm>
              <a:prstGeom prst="line">
                <a:avLst/>
              </a:prstGeom>
              <a:ln w="22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5" name="Straight Connector 41"/>
            <p:cNvSpPr/>
            <p:nvPr/>
          </p:nvSpPr>
          <p:spPr>
            <a:xfrm>
              <a:off x="833400" y="1036800"/>
              <a:ext cx="4680" cy="174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Straight Connector 45"/>
            <p:cNvSpPr/>
            <p:nvPr/>
          </p:nvSpPr>
          <p:spPr>
            <a:xfrm>
              <a:off x="838080" y="2789280"/>
              <a:ext cx="2895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TextBox 48"/>
            <p:cNvSpPr/>
            <p:nvPr/>
          </p:nvSpPr>
          <p:spPr>
            <a:xfrm>
              <a:off x="542160" y="2895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Box 49"/>
            <p:cNvSpPr/>
            <p:nvPr/>
          </p:nvSpPr>
          <p:spPr>
            <a:xfrm>
              <a:off x="3085200" y="2922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Straight Connector 59"/>
            <p:cNvSpPr/>
            <p:nvPr/>
          </p:nvSpPr>
          <p:spPr>
            <a:xfrm>
              <a:off x="3378240" y="1465200"/>
              <a:ext cx="0" cy="1287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TextBox 64"/>
            <p:cNvSpPr/>
            <p:nvPr/>
          </p:nvSpPr>
          <p:spPr>
            <a:xfrm>
              <a:off x="7079760" y="290232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70"/>
          <p:cNvGrpSpPr/>
          <p:nvPr/>
        </p:nvGrpSpPr>
        <p:grpSpPr>
          <a:xfrm>
            <a:off x="511920" y="2814480"/>
            <a:ext cx="7211880" cy="2246760"/>
            <a:chOff x="511920" y="2814480"/>
            <a:chExt cx="7211880" cy="2246760"/>
          </a:xfrm>
        </p:grpSpPr>
        <p:grpSp>
          <p:nvGrpSpPr>
            <p:cNvPr id="2082" name="Group 61"/>
            <p:cNvGrpSpPr/>
            <p:nvPr/>
          </p:nvGrpSpPr>
          <p:grpSpPr>
            <a:xfrm>
              <a:off x="834120" y="2814480"/>
              <a:ext cx="6821640" cy="2245320"/>
              <a:chOff x="834120" y="2814480"/>
              <a:chExt cx="6821640" cy="2245320"/>
            </a:xfrm>
          </p:grpSpPr>
          <p:grpSp>
            <p:nvGrpSpPr>
              <p:cNvPr id="2083" name="Group 56"/>
              <p:cNvGrpSpPr/>
              <p:nvPr/>
            </p:nvGrpSpPr>
            <p:grpSpPr>
              <a:xfrm>
                <a:off x="834120" y="2814480"/>
                <a:ext cx="6821640" cy="2245320"/>
                <a:chOff x="834120" y="2814480"/>
                <a:chExt cx="6821640" cy="2245320"/>
              </a:xfrm>
            </p:grpSpPr>
            <p:sp>
              <p:nvSpPr>
                <p:cNvPr id="2084" name="Straight Connector 54"/>
                <p:cNvSpPr/>
                <p:nvPr/>
              </p:nvSpPr>
              <p:spPr>
                <a:xfrm>
                  <a:off x="842040" y="2814480"/>
                  <a:ext cx="4680" cy="174672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5" name="Group 42"/>
                <p:cNvGrpSpPr/>
                <p:nvPr/>
              </p:nvGrpSpPr>
              <p:grpSpPr>
                <a:xfrm>
                  <a:off x="1619280" y="3154320"/>
                  <a:ext cx="6036480" cy="1435680"/>
                  <a:chOff x="1619280" y="3154320"/>
                  <a:chExt cx="6036480" cy="1435680"/>
                </a:xfrm>
              </p:grpSpPr>
              <p:sp>
                <p:nvSpPr>
                  <p:cNvPr id="2086" name="Freeform 27"/>
                  <p:cNvSpPr/>
                  <p:nvPr/>
                </p:nvSpPr>
                <p:spPr>
                  <a:xfrm>
                    <a:off x="1658880" y="3235320"/>
                    <a:ext cx="5795280" cy="131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421662" y="1235400"/>
                          <a:pt x="660827" y="1143000"/>
                        </a:cubicBezTo>
                        <a:cubicBezTo>
                          <a:pt x="899992" y="1050600"/>
                          <a:pt x="1145821" y="901685"/>
                          <a:pt x="1434993" y="763409"/>
                        </a:cubicBezTo>
                        <a:cubicBezTo>
                          <a:pt x="1724165" y="625133"/>
                          <a:pt x="2000857" y="423409"/>
                          <a:pt x="2395860" y="313342"/>
                        </a:cubicBezTo>
                        <a:cubicBezTo>
                          <a:pt x="2790863" y="203275"/>
                          <a:pt x="3238372" y="155233"/>
                          <a:pt x="3805009" y="103009"/>
                        </a:cubicBezTo>
                        <a:cubicBezTo>
                          <a:pt x="4371646" y="50785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Straight Connector 28"/>
                  <p:cNvSpPr/>
                  <p:nvPr/>
                </p:nvSpPr>
                <p:spPr>
                  <a:xfrm>
                    <a:off x="7454160" y="3235320"/>
                    <a:ext cx="0" cy="133740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Isosceles Triangle 29"/>
                  <p:cNvSpPr/>
                  <p:nvPr/>
                </p:nvSpPr>
                <p:spPr>
                  <a:xfrm>
                    <a:off x="1619280" y="3265200"/>
                    <a:ext cx="5728680" cy="131832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Rectangle 30"/>
                  <p:cNvSpPr/>
                  <p:nvPr/>
                </p:nvSpPr>
                <p:spPr>
                  <a:xfrm>
                    <a:off x="3936240" y="3154320"/>
                    <a:ext cx="3719520" cy="143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Freeform 31"/>
                  <p:cNvSpPr/>
                  <p:nvPr/>
                </p:nvSpPr>
                <p:spPr>
                  <a:xfrm>
                    <a:off x="3987000" y="3235320"/>
                    <a:ext cx="36608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18241" h="311972">
                        <a:moveTo>
                          <a:pt x="0" y="311972"/>
                        </a:moveTo>
                        <a:cubicBezTo>
                          <a:pt x="40421" y="291722"/>
                          <a:pt x="321852" y="236534"/>
                          <a:pt x="559780" y="201707"/>
                        </a:cubicBezTo>
                        <a:cubicBezTo>
                          <a:pt x="797708" y="166880"/>
                          <a:pt x="951158" y="136627"/>
                          <a:pt x="1427568" y="103009"/>
                        </a:cubicBezTo>
                        <a:cubicBezTo>
                          <a:pt x="1903978" y="69391"/>
                          <a:pt x="2754683" y="34336"/>
                          <a:pt x="341824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Straight Connector 32"/>
                  <p:cNvSpPr/>
                  <p:nvPr/>
                </p:nvSpPr>
                <p:spPr>
                  <a:xfrm>
                    <a:off x="1658880" y="4582080"/>
                    <a:ext cx="579528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2" name="Straight Connector 46"/>
                <p:cNvSpPr/>
                <p:nvPr/>
              </p:nvSpPr>
              <p:spPr>
                <a:xfrm>
                  <a:off x="834120" y="4589640"/>
                  <a:ext cx="289440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TextBox 51"/>
                <p:cNvSpPr/>
                <p:nvPr/>
              </p:nvSpPr>
              <p:spPr>
                <a:xfrm>
                  <a:off x="3564360" y="469152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Straight Connector 60"/>
              <p:cNvSpPr/>
              <p:nvPr/>
            </p:nvSpPr>
            <p:spPr>
              <a:xfrm>
                <a:off x="3949560" y="3292200"/>
                <a:ext cx="0" cy="1289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TextBox 67"/>
            <p:cNvSpPr/>
            <p:nvPr/>
          </p:nvSpPr>
          <p:spPr>
            <a:xfrm>
              <a:off x="511920" y="46832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Box 65"/>
            <p:cNvSpPr/>
            <p:nvPr/>
          </p:nvSpPr>
          <p:spPr>
            <a:xfrm>
              <a:off x="7079760" y="469296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TextBox 72"/>
          <p:cNvSpPr/>
          <p:nvPr/>
        </p:nvSpPr>
        <p:spPr>
          <a:xfrm>
            <a:off x="1102680" y="34308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nual Evaluation of Past and Projected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Box 73"/>
          <p:cNvSpPr/>
          <p:nvPr/>
        </p:nvSpPr>
        <p:spPr>
          <a:xfrm>
            <a:off x="838080" y="10368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rease in productivity or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. Daily Temperature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0" name="Content Placeholder 8" descr="temperatur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0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0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0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4" name="Straight Connector 6"/>
              <p:cNvCxnSpPr>
                <a:stCxn id="210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0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Box 2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nfall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0" name="Content Placeholder 8" descr="prep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1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1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1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4" name="Straight Connector 6"/>
              <p:cNvCxnSpPr>
                <a:stCxn id="211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Box 11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an 2001-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0" name="Content Placeholder 8" descr="NDVI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2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2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2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4" name="Straight Connector 6"/>
              <p:cNvCxnSpPr>
                <a:stCxn id="212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2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9" name="Content Placeholder 8" descr="NDVI_std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31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32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3" name="Straight Connector 6"/>
              <p:cNvCxnSpPr>
                <a:stCxn id="2132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34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D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8" name="Content Placeholder 8" descr="popden_africover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4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4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2" name="Straight Connector 6"/>
              <p:cNvCxnSpPr>
                <a:stCxn id="214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Box 2"/>
          <p:cNvSpPr/>
          <p:nvPr/>
        </p:nvSpPr>
        <p:spPr>
          <a:xfrm>
            <a:off x="464040" y="6440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Pop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ime to Towns &gt;50K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8" name="Content Placeholder 13" descr="traveltim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4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5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5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2" name="Straight Connector 6"/>
              <p:cNvCxnSpPr>
                <a:stCxn id="215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5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TextBox 8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Box 2"/>
          <p:cNvSpPr/>
          <p:nvPr/>
        </p:nvSpPr>
        <p:spPr>
          <a:xfrm>
            <a:off x="302760" y="647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vestChoi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761760" y="1371600"/>
            <a:ext cx="835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M&amp;E Guiding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on SI Program Targ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Reporting Sc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amp;E Data and Analys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land Int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8" name="Content Placeholder 14" descr="Cropland density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59" name="Group 12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6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61" name="TextBox 4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2" name="Straight Connector 6"/>
              <p:cNvCxnSpPr>
                <a:stCxn id="216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63" name="Straight Connector 10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TextBox 2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Box 3"/>
          <p:cNvSpPr/>
          <p:nvPr/>
        </p:nvSpPr>
        <p:spPr>
          <a:xfrm>
            <a:off x="334080" y="64562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ankutty et a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 Enterprise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8" name="Picture 4" descr="maize.png"/>
          <p:cNvPicPr/>
          <p:nvPr/>
        </p:nvPicPr>
        <p:blipFill>
          <a:blip r:embed="rId1"/>
          <a:stretch/>
        </p:blipFill>
        <p:spPr>
          <a:xfrm>
            <a:off x="1231920" y="1676520"/>
            <a:ext cx="2825640" cy="365760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rice.png"/>
          <p:cNvPicPr/>
          <p:nvPr/>
        </p:nvPicPr>
        <p:blipFill>
          <a:blip r:embed="rId2"/>
          <a:stretch/>
        </p:blipFill>
        <p:spPr>
          <a:xfrm>
            <a:off x="3998880" y="1676520"/>
            <a:ext cx="2616120" cy="36576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2" descr=""/>
          <p:cNvPicPr/>
          <p:nvPr/>
        </p:nvPicPr>
        <p:blipFill>
          <a:blip r:embed="rId3"/>
          <a:srcRect l="0" t="8532" r="0" b="0"/>
          <a:stretch/>
        </p:blipFill>
        <p:spPr>
          <a:xfrm>
            <a:off x="-457200" y="236232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3" descr="sorghum.png"/>
          <p:cNvPicPr/>
          <p:nvPr/>
        </p:nvPicPr>
        <p:blipFill>
          <a:blip r:embed="rId4"/>
          <a:stretch/>
        </p:blipFill>
        <p:spPr>
          <a:xfrm>
            <a:off x="6602400" y="1676520"/>
            <a:ext cx="2541600" cy="3657600"/>
          </a:xfrm>
          <a:prstGeom prst="rect">
            <a:avLst/>
          </a:prstGeom>
          <a:ln w="0">
            <a:noFill/>
          </a:ln>
        </p:spPr>
      </p:pic>
      <p:sp>
        <p:nvSpPr>
          <p:cNvPr id="2172" name="TextBox 7"/>
          <p:cNvSpPr/>
          <p:nvPr/>
        </p:nvSpPr>
        <p:spPr>
          <a:xfrm>
            <a:off x="1646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z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8"/>
          <p:cNvSpPr/>
          <p:nvPr/>
        </p:nvSpPr>
        <p:spPr>
          <a:xfrm>
            <a:off x="4273560" y="542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c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Box 9"/>
          <p:cNvSpPr/>
          <p:nvPr/>
        </p:nvSpPr>
        <p:spPr>
          <a:xfrm>
            <a:off x="6602400" y="54100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ghum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Box 2"/>
          <p:cNvSpPr/>
          <p:nvPr/>
        </p:nvSpPr>
        <p:spPr>
          <a:xfrm>
            <a:off x="205920" y="185904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TextBox 6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Content Placeholder 3" descr="cattlepng.png"/>
          <p:cNvPicPr/>
          <p:nvPr/>
        </p:nvPicPr>
        <p:blipFill>
          <a:blip r:embed="rId1"/>
          <a:stretch/>
        </p:blipFill>
        <p:spPr>
          <a:xfrm>
            <a:off x="3124080" y="2057400"/>
            <a:ext cx="2826000" cy="36576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2"/>
          <a:srcRect l="20613" t="14233" r="20409" b="0"/>
          <a:stretch/>
        </p:blipFill>
        <p:spPr>
          <a:xfrm>
            <a:off x="380880" y="2819520"/>
            <a:ext cx="2311560" cy="1569960"/>
          </a:xfrm>
          <a:prstGeom prst="rect">
            <a:avLst/>
          </a:prstGeom>
          <a:ln w="0">
            <a:noFill/>
          </a:ln>
        </p:spPr>
      </p:pic>
      <p:sp>
        <p:nvSpPr>
          <p:cNvPr id="2179" name="TextBox 5"/>
          <p:cNvSpPr/>
          <p:nvPr/>
        </p:nvSpPr>
        <p:spPr>
          <a:xfrm>
            <a:off x="3135240" y="5715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useholds Owning C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Household Enterprise Choices (cont.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Box 7"/>
          <p:cNvSpPr/>
          <p:nvPr/>
        </p:nvSpPr>
        <p:spPr>
          <a:xfrm>
            <a:off x="695160" y="23223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Box 8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3" name=""/>
          <p:cNvGraphicFramePr/>
          <p:nvPr/>
        </p:nvGraphicFramePr>
        <p:xfrm>
          <a:off x="152280" y="1905120"/>
          <a:ext cx="8686800" cy="3124080"/>
        </p:xfrm>
        <a:graphic>
          <a:graphicData uri="http://schemas.openxmlformats.org/drawingml/2006/table">
            <a:tbl>
              <a:tblPr/>
              <a:tblGrid>
                <a:gridCol w="513000"/>
                <a:gridCol w="2090520"/>
                <a:gridCol w="577800"/>
                <a:gridCol w="73080"/>
                <a:gridCol w="2081160"/>
                <a:gridCol w="586080"/>
                <a:gridCol w="61920"/>
                <a:gridCol w="2079360"/>
                <a:gridCol w="623880"/>
              </a:tblGrid>
              <a:tr h="3632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Reg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Focus Distri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king of HH Crop Enterprises: Gh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380880" y="5257800"/>
          <a:ext cx="7772400" cy="838080"/>
        </p:xfrm>
        <a:graphic>
          <a:graphicData uri="http://schemas.openxmlformats.org/drawingml/2006/table">
            <a:tbl>
              <a:tblPr/>
              <a:tblGrid>
                <a:gridCol w="747720"/>
                <a:gridCol w="3044880"/>
                <a:gridCol w="841320"/>
                <a:gridCol w="106560"/>
                <a:gridCol w="3031920"/>
              </a:tblGrid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GLSS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 considered are maize, rice, millet, cassava, cocoa, cocoyam, beans, eggplant, sorghum, yam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lpalm, okra, oranges, pawpaw, pepper, pineapples, plantain, tomatoes, 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6" name="Picture 3" descr=""/>
          <p:cNvPicPr/>
          <p:nvPr/>
        </p:nvPicPr>
        <p:blipFill>
          <a:blip r:embed="rId1"/>
          <a:stretch/>
        </p:blipFill>
        <p:spPr>
          <a:xfrm>
            <a:off x="406440" y="380880"/>
            <a:ext cx="83566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7" name="Diagram 10" descr=""/>
          <p:cNvPicPr/>
          <p:nvPr/>
        </p:nvPicPr>
        <p:blipFill>
          <a:blip r:embed="rId1"/>
          <a:stretch/>
        </p:blipFill>
        <p:spPr>
          <a:xfrm>
            <a:off x="12600" y="920880"/>
            <a:ext cx="3522600" cy="2535120"/>
          </a:xfrm>
          <a:prstGeom prst="rect">
            <a:avLst/>
          </a:prstGeom>
          <a:ln w="0">
            <a:noFill/>
          </a:ln>
        </p:spPr>
      </p:pic>
      <p:pic>
        <p:nvPicPr>
          <p:cNvPr id="2188" name="Diagram 8" descr=""/>
          <p:cNvPicPr/>
          <p:nvPr/>
        </p:nvPicPr>
        <p:blipFill>
          <a:blip r:embed="rId2"/>
          <a:stretch/>
        </p:blipFill>
        <p:spPr>
          <a:xfrm>
            <a:off x="285840" y="3925800"/>
            <a:ext cx="2963880" cy="186552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" descr="D:\Documents and Settings\JKOO\Desktop\Downloads\iStock\iStock_000005155468Illustra\thumbnail.jpg"/>
          <p:cNvPicPr/>
          <p:nvPr/>
        </p:nvPicPr>
        <p:blipFill>
          <a:blip r:embed="rId3"/>
          <a:stretch/>
        </p:blipFill>
        <p:spPr>
          <a:xfrm>
            <a:off x="2857680" y="1219320"/>
            <a:ext cx="2008080" cy="3805200"/>
          </a:xfrm>
          <a:prstGeom prst="rect">
            <a:avLst/>
          </a:prstGeom>
          <a:ln w="0">
            <a:noFill/>
          </a:ln>
        </p:spPr>
      </p:pic>
      <p:grpSp>
        <p:nvGrpSpPr>
          <p:cNvPr id="2190" name="Group 38"/>
          <p:cNvGrpSpPr/>
          <p:nvPr/>
        </p:nvGrpSpPr>
        <p:grpSpPr>
          <a:xfrm>
            <a:off x="4644720" y="2959200"/>
            <a:ext cx="2202120" cy="3927240"/>
            <a:chOff x="4644720" y="2959200"/>
            <a:chExt cx="2202120" cy="3927240"/>
          </a:xfrm>
        </p:grpSpPr>
        <p:pic>
          <p:nvPicPr>
            <p:cNvPr id="2191" name="Diagram 6" descr=""/>
            <p:cNvPicPr/>
            <p:nvPr/>
          </p:nvPicPr>
          <p:blipFill>
            <a:blip r:embed="rId4"/>
            <a:stretch/>
          </p:blipFill>
          <p:spPr>
            <a:xfrm>
              <a:off x="4734360" y="4471200"/>
              <a:ext cx="2112480" cy="24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Picture 5" descr="D:\Documents and Settings\JKOO\Local Settings\Temporary Internet Files\Content.IE5\VAIP9G55\MCj02802970000[1].wmf"/>
            <p:cNvPicPr/>
            <p:nvPr/>
          </p:nvPicPr>
          <p:blipFill>
            <a:blip r:embed="rId5">
              <a:lum bright="10000"/>
            </a:blip>
            <a:stretch/>
          </p:blipFill>
          <p:spPr>
            <a:xfrm flipH="1">
              <a:off x="4644720" y="2959200"/>
              <a:ext cx="1168200" cy="157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Diagram 7" descr=""/>
          <p:cNvPicPr/>
          <p:nvPr/>
        </p:nvPicPr>
        <p:blipFill>
          <a:blip r:embed="rId6"/>
          <a:stretch/>
        </p:blipFill>
        <p:spPr>
          <a:xfrm>
            <a:off x="2846520" y="5048280"/>
            <a:ext cx="1950840" cy="180972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29"/>
          <p:cNvSpPr/>
          <p:nvPr/>
        </p:nvSpPr>
        <p:spPr>
          <a:xfrm>
            <a:off x="6199200" y="210960"/>
            <a:ext cx="2489040" cy="37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0"/>
          <p:cNvSpPr/>
          <p:nvPr/>
        </p:nvSpPr>
        <p:spPr>
          <a:xfrm>
            <a:off x="6351480" y="363600"/>
            <a:ext cx="2489400" cy="373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1"/>
          <p:cNvSpPr/>
          <p:nvPr/>
        </p:nvSpPr>
        <p:spPr>
          <a:xfrm>
            <a:off x="6504120" y="515880"/>
            <a:ext cx="2489040" cy="382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"/>
          <p:cNvGraphicFramePr/>
          <p:nvPr/>
        </p:nvGraphicFramePr>
        <p:xfrm>
          <a:off x="6593040" y="1409760"/>
          <a:ext cx="2361960" cy="285732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PUTS/INDIC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ering d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maturity d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es/stov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iomass 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, biomass, L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, C and 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bal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198" name="Group 18"/>
          <p:cNvGrpSpPr/>
          <p:nvPr/>
        </p:nvGrpSpPr>
        <p:grpSpPr>
          <a:xfrm>
            <a:off x="6613560" y="609480"/>
            <a:ext cx="2260440" cy="825480"/>
            <a:chOff x="6613560" y="609480"/>
            <a:chExt cx="2260440" cy="825480"/>
          </a:xfrm>
        </p:grpSpPr>
        <p:pic>
          <p:nvPicPr>
            <p:cNvPr id="2199" name="Picture 3" descr=""/>
            <p:cNvPicPr/>
            <p:nvPr/>
          </p:nvPicPr>
          <p:blipFill>
            <a:blip r:embed="rId7"/>
            <a:stretch/>
          </p:blipFill>
          <p:spPr>
            <a:xfrm>
              <a:off x="6613560" y="615240"/>
              <a:ext cx="1133280" cy="8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Picture 49" descr="mz_2000.png"/>
            <p:cNvPicPr/>
            <p:nvPr/>
          </p:nvPicPr>
          <p:blipFill>
            <a:blip r:embed="rId8"/>
            <a:stretch/>
          </p:blipFill>
          <p:spPr>
            <a:xfrm>
              <a:off x="7731360" y="609480"/>
              <a:ext cx="114264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1" name="Rectangle 2"/>
          <p:cNvSpPr/>
          <p:nvPr/>
        </p:nvSpPr>
        <p:spPr>
          <a:xfrm>
            <a:off x="304920" y="328680"/>
            <a:ext cx="598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Cropping System Models as Mea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Tracking &amp; Forecast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Indicat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Box 17"/>
          <p:cNvSpPr/>
          <p:nvPr/>
        </p:nvSpPr>
        <p:spPr>
          <a:xfrm>
            <a:off x="240120" y="655020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Jawoo Koo (HarvestChoice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3" name="Picture 5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8997840" cy="4648320"/>
          </a:xfrm>
          <a:prstGeom prst="rect">
            <a:avLst/>
          </a:prstGeom>
          <a:ln w="0">
            <a:noFill/>
          </a:ln>
        </p:spPr>
      </p:pic>
      <p:sp>
        <p:nvSpPr>
          <p:cNvPr id="2204" name="TextBox 1"/>
          <p:cNvSpPr/>
          <p:nvPr/>
        </p:nvSpPr>
        <p:spPr>
          <a:xfrm>
            <a:off x="457200" y="252360"/>
            <a:ext cx="839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Responses by Region, Soil Response Class &amp; Management Intervention for Representative OPV and Hybrid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2206" name="TextBox 3"/>
          <p:cNvSpPr/>
          <p:nvPr/>
        </p:nvSpPr>
        <p:spPr>
          <a:xfrm>
            <a:off x="457200" y="252360"/>
            <a:ext cx="83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&amp;E Implementation Strategy (to d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 Core FtF Monitoring Obligation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with USAID Washington (e.g., agree required core indicators and reporting time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M&amp;E Coordinato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PRI to recruit SI M&amp;E Coordinator (Senior International Research position, likely based in Addis) with junior staff support in addition to DC-based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Implementation Allianc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Establish M&amp;E community (esp. evaluation methods and tools) to finalize project M&amp;E design, as well as guide, participate in and review M&amp;E work plans and deliverables (composition, e.g., M&amp;E specialist/liaison from involved CG centers, donor and national and regional part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Open-Access, Web-Based Platform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 host and make accessible SI M&amp;E plans, documents, and annual reports, as well as background publications, underlying datasets and, wherever possible, analytical tools. Promote and apply standards for farming system, technology and impact characteriz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M&amp;E Technical Me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igned with proposed Project-wide Annual meeting (Need for cross-site planning and review meetings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appropriate split of M&amp;E resources between M &amp; 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ope of donor’s minimum indicator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management versus strategic M&amp;E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s of implementation partners versus M&amp;E team in collecting/analysing indicator da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need to re-examine the rationale for specific focus sites and sub-syste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will join the M&amp;E Alliance/commu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y likely candidates for M&amp;E Coordinat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overall FtF core indicator guid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nd sub-system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. rice, maize, sorghum-based for 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SI syste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 the 3 “sites” (Sudano-Sahelian zone, Ethiopian Highlands, Eastern and Southern Afr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ward &amp; forward assessmen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 ante evaluations (projections) of key M&amp;E indicators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-up and out assessments (evaluate spillover potential/ options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amine the potential productivity and sustainability consequences of a range of adoption and geographic/system spillover pathways beyond actual implementation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2685960" y="5719680"/>
          <a:ext cx="6181920" cy="768600"/>
        </p:xfrm>
        <a:graphic>
          <a:graphicData uri="http://schemas.openxmlformats.org/drawingml/2006/table">
            <a:tbl>
              <a:tblPr/>
              <a:tblGrid>
                <a:gridCol w="870120"/>
                <a:gridCol w="711000"/>
                <a:gridCol w="741600"/>
                <a:gridCol w="1101600"/>
                <a:gridCol w="1733400"/>
                <a:gridCol w="102420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H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ttrib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Urban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com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Ex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roduc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puts, Tech Ad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3" name="Group 50"/>
          <p:cNvGrpSpPr/>
          <p:nvPr/>
        </p:nvGrpSpPr>
        <p:grpSpPr>
          <a:xfrm>
            <a:off x="611640" y="739800"/>
            <a:ext cx="8150040" cy="2430720"/>
            <a:chOff x="611640" y="739800"/>
            <a:chExt cx="8150040" cy="2430720"/>
          </a:xfrm>
        </p:grpSpPr>
        <p:grpSp>
          <p:nvGrpSpPr>
            <p:cNvPr id="1654" name="Group 51"/>
            <p:cNvGrpSpPr/>
            <p:nvPr/>
          </p:nvGrpSpPr>
          <p:grpSpPr>
            <a:xfrm>
              <a:off x="611640" y="739800"/>
              <a:ext cx="8150040" cy="2430720"/>
              <a:chOff x="611640" y="739800"/>
              <a:chExt cx="8150040" cy="2430720"/>
            </a:xfrm>
          </p:grpSpPr>
          <p:sp>
            <p:nvSpPr>
              <p:cNvPr id="1655" name="Text Box 52"/>
              <p:cNvSpPr/>
              <p:nvPr/>
            </p:nvSpPr>
            <p:spPr>
              <a:xfrm>
                <a:off x="611640" y="1623960"/>
                <a:ext cx="3434400" cy="10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Policy/Market Context &amp; Impa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ually geo-political/admin units (policie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stitutions) as the unifying concept an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object of analysi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Verdana"/>
                  </a:rPr>
                  <a:t>Commodity foc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6" name="Group 53"/>
              <p:cNvGrpSpPr/>
              <p:nvPr/>
            </p:nvGrpSpPr>
            <p:grpSpPr>
              <a:xfrm>
                <a:off x="4008600" y="739800"/>
                <a:ext cx="4753080" cy="2430720"/>
                <a:chOff x="4008600" y="739800"/>
                <a:chExt cx="4753080" cy="2430720"/>
              </a:xfrm>
            </p:grpSpPr>
            <p:grpSp>
              <p:nvGrpSpPr>
                <p:cNvPr id="1657" name="Group 54"/>
                <p:cNvGrpSpPr/>
                <p:nvPr/>
              </p:nvGrpSpPr>
              <p:grpSpPr>
                <a:xfrm>
                  <a:off x="4008600" y="739800"/>
                  <a:ext cx="2549880" cy="2430720"/>
                  <a:chOff x="4008600" y="739800"/>
                  <a:chExt cx="2549880" cy="2430720"/>
                </a:xfrm>
              </p:grpSpPr>
              <p:sp>
                <p:nvSpPr>
                  <p:cNvPr id="1658" name="Text Box 55"/>
                  <p:cNvSpPr/>
                  <p:nvPr/>
                </p:nvSpPr>
                <p:spPr>
                  <a:xfrm>
                    <a:off x="4332240" y="739800"/>
                    <a:ext cx="1904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Fix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Geographies of Analysi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59" name="Picture 5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008600" y="1108080"/>
                    <a:ext cx="25498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0" name="Text Box 57"/>
                  <p:cNvSpPr/>
                  <p:nvPr/>
                </p:nvSpPr>
                <p:spPr>
                  <a:xfrm>
                    <a:off x="4580640" y="2772000"/>
                    <a:ext cx="14259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e.g., IMPACT/WATER,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GTAP &amp; derivativ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1" name="Text Box 58"/>
                <p:cNvSpPr/>
                <p:nvPr/>
              </p:nvSpPr>
              <p:spPr>
                <a:xfrm>
                  <a:off x="6535080" y="739800"/>
                  <a:ext cx="1904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lexibl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Geographies of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Text Box 59"/>
                <p:cNvSpPr/>
                <p:nvPr/>
              </p:nvSpPr>
              <p:spPr>
                <a:xfrm>
                  <a:off x="7029360" y="2771640"/>
                  <a:ext cx="9352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e.g., DREAM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MM 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3" name="Group 60"/>
                <p:cNvGrpSpPr/>
                <p:nvPr/>
              </p:nvGrpSpPr>
              <p:grpSpPr>
                <a:xfrm>
                  <a:off x="6211800" y="1108080"/>
                  <a:ext cx="2549880" cy="1754280"/>
                  <a:chOff x="6211800" y="1108080"/>
                  <a:chExt cx="2549880" cy="1754280"/>
                </a:xfrm>
              </p:grpSpPr>
              <p:sp>
                <p:nvSpPr>
                  <p:cNvPr id="1664" name="AutoShape 61"/>
                  <p:cNvSpPr/>
                  <p:nvPr/>
                </p:nvSpPr>
                <p:spPr>
                  <a:xfrm>
                    <a:off x="6211800" y="1108080"/>
                    <a:ext cx="2549880" cy="175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65" name="Group 62"/>
                  <p:cNvGrpSpPr/>
                  <p:nvPr/>
                </p:nvGrpSpPr>
                <p:grpSpPr>
                  <a:xfrm>
                    <a:off x="6683760" y="1266840"/>
                    <a:ext cx="1636200" cy="1400040"/>
                    <a:chOff x="6683760" y="1266840"/>
                    <a:chExt cx="1636200" cy="1400040"/>
                  </a:xfrm>
                </p:grpSpPr>
                <p:sp>
                  <p:nvSpPr>
                    <p:cNvPr id="1666" name="Freeform 63"/>
                    <p:cNvSpPr/>
                    <p:nvPr/>
                  </p:nvSpPr>
                  <p:spPr>
                    <a:xfrm>
                      <a:off x="6683760" y="1266840"/>
                      <a:ext cx="708120" cy="1101600"/>
                    </a:xfrm>
                    <a:custGeom>
                      <a:avLst/>
                      <a:gdLst>
                        <a:gd name="textAreaLeft" fmla="*/ 0 w 708120"/>
                        <a:gd name="textAreaRight" fmla="*/ 708480 w 708120"/>
                        <a:gd name="textAreaTop" fmla="*/ 0 h 1101600"/>
                        <a:gd name="textAreaBottom" fmla="*/ 1101960 h 1101600"/>
                      </a:gdLst>
                      <a:ahLst/>
                      <a:rect l="textAreaLeft" t="textAreaTop" r="textAreaRight" b="textAreaBottom"/>
                      <a:pathLst>
                        <a:path w="414" h="694">
                          <a:moveTo>
                            <a:pt x="414" y="175"/>
                          </a:moveTo>
                          <a:lnTo>
                            <a:pt x="345" y="214"/>
                          </a:lnTo>
                          <a:lnTo>
                            <a:pt x="351" y="313"/>
                          </a:lnTo>
                          <a:lnTo>
                            <a:pt x="351" y="322"/>
                          </a:lnTo>
                          <a:lnTo>
                            <a:pt x="344" y="335"/>
                          </a:lnTo>
                          <a:lnTo>
                            <a:pt x="340" y="340"/>
                          </a:lnTo>
                          <a:lnTo>
                            <a:pt x="334" y="335"/>
                          </a:lnTo>
                          <a:lnTo>
                            <a:pt x="328" y="335"/>
                          </a:lnTo>
                          <a:lnTo>
                            <a:pt x="322" y="340"/>
                          </a:lnTo>
                          <a:lnTo>
                            <a:pt x="320" y="355"/>
                          </a:lnTo>
                          <a:lnTo>
                            <a:pt x="317" y="368"/>
                          </a:lnTo>
                          <a:lnTo>
                            <a:pt x="311" y="387"/>
                          </a:lnTo>
                          <a:lnTo>
                            <a:pt x="310" y="392"/>
                          </a:lnTo>
                          <a:lnTo>
                            <a:pt x="305" y="407"/>
                          </a:lnTo>
                          <a:lnTo>
                            <a:pt x="301" y="416"/>
                          </a:lnTo>
                          <a:lnTo>
                            <a:pt x="289" y="423"/>
                          </a:lnTo>
                          <a:lnTo>
                            <a:pt x="283" y="435"/>
                          </a:lnTo>
                          <a:lnTo>
                            <a:pt x="280" y="455"/>
                          </a:lnTo>
                          <a:lnTo>
                            <a:pt x="278" y="473"/>
                          </a:lnTo>
                          <a:lnTo>
                            <a:pt x="284" y="500"/>
                          </a:lnTo>
                          <a:lnTo>
                            <a:pt x="286" y="516"/>
                          </a:lnTo>
                          <a:lnTo>
                            <a:pt x="278" y="538"/>
                          </a:lnTo>
                          <a:lnTo>
                            <a:pt x="268" y="555"/>
                          </a:lnTo>
                          <a:lnTo>
                            <a:pt x="253" y="570"/>
                          </a:lnTo>
                          <a:lnTo>
                            <a:pt x="242" y="582"/>
                          </a:lnTo>
                          <a:lnTo>
                            <a:pt x="238" y="609"/>
                          </a:lnTo>
                          <a:lnTo>
                            <a:pt x="236" y="630"/>
                          </a:lnTo>
                          <a:lnTo>
                            <a:pt x="239" y="646"/>
                          </a:lnTo>
                          <a:lnTo>
                            <a:pt x="242" y="661"/>
                          </a:lnTo>
                          <a:lnTo>
                            <a:pt x="244" y="673"/>
                          </a:lnTo>
                          <a:lnTo>
                            <a:pt x="244" y="679"/>
                          </a:lnTo>
                          <a:lnTo>
                            <a:pt x="233" y="688"/>
                          </a:lnTo>
                          <a:lnTo>
                            <a:pt x="224" y="694"/>
                          </a:lnTo>
                          <a:lnTo>
                            <a:pt x="221" y="684"/>
                          </a:lnTo>
                          <a:lnTo>
                            <a:pt x="214" y="673"/>
                          </a:lnTo>
                          <a:lnTo>
                            <a:pt x="204" y="667"/>
                          </a:lnTo>
                          <a:lnTo>
                            <a:pt x="195" y="663"/>
                          </a:lnTo>
                          <a:lnTo>
                            <a:pt x="187" y="667"/>
                          </a:lnTo>
                          <a:lnTo>
                            <a:pt x="174" y="669"/>
                          </a:lnTo>
                          <a:lnTo>
                            <a:pt x="168" y="664"/>
                          </a:lnTo>
                          <a:lnTo>
                            <a:pt x="163" y="651"/>
                          </a:lnTo>
                          <a:lnTo>
                            <a:pt x="162" y="640"/>
                          </a:lnTo>
                          <a:lnTo>
                            <a:pt x="153" y="633"/>
                          </a:lnTo>
                          <a:lnTo>
                            <a:pt x="145" y="624"/>
                          </a:lnTo>
                          <a:lnTo>
                            <a:pt x="138" y="613"/>
                          </a:lnTo>
                          <a:lnTo>
                            <a:pt x="129" y="607"/>
                          </a:lnTo>
                          <a:lnTo>
                            <a:pt x="118" y="604"/>
                          </a:lnTo>
                          <a:lnTo>
                            <a:pt x="106" y="594"/>
                          </a:lnTo>
                          <a:lnTo>
                            <a:pt x="95" y="592"/>
                          </a:lnTo>
                          <a:lnTo>
                            <a:pt x="81" y="594"/>
                          </a:lnTo>
                          <a:lnTo>
                            <a:pt x="69" y="594"/>
                          </a:lnTo>
                          <a:lnTo>
                            <a:pt x="56" y="595"/>
                          </a:lnTo>
                          <a:lnTo>
                            <a:pt x="41" y="591"/>
                          </a:lnTo>
                          <a:lnTo>
                            <a:pt x="30" y="585"/>
                          </a:lnTo>
                          <a:lnTo>
                            <a:pt x="15" y="577"/>
                          </a:lnTo>
                          <a:lnTo>
                            <a:pt x="8" y="574"/>
                          </a:lnTo>
                          <a:lnTo>
                            <a:pt x="0" y="570"/>
                          </a:lnTo>
                          <a:lnTo>
                            <a:pt x="5" y="562"/>
                          </a:lnTo>
                          <a:lnTo>
                            <a:pt x="63" y="488"/>
                          </a:lnTo>
                          <a:lnTo>
                            <a:pt x="62" y="370"/>
                          </a:lnTo>
                          <a:lnTo>
                            <a:pt x="75" y="353"/>
                          </a:lnTo>
                          <a:lnTo>
                            <a:pt x="120" y="346"/>
                          </a:lnTo>
                          <a:lnTo>
                            <a:pt x="139" y="233"/>
                          </a:lnTo>
                          <a:lnTo>
                            <a:pt x="148" y="227"/>
                          </a:lnTo>
                          <a:lnTo>
                            <a:pt x="144" y="112"/>
                          </a:lnTo>
                          <a:lnTo>
                            <a:pt x="114" y="70"/>
                          </a:lnTo>
                          <a:lnTo>
                            <a:pt x="142" y="36"/>
                          </a:lnTo>
                          <a:lnTo>
                            <a:pt x="147" y="0"/>
                          </a:lnTo>
                          <a:lnTo>
                            <a:pt x="184" y="38"/>
                          </a:lnTo>
                          <a:lnTo>
                            <a:pt x="210" y="61"/>
                          </a:lnTo>
                          <a:lnTo>
                            <a:pt x="224" y="78"/>
                          </a:lnTo>
                          <a:lnTo>
                            <a:pt x="245" y="88"/>
                          </a:lnTo>
                          <a:lnTo>
                            <a:pt x="265" y="100"/>
                          </a:lnTo>
                          <a:lnTo>
                            <a:pt x="275" y="112"/>
                          </a:lnTo>
                          <a:lnTo>
                            <a:pt x="316" y="163"/>
                          </a:lnTo>
                          <a:lnTo>
                            <a:pt x="363" y="160"/>
                          </a:lnTo>
                          <a:lnTo>
                            <a:pt x="414" y="175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7" name="Line 64"/>
                    <p:cNvSpPr/>
                    <p:nvPr/>
                  </p:nvSpPr>
                  <p:spPr>
                    <a:xfrm flipH="1">
                      <a:off x="7374240" y="15447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65"/>
                    <p:cNvSpPr/>
                    <p:nvPr/>
                  </p:nvSpPr>
                  <p:spPr>
                    <a:xfrm flipH="1">
                      <a:off x="7338240" y="15634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Line 66"/>
                    <p:cNvSpPr/>
                    <p:nvPr/>
                  </p:nvSpPr>
                  <p:spPr>
                    <a:xfrm flipH="1">
                      <a:off x="7302600" y="158256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Freeform 67"/>
                    <p:cNvSpPr/>
                    <p:nvPr/>
                  </p:nvSpPr>
                  <p:spPr>
                    <a:xfrm>
                      <a:off x="7273800" y="1601640"/>
                      <a:ext cx="10080" cy="1440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6" y="0"/>
                          </a:moveTo>
                          <a:lnTo>
                            <a:pt x="0" y="3"/>
                          </a:lnTo>
                          <a:lnTo>
                            <a:pt x="2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Line 68"/>
                    <p:cNvSpPr/>
                    <p:nvPr/>
                  </p:nvSpPr>
                  <p:spPr>
                    <a:xfrm>
                      <a:off x="7277040" y="163512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Line 69"/>
                    <p:cNvSpPr/>
                    <p:nvPr/>
                  </p:nvSpPr>
                  <p:spPr>
                    <a:xfrm>
                      <a:off x="7278840" y="167328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Line 70"/>
                    <p:cNvSpPr/>
                    <p:nvPr/>
                  </p:nvSpPr>
                  <p:spPr>
                    <a:xfrm>
                      <a:off x="7282440" y="17114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Freeform 71"/>
                    <p:cNvSpPr/>
                    <p:nvPr/>
                  </p:nvSpPr>
                  <p:spPr>
                    <a:xfrm>
                      <a:off x="7283880" y="174924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Freeform 72"/>
                    <p:cNvSpPr/>
                    <p:nvPr/>
                  </p:nvSpPr>
                  <p:spPr>
                    <a:xfrm>
                      <a:off x="7270200" y="178740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Freeform 73"/>
                    <p:cNvSpPr/>
                    <p:nvPr/>
                  </p:nvSpPr>
                  <p:spPr>
                    <a:xfrm>
                      <a:off x="7234200" y="179856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0"/>
                          </a:moveTo>
                          <a:lnTo>
                            <a:pt x="6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74"/>
                    <p:cNvSpPr/>
                    <p:nvPr/>
                  </p:nvSpPr>
                  <p:spPr>
                    <a:xfrm>
                      <a:off x="7229160" y="182556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75"/>
                    <p:cNvSpPr/>
                    <p:nvPr/>
                  </p:nvSpPr>
                  <p:spPr>
                    <a:xfrm flipH="1">
                      <a:off x="7215120" y="1861920"/>
                      <a:ext cx="82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Freeform 76"/>
                    <p:cNvSpPr/>
                    <p:nvPr/>
                  </p:nvSpPr>
                  <p:spPr>
                    <a:xfrm>
                      <a:off x="7203600" y="1898640"/>
                      <a:ext cx="6480" cy="1908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Freeform 77"/>
                    <p:cNvSpPr/>
                    <p:nvPr/>
                  </p:nvSpPr>
                  <p:spPr>
                    <a:xfrm>
                      <a:off x="7174440" y="1931760"/>
                      <a:ext cx="15120" cy="111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2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78"/>
                    <p:cNvSpPr/>
                    <p:nvPr/>
                  </p:nvSpPr>
                  <p:spPr>
                    <a:xfrm flipH="1">
                      <a:off x="7163640" y="19605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Line 79"/>
                    <p:cNvSpPr/>
                    <p:nvPr/>
                  </p:nvSpPr>
                  <p:spPr>
                    <a:xfrm flipH="1">
                      <a:off x="7158600" y="19987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Line 80"/>
                    <p:cNvSpPr/>
                    <p:nvPr/>
                  </p:nvSpPr>
                  <p:spPr>
                    <a:xfrm>
                      <a:off x="7164000" y="2036880"/>
                      <a:ext cx="540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81"/>
                    <p:cNvSpPr/>
                    <p:nvPr/>
                  </p:nvSpPr>
                  <p:spPr>
                    <a:xfrm>
                      <a:off x="7172640" y="2071800"/>
                      <a:ext cx="3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Freeform 82"/>
                    <p:cNvSpPr/>
                    <p:nvPr/>
                  </p:nvSpPr>
                  <p:spPr>
                    <a:xfrm>
                      <a:off x="7157520" y="210960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4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Freeform 83"/>
                    <p:cNvSpPr/>
                    <p:nvPr/>
                  </p:nvSpPr>
                  <p:spPr>
                    <a:xfrm>
                      <a:off x="7131960" y="214308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6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Freeform 84"/>
                    <p:cNvSpPr/>
                    <p:nvPr/>
                  </p:nvSpPr>
                  <p:spPr>
                    <a:xfrm>
                      <a:off x="7102800" y="217152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8" y="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Line 85"/>
                    <p:cNvSpPr/>
                    <p:nvPr/>
                  </p:nvSpPr>
                  <p:spPr>
                    <a:xfrm flipH="1">
                      <a:off x="7092000" y="22017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Line 86"/>
                    <p:cNvSpPr/>
                    <p:nvPr/>
                  </p:nvSpPr>
                  <p:spPr>
                    <a:xfrm flipH="1">
                      <a:off x="7086960" y="22399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0" name="Freeform 87"/>
                    <p:cNvSpPr/>
                    <p:nvPr/>
                  </p:nvSpPr>
                  <p:spPr>
                    <a:xfrm>
                      <a:off x="7090920" y="2278080"/>
                      <a:ext cx="1440" cy="172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1" h="11">
                          <a:moveTo>
                            <a:pt x="0" y="0"/>
                          </a:moveTo>
                          <a:lnTo>
                            <a:pt x="1" y="9"/>
                          </a:lnTo>
                          <a:lnTo>
                            <a:pt x="1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Freeform 88"/>
                    <p:cNvSpPr/>
                    <p:nvPr/>
                  </p:nvSpPr>
                  <p:spPr>
                    <a:xfrm>
                      <a:off x="7097400" y="23144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Freeform 89"/>
                    <p:cNvSpPr/>
                    <p:nvPr/>
                  </p:nvSpPr>
                  <p:spPr>
                    <a:xfrm>
                      <a:off x="7076880" y="2349360"/>
                      <a:ext cx="15480" cy="111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3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Freeform 90"/>
                    <p:cNvSpPr/>
                    <p:nvPr/>
                  </p:nvSpPr>
                  <p:spPr>
                    <a:xfrm>
                      <a:off x="7054560" y="2343240"/>
                      <a:ext cx="10440" cy="1728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6" y="11"/>
                          </a:moveTo>
                          <a:lnTo>
                            <a:pt x="4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91"/>
                    <p:cNvSpPr/>
                    <p:nvPr/>
                  </p:nvSpPr>
                  <p:spPr>
                    <a:xfrm>
                      <a:off x="7023960" y="2320920"/>
                      <a:ext cx="18360" cy="93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92"/>
                    <p:cNvSpPr/>
                    <p:nvPr/>
                  </p:nvSpPr>
                  <p:spPr>
                    <a:xfrm>
                      <a:off x="6982920" y="23241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0"/>
                          </a:moveTo>
                          <a:lnTo>
                            <a:pt x="12" y="1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93"/>
                    <p:cNvSpPr/>
                    <p:nvPr/>
                  </p:nvSpPr>
                  <p:spPr>
                    <a:xfrm>
                      <a:off x="6962400" y="2300400"/>
                      <a:ext cx="5040" cy="158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94"/>
                    <p:cNvSpPr/>
                    <p:nvPr/>
                  </p:nvSpPr>
                  <p:spPr>
                    <a:xfrm>
                      <a:off x="6941880" y="2266920"/>
                      <a:ext cx="15480" cy="144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95"/>
                    <p:cNvSpPr/>
                    <p:nvPr/>
                  </p:nvSpPr>
                  <p:spPr>
                    <a:xfrm>
                      <a:off x="6916320" y="2238480"/>
                      <a:ext cx="13320" cy="140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8" y="9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96"/>
                    <p:cNvSpPr/>
                    <p:nvPr/>
                  </p:nvSpPr>
                  <p:spPr>
                    <a:xfrm>
                      <a:off x="6880320" y="222084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Line 97"/>
                    <p:cNvSpPr/>
                    <p:nvPr/>
                  </p:nvSpPr>
                  <p:spPr>
                    <a:xfrm flipH="1" flipV="1">
                      <a:off x="6846120" y="2206080"/>
                      <a:ext cx="18720" cy="32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98"/>
                    <p:cNvSpPr/>
                    <p:nvPr/>
                  </p:nvSpPr>
                  <p:spPr>
                    <a:xfrm>
                      <a:off x="6805080" y="220968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99"/>
                    <p:cNvSpPr/>
                    <p:nvPr/>
                  </p:nvSpPr>
                  <p:spPr>
                    <a:xfrm>
                      <a:off x="6763680" y="2206440"/>
                      <a:ext cx="20520" cy="50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3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100"/>
                    <p:cNvSpPr/>
                    <p:nvPr/>
                  </p:nvSpPr>
                  <p:spPr>
                    <a:xfrm>
                      <a:off x="6728040" y="2190600"/>
                      <a:ext cx="16920" cy="97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0" y="6"/>
                          </a:moveTo>
                          <a:lnTo>
                            <a:pt x="4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101"/>
                    <p:cNvSpPr/>
                    <p:nvPr/>
                  </p:nvSpPr>
                  <p:spPr>
                    <a:xfrm>
                      <a:off x="6688800" y="2173320"/>
                      <a:ext cx="20520" cy="93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2" h="6">
                          <a:moveTo>
                            <a:pt x="12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102"/>
                    <p:cNvSpPr/>
                    <p:nvPr/>
                  </p:nvSpPr>
                  <p:spPr>
                    <a:xfrm>
                      <a:off x="6692040" y="2144520"/>
                      <a:ext cx="11880" cy="176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7" h="11">
                          <a:moveTo>
                            <a:pt x="0" y="11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Line 103"/>
                    <p:cNvSpPr/>
                    <p:nvPr/>
                  </p:nvSpPr>
                  <p:spPr>
                    <a:xfrm flipV="1">
                      <a:off x="6717600" y="2114640"/>
                      <a:ext cx="118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Line 104"/>
                    <p:cNvSpPr/>
                    <p:nvPr/>
                  </p:nvSpPr>
                  <p:spPr>
                    <a:xfrm flipV="1">
                      <a:off x="6743520" y="2085840"/>
                      <a:ext cx="115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105"/>
                    <p:cNvSpPr/>
                    <p:nvPr/>
                  </p:nvSpPr>
                  <p:spPr>
                    <a:xfrm flipV="1">
                      <a:off x="6765840" y="205560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106"/>
                    <p:cNvSpPr/>
                    <p:nvPr/>
                  </p:nvSpPr>
                  <p:spPr>
                    <a:xfrm flipV="1">
                      <a:off x="6791400" y="20188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Line 107"/>
                    <p:cNvSpPr/>
                    <p:nvPr/>
                  </p:nvSpPr>
                  <p:spPr>
                    <a:xfrm flipV="1">
                      <a:off x="6791400" y="19807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Line 108"/>
                    <p:cNvSpPr/>
                    <p:nvPr/>
                  </p:nvSpPr>
                  <p:spPr>
                    <a:xfrm flipV="1">
                      <a:off x="6789960" y="194256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Line 109"/>
                    <p:cNvSpPr/>
                    <p:nvPr/>
                  </p:nvSpPr>
                  <p:spPr>
                    <a:xfrm flipV="1">
                      <a:off x="6789960" y="1905120"/>
                      <a:ext cx="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3" name="Line 110"/>
                    <p:cNvSpPr/>
                    <p:nvPr/>
                  </p:nvSpPr>
                  <p:spPr>
                    <a:xfrm flipV="1">
                      <a:off x="6789960" y="18666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Line 111"/>
                    <p:cNvSpPr/>
                    <p:nvPr/>
                  </p:nvSpPr>
                  <p:spPr>
                    <a:xfrm flipV="1">
                      <a:off x="6791400" y="18349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112"/>
                    <p:cNvSpPr/>
                    <p:nvPr/>
                  </p:nvSpPr>
                  <p:spPr>
                    <a:xfrm flipV="1">
                      <a:off x="6822000" y="18219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Line 113"/>
                    <p:cNvSpPr/>
                    <p:nvPr/>
                  </p:nvSpPr>
                  <p:spPr>
                    <a:xfrm flipV="1">
                      <a:off x="6863040" y="18158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Line 114"/>
                    <p:cNvSpPr/>
                    <p:nvPr/>
                  </p:nvSpPr>
                  <p:spPr>
                    <a:xfrm flipV="1">
                      <a:off x="6890760" y="1782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Line 115"/>
                    <p:cNvSpPr/>
                    <p:nvPr/>
                  </p:nvSpPr>
                  <p:spPr>
                    <a:xfrm flipV="1">
                      <a:off x="6895800" y="17442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Line 116"/>
                    <p:cNvSpPr/>
                    <p:nvPr/>
                  </p:nvSpPr>
                  <p:spPr>
                    <a:xfrm flipV="1">
                      <a:off x="6904080" y="170604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Line 117"/>
                    <p:cNvSpPr/>
                    <p:nvPr/>
                  </p:nvSpPr>
                  <p:spPr>
                    <a:xfrm flipV="1">
                      <a:off x="6911280" y="1670040"/>
                      <a:ext cx="28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Freeform 118"/>
                    <p:cNvSpPr/>
                    <p:nvPr/>
                  </p:nvSpPr>
                  <p:spPr>
                    <a:xfrm>
                      <a:off x="6919920" y="163512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1" y="1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Line 119"/>
                    <p:cNvSpPr/>
                    <p:nvPr/>
                  </p:nvSpPr>
                  <p:spPr>
                    <a:xfrm flipV="1">
                      <a:off x="6936840" y="1601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Line 120"/>
                    <p:cNvSpPr/>
                    <p:nvPr/>
                  </p:nvSpPr>
                  <p:spPr>
                    <a:xfrm flipV="1">
                      <a:off x="6935040" y="15631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Line 121"/>
                    <p:cNvSpPr/>
                    <p:nvPr/>
                  </p:nvSpPr>
                  <p:spPr>
                    <a:xfrm flipV="1">
                      <a:off x="6935040" y="15253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5" name="Line 122"/>
                    <p:cNvSpPr/>
                    <p:nvPr/>
                  </p:nvSpPr>
                  <p:spPr>
                    <a:xfrm flipV="1">
                      <a:off x="6931800" y="1487520"/>
                      <a:ext cx="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Line 123"/>
                    <p:cNvSpPr/>
                    <p:nvPr/>
                  </p:nvSpPr>
                  <p:spPr>
                    <a:xfrm flipV="1">
                      <a:off x="6931800" y="1447560"/>
                      <a:ext cx="0" cy="205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Line 124"/>
                    <p:cNvSpPr/>
                    <p:nvPr/>
                  </p:nvSpPr>
                  <p:spPr>
                    <a:xfrm flipH="1" flipV="1">
                      <a:off x="6908760" y="1415520"/>
                      <a:ext cx="118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Line 125"/>
                    <p:cNvSpPr/>
                    <p:nvPr/>
                  </p:nvSpPr>
                  <p:spPr>
                    <a:xfrm flipH="1" flipV="1">
                      <a:off x="6885720" y="13860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Line 126"/>
                    <p:cNvSpPr/>
                    <p:nvPr/>
                  </p:nvSpPr>
                  <p:spPr>
                    <a:xfrm flipV="1">
                      <a:off x="6885720" y="1355760"/>
                      <a:ext cx="1332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0" name="Line 127"/>
                    <p:cNvSpPr/>
                    <p:nvPr/>
                  </p:nvSpPr>
                  <p:spPr>
                    <a:xfrm flipV="1">
                      <a:off x="6911280" y="132696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Line 128"/>
                    <p:cNvSpPr/>
                    <p:nvPr/>
                  </p:nvSpPr>
                  <p:spPr>
                    <a:xfrm flipV="1">
                      <a:off x="6930000" y="1289160"/>
                      <a:ext cx="180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129"/>
                    <p:cNvSpPr/>
                    <p:nvPr/>
                  </p:nvSpPr>
                  <p:spPr>
                    <a:xfrm>
                      <a:off x="6931800" y="1266840"/>
                      <a:ext cx="15120" cy="126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Line 130"/>
                    <p:cNvSpPr/>
                    <p:nvPr/>
                  </p:nvSpPr>
                  <p:spPr>
                    <a:xfrm>
                      <a:off x="6960960" y="1293840"/>
                      <a:ext cx="1512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Freeform 131"/>
                    <p:cNvSpPr/>
                    <p:nvPr/>
                  </p:nvSpPr>
                  <p:spPr>
                    <a:xfrm>
                      <a:off x="6991560" y="1319040"/>
                      <a:ext cx="15480" cy="129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5" name="Line 132"/>
                    <p:cNvSpPr/>
                    <p:nvPr/>
                  </p:nvSpPr>
                  <p:spPr>
                    <a:xfrm>
                      <a:off x="7022160" y="13460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Line 133"/>
                    <p:cNvSpPr/>
                    <p:nvPr/>
                  </p:nvSpPr>
                  <p:spPr>
                    <a:xfrm>
                      <a:off x="7049520" y="13716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Line 134"/>
                    <p:cNvSpPr/>
                    <p:nvPr/>
                  </p:nvSpPr>
                  <p:spPr>
                    <a:xfrm>
                      <a:off x="7080480" y="13953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Line 135"/>
                    <p:cNvSpPr/>
                    <p:nvPr/>
                  </p:nvSpPr>
                  <p:spPr>
                    <a:xfrm>
                      <a:off x="7116480" y="141444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Freeform 136"/>
                    <p:cNvSpPr/>
                    <p:nvPr/>
                  </p:nvSpPr>
                  <p:spPr>
                    <a:xfrm>
                      <a:off x="7148880" y="1438200"/>
                      <a:ext cx="13320" cy="14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0" y="0"/>
                          </a:moveTo>
                          <a:lnTo>
                            <a:pt x="3" y="4"/>
                          </a:lnTo>
                          <a:lnTo>
                            <a:pt x="8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0" name="Line 137"/>
                    <p:cNvSpPr/>
                    <p:nvPr/>
                  </p:nvSpPr>
                  <p:spPr>
                    <a:xfrm>
                      <a:off x="7174440" y="146844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Line 138"/>
                    <p:cNvSpPr/>
                    <p:nvPr/>
                  </p:nvSpPr>
                  <p:spPr>
                    <a:xfrm>
                      <a:off x="7200000" y="1496880"/>
                      <a:ext cx="1332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Line 139"/>
                    <p:cNvSpPr/>
                    <p:nvPr/>
                  </p:nvSpPr>
                  <p:spPr>
                    <a:xfrm>
                      <a:off x="7225560" y="1525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Line 140"/>
                    <p:cNvSpPr/>
                    <p:nvPr/>
                  </p:nvSpPr>
                  <p:spPr>
                    <a:xfrm>
                      <a:off x="7266960" y="15238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4" name="Line 141"/>
                    <p:cNvSpPr/>
                    <p:nvPr/>
                  </p:nvSpPr>
                  <p:spPr>
                    <a:xfrm>
                      <a:off x="7308000" y="1520640"/>
                      <a:ext cx="20520" cy="79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5" name="Line 142"/>
                    <p:cNvSpPr/>
                    <p:nvPr/>
                  </p:nvSpPr>
                  <p:spPr>
                    <a:xfrm>
                      <a:off x="7345440" y="15336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Line 143"/>
                    <p:cNvSpPr/>
                    <p:nvPr/>
                  </p:nvSpPr>
                  <p:spPr>
                    <a:xfrm>
                      <a:off x="7386840" y="1544760"/>
                      <a:ext cx="504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Freeform 144"/>
                    <p:cNvSpPr/>
                    <p:nvPr/>
                  </p:nvSpPr>
                  <p:spPr>
                    <a:xfrm>
                      <a:off x="7451280" y="1449360"/>
                      <a:ext cx="868680" cy="1217520"/>
                    </a:xfrm>
                    <a:custGeom>
                      <a:avLst/>
                      <a:gdLst>
                        <a:gd name="textAreaLeft" fmla="*/ 0 w 868680"/>
                        <a:gd name="textAreaRight" fmla="*/ 869040 w 868680"/>
                        <a:gd name="textAreaTop" fmla="*/ 0 h 1217520"/>
                        <a:gd name="textAreaBottom" fmla="*/ 1217880 h 1217520"/>
                      </a:gdLst>
                      <a:ahLst/>
                      <a:rect l="textAreaLeft" t="textAreaTop" r="textAreaRight" b="textAreaBottom"/>
                      <a:pathLst>
                        <a:path w="508" h="767">
                          <a:moveTo>
                            <a:pt x="260" y="33"/>
                          </a:moveTo>
                          <a:lnTo>
                            <a:pt x="261" y="41"/>
                          </a:lnTo>
                          <a:lnTo>
                            <a:pt x="264" y="51"/>
                          </a:lnTo>
                          <a:lnTo>
                            <a:pt x="267" y="66"/>
                          </a:lnTo>
                          <a:lnTo>
                            <a:pt x="269" y="77"/>
                          </a:lnTo>
                          <a:lnTo>
                            <a:pt x="270" y="81"/>
                          </a:lnTo>
                          <a:lnTo>
                            <a:pt x="273" y="95"/>
                          </a:lnTo>
                          <a:lnTo>
                            <a:pt x="279" y="108"/>
                          </a:lnTo>
                          <a:lnTo>
                            <a:pt x="291" y="117"/>
                          </a:lnTo>
                          <a:lnTo>
                            <a:pt x="297" y="123"/>
                          </a:lnTo>
                          <a:lnTo>
                            <a:pt x="301" y="132"/>
                          </a:lnTo>
                          <a:lnTo>
                            <a:pt x="306" y="138"/>
                          </a:lnTo>
                          <a:lnTo>
                            <a:pt x="309" y="141"/>
                          </a:lnTo>
                          <a:lnTo>
                            <a:pt x="319" y="148"/>
                          </a:lnTo>
                          <a:lnTo>
                            <a:pt x="330" y="157"/>
                          </a:lnTo>
                          <a:lnTo>
                            <a:pt x="325" y="280"/>
                          </a:lnTo>
                          <a:lnTo>
                            <a:pt x="333" y="284"/>
                          </a:lnTo>
                          <a:lnTo>
                            <a:pt x="340" y="289"/>
                          </a:lnTo>
                          <a:lnTo>
                            <a:pt x="343" y="293"/>
                          </a:lnTo>
                          <a:lnTo>
                            <a:pt x="348" y="304"/>
                          </a:lnTo>
                          <a:lnTo>
                            <a:pt x="349" y="310"/>
                          </a:lnTo>
                          <a:lnTo>
                            <a:pt x="357" y="308"/>
                          </a:lnTo>
                          <a:lnTo>
                            <a:pt x="366" y="310"/>
                          </a:lnTo>
                          <a:lnTo>
                            <a:pt x="376" y="308"/>
                          </a:lnTo>
                          <a:lnTo>
                            <a:pt x="388" y="307"/>
                          </a:lnTo>
                          <a:lnTo>
                            <a:pt x="395" y="311"/>
                          </a:lnTo>
                          <a:lnTo>
                            <a:pt x="400" y="319"/>
                          </a:lnTo>
                          <a:lnTo>
                            <a:pt x="407" y="328"/>
                          </a:lnTo>
                          <a:lnTo>
                            <a:pt x="416" y="329"/>
                          </a:lnTo>
                          <a:lnTo>
                            <a:pt x="427" y="326"/>
                          </a:lnTo>
                          <a:lnTo>
                            <a:pt x="434" y="322"/>
                          </a:lnTo>
                          <a:lnTo>
                            <a:pt x="442" y="319"/>
                          </a:lnTo>
                          <a:lnTo>
                            <a:pt x="451" y="320"/>
                          </a:lnTo>
                          <a:lnTo>
                            <a:pt x="455" y="325"/>
                          </a:lnTo>
                          <a:lnTo>
                            <a:pt x="458" y="329"/>
                          </a:lnTo>
                          <a:lnTo>
                            <a:pt x="460" y="340"/>
                          </a:lnTo>
                          <a:lnTo>
                            <a:pt x="461" y="352"/>
                          </a:lnTo>
                          <a:lnTo>
                            <a:pt x="454" y="361"/>
                          </a:lnTo>
                          <a:lnTo>
                            <a:pt x="443" y="368"/>
                          </a:lnTo>
                          <a:lnTo>
                            <a:pt x="437" y="377"/>
                          </a:lnTo>
                          <a:lnTo>
                            <a:pt x="437" y="386"/>
                          </a:lnTo>
                          <a:lnTo>
                            <a:pt x="436" y="403"/>
                          </a:lnTo>
                          <a:lnTo>
                            <a:pt x="436" y="410"/>
                          </a:lnTo>
                          <a:lnTo>
                            <a:pt x="439" y="416"/>
                          </a:lnTo>
                          <a:lnTo>
                            <a:pt x="443" y="429"/>
                          </a:lnTo>
                          <a:lnTo>
                            <a:pt x="449" y="438"/>
                          </a:lnTo>
                          <a:lnTo>
                            <a:pt x="458" y="441"/>
                          </a:lnTo>
                          <a:lnTo>
                            <a:pt x="467" y="438"/>
                          </a:lnTo>
                          <a:lnTo>
                            <a:pt x="476" y="443"/>
                          </a:lnTo>
                          <a:lnTo>
                            <a:pt x="487" y="444"/>
                          </a:lnTo>
                          <a:lnTo>
                            <a:pt x="499" y="446"/>
                          </a:lnTo>
                          <a:lnTo>
                            <a:pt x="505" y="446"/>
                          </a:lnTo>
                          <a:lnTo>
                            <a:pt x="508" y="447"/>
                          </a:lnTo>
                          <a:lnTo>
                            <a:pt x="508" y="452"/>
                          </a:lnTo>
                          <a:lnTo>
                            <a:pt x="505" y="458"/>
                          </a:lnTo>
                          <a:lnTo>
                            <a:pt x="502" y="467"/>
                          </a:lnTo>
                          <a:lnTo>
                            <a:pt x="494" y="476"/>
                          </a:lnTo>
                          <a:lnTo>
                            <a:pt x="491" y="485"/>
                          </a:lnTo>
                          <a:lnTo>
                            <a:pt x="485" y="497"/>
                          </a:lnTo>
                          <a:lnTo>
                            <a:pt x="473" y="497"/>
                          </a:lnTo>
                          <a:lnTo>
                            <a:pt x="460" y="498"/>
                          </a:lnTo>
                          <a:lnTo>
                            <a:pt x="449" y="512"/>
                          </a:lnTo>
                          <a:lnTo>
                            <a:pt x="449" y="527"/>
                          </a:lnTo>
                          <a:lnTo>
                            <a:pt x="449" y="539"/>
                          </a:lnTo>
                          <a:lnTo>
                            <a:pt x="451" y="545"/>
                          </a:lnTo>
                          <a:lnTo>
                            <a:pt x="454" y="564"/>
                          </a:lnTo>
                          <a:lnTo>
                            <a:pt x="454" y="588"/>
                          </a:lnTo>
                          <a:lnTo>
                            <a:pt x="454" y="613"/>
                          </a:lnTo>
                          <a:lnTo>
                            <a:pt x="455" y="637"/>
                          </a:lnTo>
                          <a:lnTo>
                            <a:pt x="452" y="645"/>
                          </a:lnTo>
                          <a:lnTo>
                            <a:pt x="440" y="654"/>
                          </a:lnTo>
                          <a:lnTo>
                            <a:pt x="421" y="649"/>
                          </a:lnTo>
                          <a:lnTo>
                            <a:pt x="388" y="649"/>
                          </a:lnTo>
                          <a:lnTo>
                            <a:pt x="369" y="645"/>
                          </a:lnTo>
                          <a:lnTo>
                            <a:pt x="364" y="642"/>
                          </a:lnTo>
                          <a:lnTo>
                            <a:pt x="339" y="630"/>
                          </a:lnTo>
                          <a:lnTo>
                            <a:pt x="316" y="621"/>
                          </a:lnTo>
                          <a:lnTo>
                            <a:pt x="289" y="633"/>
                          </a:lnTo>
                          <a:lnTo>
                            <a:pt x="285" y="636"/>
                          </a:lnTo>
                          <a:lnTo>
                            <a:pt x="270" y="657"/>
                          </a:lnTo>
                          <a:lnTo>
                            <a:pt x="267" y="682"/>
                          </a:lnTo>
                          <a:lnTo>
                            <a:pt x="267" y="690"/>
                          </a:lnTo>
                          <a:lnTo>
                            <a:pt x="273" y="715"/>
                          </a:lnTo>
                          <a:lnTo>
                            <a:pt x="279" y="739"/>
                          </a:lnTo>
                          <a:lnTo>
                            <a:pt x="271" y="752"/>
                          </a:lnTo>
                          <a:lnTo>
                            <a:pt x="267" y="767"/>
                          </a:lnTo>
                          <a:lnTo>
                            <a:pt x="254" y="758"/>
                          </a:lnTo>
                          <a:lnTo>
                            <a:pt x="243" y="751"/>
                          </a:lnTo>
                          <a:lnTo>
                            <a:pt x="231" y="752"/>
                          </a:lnTo>
                          <a:lnTo>
                            <a:pt x="212" y="757"/>
                          </a:lnTo>
                          <a:lnTo>
                            <a:pt x="200" y="748"/>
                          </a:lnTo>
                          <a:lnTo>
                            <a:pt x="195" y="752"/>
                          </a:lnTo>
                          <a:lnTo>
                            <a:pt x="188" y="754"/>
                          </a:lnTo>
                          <a:lnTo>
                            <a:pt x="177" y="751"/>
                          </a:lnTo>
                          <a:lnTo>
                            <a:pt x="162" y="746"/>
                          </a:lnTo>
                          <a:lnTo>
                            <a:pt x="146" y="739"/>
                          </a:lnTo>
                          <a:lnTo>
                            <a:pt x="134" y="737"/>
                          </a:lnTo>
                          <a:lnTo>
                            <a:pt x="130" y="737"/>
                          </a:lnTo>
                          <a:lnTo>
                            <a:pt x="109" y="743"/>
                          </a:lnTo>
                          <a:lnTo>
                            <a:pt x="89" y="739"/>
                          </a:lnTo>
                          <a:lnTo>
                            <a:pt x="79" y="739"/>
                          </a:lnTo>
                          <a:lnTo>
                            <a:pt x="61" y="743"/>
                          </a:lnTo>
                          <a:lnTo>
                            <a:pt x="46" y="742"/>
                          </a:lnTo>
                          <a:lnTo>
                            <a:pt x="25" y="742"/>
                          </a:lnTo>
                          <a:lnTo>
                            <a:pt x="1" y="737"/>
                          </a:lnTo>
                          <a:lnTo>
                            <a:pt x="0" y="730"/>
                          </a:lnTo>
                          <a:lnTo>
                            <a:pt x="3" y="724"/>
                          </a:lnTo>
                          <a:lnTo>
                            <a:pt x="94" y="618"/>
                          </a:lnTo>
                          <a:lnTo>
                            <a:pt x="94" y="536"/>
                          </a:lnTo>
                          <a:lnTo>
                            <a:pt x="71" y="518"/>
                          </a:lnTo>
                          <a:lnTo>
                            <a:pt x="44" y="497"/>
                          </a:lnTo>
                          <a:lnTo>
                            <a:pt x="40" y="479"/>
                          </a:lnTo>
                          <a:lnTo>
                            <a:pt x="40" y="461"/>
                          </a:lnTo>
                          <a:lnTo>
                            <a:pt x="44" y="438"/>
                          </a:lnTo>
                          <a:lnTo>
                            <a:pt x="62" y="413"/>
                          </a:lnTo>
                          <a:lnTo>
                            <a:pt x="82" y="386"/>
                          </a:lnTo>
                          <a:lnTo>
                            <a:pt x="79" y="364"/>
                          </a:lnTo>
                          <a:lnTo>
                            <a:pt x="88" y="350"/>
                          </a:lnTo>
                          <a:lnTo>
                            <a:pt x="103" y="332"/>
                          </a:lnTo>
                          <a:lnTo>
                            <a:pt x="116" y="316"/>
                          </a:lnTo>
                          <a:lnTo>
                            <a:pt x="121" y="301"/>
                          </a:lnTo>
                          <a:lnTo>
                            <a:pt x="128" y="284"/>
                          </a:lnTo>
                          <a:lnTo>
                            <a:pt x="125" y="271"/>
                          </a:lnTo>
                          <a:lnTo>
                            <a:pt x="136" y="253"/>
                          </a:lnTo>
                          <a:lnTo>
                            <a:pt x="159" y="231"/>
                          </a:lnTo>
                          <a:lnTo>
                            <a:pt x="124" y="205"/>
                          </a:lnTo>
                          <a:lnTo>
                            <a:pt x="104" y="207"/>
                          </a:lnTo>
                          <a:lnTo>
                            <a:pt x="89" y="184"/>
                          </a:lnTo>
                          <a:lnTo>
                            <a:pt x="122" y="115"/>
                          </a:lnTo>
                          <a:lnTo>
                            <a:pt x="109" y="81"/>
                          </a:lnTo>
                          <a:lnTo>
                            <a:pt x="103" y="60"/>
                          </a:lnTo>
                          <a:lnTo>
                            <a:pt x="106" y="59"/>
                          </a:lnTo>
                          <a:lnTo>
                            <a:pt x="119" y="56"/>
                          </a:lnTo>
                          <a:lnTo>
                            <a:pt x="121" y="51"/>
                          </a:lnTo>
                          <a:lnTo>
                            <a:pt x="127" y="3"/>
                          </a:lnTo>
                          <a:lnTo>
                            <a:pt x="133" y="2"/>
                          </a:lnTo>
                          <a:lnTo>
                            <a:pt x="146" y="0"/>
                          </a:lnTo>
                          <a:lnTo>
                            <a:pt x="159" y="5"/>
                          </a:lnTo>
                          <a:lnTo>
                            <a:pt x="165" y="8"/>
                          </a:lnTo>
                          <a:lnTo>
                            <a:pt x="180" y="15"/>
                          </a:lnTo>
                          <a:lnTo>
                            <a:pt x="194" y="23"/>
                          </a:lnTo>
                          <a:lnTo>
                            <a:pt x="210" y="23"/>
                          </a:lnTo>
                          <a:lnTo>
                            <a:pt x="224" y="21"/>
                          </a:lnTo>
                          <a:lnTo>
                            <a:pt x="233" y="26"/>
                          </a:lnTo>
                          <a:lnTo>
                            <a:pt x="237" y="29"/>
                          </a:lnTo>
                          <a:lnTo>
                            <a:pt x="246" y="35"/>
                          </a:lnTo>
                          <a:lnTo>
                            <a:pt x="254" y="33"/>
                          </a:lnTo>
                          <a:lnTo>
                            <a:pt x="260" y="33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Freeform 145"/>
                    <p:cNvSpPr/>
                    <p:nvPr/>
                  </p:nvSpPr>
                  <p:spPr>
                    <a:xfrm>
                      <a:off x="7896240" y="1501560"/>
                      <a:ext cx="5040" cy="176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3" h="11">
                          <a:moveTo>
                            <a:pt x="0" y="0"/>
                          </a:moveTo>
                          <a:lnTo>
                            <a:pt x="1" y="8"/>
                          </a:lnTo>
                          <a:lnTo>
                            <a:pt x="3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9" name="Freeform 146"/>
                    <p:cNvSpPr/>
                    <p:nvPr/>
                  </p:nvSpPr>
                  <p:spPr>
                    <a:xfrm>
                      <a:off x="7906320" y="1538280"/>
                      <a:ext cx="1800" cy="1908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0"/>
                          </a:moveTo>
                          <a:lnTo>
                            <a:pt x="1" y="10"/>
                          </a:lnTo>
                          <a:lnTo>
                            <a:pt x="1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Freeform 147"/>
                    <p:cNvSpPr/>
                    <p:nvPr/>
                  </p:nvSpPr>
                  <p:spPr>
                    <a:xfrm>
                      <a:off x="7911360" y="157644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4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Freeform 148"/>
                    <p:cNvSpPr/>
                    <p:nvPr/>
                  </p:nvSpPr>
                  <p:spPr>
                    <a:xfrm>
                      <a:off x="7923240" y="1611360"/>
                      <a:ext cx="11880" cy="140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7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Freeform 149"/>
                    <p:cNvSpPr/>
                    <p:nvPr/>
                  </p:nvSpPr>
                  <p:spPr>
                    <a:xfrm>
                      <a:off x="7950960" y="1636560"/>
                      <a:ext cx="13320" cy="176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" h="11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8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Freeform 150"/>
                    <p:cNvSpPr/>
                    <p:nvPr/>
                  </p:nvSpPr>
                  <p:spPr>
                    <a:xfrm>
                      <a:off x="7975080" y="1670040"/>
                      <a:ext cx="16920" cy="93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0" y="0"/>
                          </a:moveTo>
                          <a:lnTo>
                            <a:pt x="3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4" name="Freeform 151"/>
                    <p:cNvSpPr/>
                    <p:nvPr/>
                  </p:nvSpPr>
                  <p:spPr>
                    <a:xfrm>
                      <a:off x="8007120" y="16923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0" y="0"/>
                          </a:moveTo>
                          <a:lnTo>
                            <a:pt x="5" y="4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5" name="Line 152"/>
                    <p:cNvSpPr/>
                    <p:nvPr/>
                  </p:nvSpPr>
                  <p:spPr>
                    <a:xfrm>
                      <a:off x="8015760" y="1727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Line 153"/>
                    <p:cNvSpPr/>
                    <p:nvPr/>
                  </p:nvSpPr>
                  <p:spPr>
                    <a:xfrm>
                      <a:off x="8012520" y="17650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Line 154"/>
                    <p:cNvSpPr/>
                    <p:nvPr/>
                  </p:nvSpPr>
                  <p:spPr>
                    <a:xfrm flipH="1">
                      <a:off x="8010360" y="180324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Line 155"/>
                    <p:cNvSpPr/>
                    <p:nvPr/>
                  </p:nvSpPr>
                  <p:spPr>
                    <a:xfrm>
                      <a:off x="8010720" y="18414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Freeform 156"/>
                    <p:cNvSpPr/>
                    <p:nvPr/>
                  </p:nvSpPr>
                  <p:spPr>
                    <a:xfrm>
                      <a:off x="8007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2" y="0"/>
                          </a:moveTo>
                          <a:lnTo>
                            <a:pt x="0" y="9"/>
                          </a:lnTo>
                          <a:lnTo>
                            <a:pt x="3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Freeform 157"/>
                    <p:cNvSpPr/>
                    <p:nvPr/>
                  </p:nvSpPr>
                  <p:spPr>
                    <a:xfrm>
                      <a:off x="8031240" y="1908000"/>
                      <a:ext cx="10440" cy="1440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4" y="4"/>
                          </a:lnTo>
                          <a:lnTo>
                            <a:pt x="6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Freeform 158"/>
                    <p:cNvSpPr/>
                    <p:nvPr/>
                  </p:nvSpPr>
                  <p:spPr>
                    <a:xfrm>
                      <a:off x="8048160" y="1938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8" y="0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2" name="Freeform 159"/>
                    <p:cNvSpPr/>
                    <p:nvPr/>
                  </p:nvSpPr>
                  <p:spPr>
                    <a:xfrm>
                      <a:off x="8089200" y="19382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Freeform 160"/>
                    <p:cNvSpPr/>
                    <p:nvPr/>
                  </p:nvSpPr>
                  <p:spPr>
                    <a:xfrm>
                      <a:off x="8130600" y="1942920"/>
                      <a:ext cx="10080" cy="176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0" y="0"/>
                          </a:moveTo>
                          <a:lnTo>
                            <a:pt x="3" y="8"/>
                          </a:lnTo>
                          <a:lnTo>
                            <a:pt x="6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Freeform 161"/>
                    <p:cNvSpPr/>
                    <p:nvPr/>
                  </p:nvSpPr>
                  <p:spPr>
                    <a:xfrm>
                      <a:off x="8156160" y="1969920"/>
                      <a:ext cx="20520" cy="180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Freeform 162"/>
                    <p:cNvSpPr/>
                    <p:nvPr/>
                  </p:nvSpPr>
                  <p:spPr>
                    <a:xfrm>
                      <a:off x="8193600" y="195588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Freeform 163"/>
                    <p:cNvSpPr/>
                    <p:nvPr/>
                  </p:nvSpPr>
                  <p:spPr>
                    <a:xfrm>
                      <a:off x="8232840" y="196524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1" y="4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7" name="Freeform 164"/>
                    <p:cNvSpPr/>
                    <p:nvPr/>
                  </p:nvSpPr>
                  <p:spPr>
                    <a:xfrm>
                      <a:off x="8232840" y="2000160"/>
                      <a:ext cx="6840" cy="1764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0"/>
                          </a:moveTo>
                          <a:lnTo>
                            <a:pt x="4" y="5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Freeform 165"/>
                    <p:cNvSpPr/>
                    <p:nvPr/>
                  </p:nvSpPr>
                  <p:spPr>
                    <a:xfrm>
                      <a:off x="8202240" y="202860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7" y="0"/>
                          </a:moveTo>
                          <a:lnTo>
                            <a:pt x="4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166"/>
                    <p:cNvSpPr/>
                    <p:nvPr/>
                  </p:nvSpPr>
                  <p:spPr>
                    <a:xfrm>
                      <a:off x="8197200" y="206208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167"/>
                    <p:cNvSpPr/>
                    <p:nvPr/>
                  </p:nvSpPr>
                  <p:spPr>
                    <a:xfrm>
                      <a:off x="8197200" y="210024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" y="6"/>
                          </a:lnTo>
                          <a:lnTo>
                            <a:pt x="4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168"/>
                    <p:cNvSpPr/>
                    <p:nvPr/>
                  </p:nvSpPr>
                  <p:spPr>
                    <a:xfrm>
                      <a:off x="8212320" y="2135160"/>
                      <a:ext cx="15480" cy="126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169"/>
                    <p:cNvSpPr/>
                    <p:nvPr/>
                  </p:nvSpPr>
                  <p:spPr>
                    <a:xfrm>
                      <a:off x="8244720" y="214452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2"/>
                          </a:moveTo>
                          <a:lnTo>
                            <a:pt x="3" y="0"/>
                          </a:lnTo>
                          <a:lnTo>
                            <a:pt x="12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170"/>
                    <p:cNvSpPr/>
                    <p:nvPr/>
                  </p:nvSpPr>
                  <p:spPr>
                    <a:xfrm>
                      <a:off x="8286120" y="2154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11" y="2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171"/>
                    <p:cNvSpPr/>
                    <p:nvPr/>
                  </p:nvSpPr>
                  <p:spPr>
                    <a:xfrm>
                      <a:off x="8311680" y="216360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5" y="0"/>
                          </a:moveTo>
                          <a:lnTo>
                            <a:pt x="5" y="2"/>
                          </a:lnTo>
                          <a:lnTo>
                            <a:pt x="2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Freeform 172"/>
                    <p:cNvSpPr/>
                    <p:nvPr/>
                  </p:nvSpPr>
                  <p:spPr>
                    <a:xfrm>
                      <a:off x="8294400" y="219708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5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173"/>
                    <p:cNvSpPr/>
                    <p:nvPr/>
                  </p:nvSpPr>
                  <p:spPr>
                    <a:xfrm>
                      <a:off x="8265600" y="2233440"/>
                      <a:ext cx="18720" cy="50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174"/>
                    <p:cNvSpPr/>
                    <p:nvPr/>
                  </p:nvSpPr>
                  <p:spPr>
                    <a:xfrm>
                      <a:off x="8229600" y="22399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0"/>
                          </a:moveTo>
                          <a:lnTo>
                            <a:pt x="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Line 175"/>
                    <p:cNvSpPr/>
                    <p:nvPr/>
                  </p:nvSpPr>
                  <p:spPr>
                    <a:xfrm>
                      <a:off x="8219160" y="22636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176"/>
                    <p:cNvSpPr/>
                    <p:nvPr/>
                  </p:nvSpPr>
                  <p:spPr>
                    <a:xfrm>
                      <a:off x="8219160" y="2301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2" y="8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177"/>
                    <p:cNvSpPr/>
                    <p:nvPr/>
                  </p:nvSpPr>
                  <p:spPr>
                    <a:xfrm>
                      <a:off x="8227800" y="2340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Freeform 178"/>
                    <p:cNvSpPr/>
                    <p:nvPr/>
                  </p:nvSpPr>
                  <p:spPr>
                    <a:xfrm>
                      <a:off x="8227800" y="23781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2" name="Freeform 179"/>
                    <p:cNvSpPr/>
                    <p:nvPr/>
                  </p:nvSpPr>
                  <p:spPr>
                    <a:xfrm>
                      <a:off x="8227800" y="24159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180"/>
                    <p:cNvSpPr/>
                    <p:nvPr/>
                  </p:nvSpPr>
                  <p:spPr>
                    <a:xfrm>
                      <a:off x="8224200" y="245412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3" y="0"/>
                          </a:moveTo>
                          <a:lnTo>
                            <a:pt x="3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181"/>
                    <p:cNvSpPr/>
                    <p:nvPr/>
                  </p:nvSpPr>
                  <p:spPr>
                    <a:xfrm>
                      <a:off x="8188560" y="2484360"/>
                      <a:ext cx="18360" cy="32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0"/>
                          </a:moveTo>
                          <a:lnTo>
                            <a:pt x="9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Line 182"/>
                    <p:cNvSpPr/>
                    <p:nvPr/>
                  </p:nvSpPr>
                  <p:spPr>
                    <a:xfrm flipH="1">
                      <a:off x="8147160" y="2479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183"/>
                    <p:cNvSpPr/>
                    <p:nvPr/>
                  </p:nvSpPr>
                  <p:spPr>
                    <a:xfrm>
                      <a:off x="8107920" y="2477880"/>
                      <a:ext cx="18720" cy="180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1" h="1">
                          <a:moveTo>
                            <a:pt x="11" y="1"/>
                          </a:moveTo>
                          <a:lnTo>
                            <a:pt x="4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Freeform 184"/>
                    <p:cNvSpPr/>
                    <p:nvPr/>
                  </p:nvSpPr>
                  <p:spPr>
                    <a:xfrm>
                      <a:off x="8068680" y="2465280"/>
                      <a:ext cx="18720" cy="97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8" y="5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8" name="Line 185"/>
                    <p:cNvSpPr/>
                    <p:nvPr/>
                  </p:nvSpPr>
                  <p:spPr>
                    <a:xfrm flipH="1" flipV="1">
                      <a:off x="8030880" y="24490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Line 186"/>
                    <p:cNvSpPr/>
                    <p:nvPr/>
                  </p:nvSpPr>
                  <p:spPr>
                    <a:xfrm flipH="1" flipV="1">
                      <a:off x="7991640" y="2435040"/>
                      <a:ext cx="20520" cy="64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Line 187"/>
                    <p:cNvSpPr/>
                    <p:nvPr/>
                  </p:nvSpPr>
                  <p:spPr>
                    <a:xfrm flipH="1">
                      <a:off x="7956000" y="2440080"/>
                      <a:ext cx="187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188"/>
                    <p:cNvSpPr/>
                    <p:nvPr/>
                  </p:nvSpPr>
                  <p:spPr>
                    <a:xfrm>
                      <a:off x="7928280" y="2459160"/>
                      <a:ext cx="10440" cy="158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0"/>
                          </a:move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189"/>
                    <p:cNvSpPr/>
                    <p:nvPr/>
                  </p:nvSpPr>
                  <p:spPr>
                    <a:xfrm>
                      <a:off x="7911360" y="24890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2" y="0"/>
                          </a:moveTo>
                          <a:lnTo>
                            <a:pt x="1" y="2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Freeform 190"/>
                    <p:cNvSpPr/>
                    <p:nvPr/>
                  </p:nvSpPr>
                  <p:spPr>
                    <a:xfrm>
                      <a:off x="7908120" y="2527200"/>
                      <a:ext cx="2880" cy="19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Line 191"/>
                    <p:cNvSpPr/>
                    <p:nvPr/>
                  </p:nvSpPr>
                  <p:spPr>
                    <a:xfrm>
                      <a:off x="7914960" y="2565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Line 192"/>
                    <p:cNvSpPr/>
                    <p:nvPr/>
                  </p:nvSpPr>
                  <p:spPr>
                    <a:xfrm>
                      <a:off x="7923240" y="2603520"/>
                      <a:ext cx="504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193"/>
                    <p:cNvSpPr/>
                    <p:nvPr/>
                  </p:nvSpPr>
                  <p:spPr>
                    <a:xfrm>
                      <a:off x="7911360" y="2638440"/>
                      <a:ext cx="8280" cy="172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5" h="11">
                          <a:moveTo>
                            <a:pt x="5" y="0"/>
                          </a:moveTo>
                          <a:lnTo>
                            <a:pt x="2" y="3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194"/>
                    <p:cNvSpPr/>
                    <p:nvPr/>
                  </p:nvSpPr>
                  <p:spPr>
                    <a:xfrm>
                      <a:off x="7882200" y="2651040"/>
                      <a:ext cx="18720" cy="1116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1" h="7">
                          <a:moveTo>
                            <a:pt x="11" y="7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Freeform 195"/>
                    <p:cNvSpPr/>
                    <p:nvPr/>
                  </p:nvSpPr>
                  <p:spPr>
                    <a:xfrm>
                      <a:off x="7844760" y="2641680"/>
                      <a:ext cx="20520" cy="14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1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Freeform 196"/>
                    <p:cNvSpPr/>
                    <p:nvPr/>
                  </p:nvSpPr>
                  <p:spPr>
                    <a:xfrm>
                      <a:off x="7805520" y="264636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1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Freeform 197"/>
                    <p:cNvSpPr/>
                    <p:nvPr/>
                  </p:nvSpPr>
                  <p:spPr>
                    <a:xfrm>
                      <a:off x="7769520" y="264168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Line 198"/>
                    <p:cNvSpPr/>
                    <p:nvPr/>
                  </p:nvSpPr>
                  <p:spPr>
                    <a:xfrm flipH="1" flipV="1">
                      <a:off x="7731360" y="26334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Freeform 199"/>
                    <p:cNvSpPr/>
                    <p:nvPr/>
                  </p:nvSpPr>
                  <p:spPr>
                    <a:xfrm>
                      <a:off x="7694280" y="262260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Line 200"/>
                    <p:cNvSpPr/>
                    <p:nvPr/>
                  </p:nvSpPr>
                  <p:spPr>
                    <a:xfrm flipH="1">
                      <a:off x="7652880" y="26193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Line 201"/>
                    <p:cNvSpPr/>
                    <p:nvPr/>
                  </p:nvSpPr>
                  <p:spPr>
                    <a:xfrm flipH="1" flipV="1">
                      <a:off x="7611840" y="26222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Freeform 202"/>
                    <p:cNvSpPr/>
                    <p:nvPr/>
                  </p:nvSpPr>
                  <p:spPr>
                    <a:xfrm>
                      <a:off x="7572960" y="262260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Line 203"/>
                    <p:cNvSpPr/>
                    <p:nvPr/>
                  </p:nvSpPr>
                  <p:spPr>
                    <a:xfrm flipH="1" flipV="1">
                      <a:off x="7531200" y="2627280"/>
                      <a:ext cx="20520" cy="14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204"/>
                    <p:cNvSpPr/>
                    <p:nvPr/>
                  </p:nvSpPr>
                  <p:spPr>
                    <a:xfrm>
                      <a:off x="7490880" y="2624040"/>
                      <a:ext cx="20160" cy="324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12" y="2"/>
                          </a:moveTo>
                          <a:lnTo>
                            <a:pt x="2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Freeform 205"/>
                    <p:cNvSpPr/>
                    <p:nvPr/>
                  </p:nvSpPr>
                  <p:spPr>
                    <a:xfrm>
                      <a:off x="7453440" y="2617560"/>
                      <a:ext cx="18360" cy="50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3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9" name="Freeform 206"/>
                    <p:cNvSpPr/>
                    <p:nvPr/>
                  </p:nvSpPr>
                  <p:spPr>
                    <a:xfrm>
                      <a:off x="7456320" y="25844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0" name="Line 207"/>
                    <p:cNvSpPr/>
                    <p:nvPr/>
                  </p:nvSpPr>
                  <p:spPr>
                    <a:xfrm flipV="1">
                      <a:off x="7482600" y="2555640"/>
                      <a:ext cx="115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Line 208"/>
                    <p:cNvSpPr/>
                    <p:nvPr/>
                  </p:nvSpPr>
                  <p:spPr>
                    <a:xfrm flipV="1">
                      <a:off x="7506000" y="25272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Line 209"/>
                    <p:cNvSpPr/>
                    <p:nvPr/>
                  </p:nvSpPr>
                  <p:spPr>
                    <a:xfrm flipV="1">
                      <a:off x="7535160" y="2498400"/>
                      <a:ext cx="118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Line 210"/>
                    <p:cNvSpPr/>
                    <p:nvPr/>
                  </p:nvSpPr>
                  <p:spPr>
                    <a:xfrm flipV="1">
                      <a:off x="7560720" y="24685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Line 211"/>
                    <p:cNvSpPr/>
                    <p:nvPr/>
                  </p:nvSpPr>
                  <p:spPr>
                    <a:xfrm flipV="1">
                      <a:off x="7588440" y="2439720"/>
                      <a:ext cx="133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5" name="Line 212"/>
                    <p:cNvSpPr/>
                    <p:nvPr/>
                  </p:nvSpPr>
                  <p:spPr>
                    <a:xfrm flipV="1">
                      <a:off x="7612200" y="24030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Line 213"/>
                    <p:cNvSpPr/>
                    <p:nvPr/>
                  </p:nvSpPr>
                  <p:spPr>
                    <a:xfrm flipV="1">
                      <a:off x="7612200" y="236484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Line 214"/>
                    <p:cNvSpPr/>
                    <p:nvPr/>
                  </p:nvSpPr>
                  <p:spPr>
                    <a:xfrm flipV="1">
                      <a:off x="7612200" y="23284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8" name="Freeform 215"/>
                    <p:cNvSpPr/>
                    <p:nvPr/>
                  </p:nvSpPr>
                  <p:spPr>
                    <a:xfrm>
                      <a:off x="7603920" y="2295360"/>
                      <a:ext cx="8280" cy="1440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5" h="9">
                          <a:moveTo>
                            <a:pt x="5" y="9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Line 216"/>
                    <p:cNvSpPr/>
                    <p:nvPr/>
                  </p:nvSpPr>
                  <p:spPr>
                    <a:xfrm flipH="1" flipV="1">
                      <a:off x="7572600" y="22712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Line 217"/>
                    <p:cNvSpPr/>
                    <p:nvPr/>
                  </p:nvSpPr>
                  <p:spPr>
                    <a:xfrm flipH="1" flipV="1">
                      <a:off x="7539840" y="224748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1" name="Line 218"/>
                    <p:cNvSpPr/>
                    <p:nvPr/>
                  </p:nvSpPr>
                  <p:spPr>
                    <a:xfrm flipH="1" flipV="1">
                      <a:off x="7520040" y="22158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Freeform 219"/>
                    <p:cNvSpPr/>
                    <p:nvPr/>
                  </p:nvSpPr>
                  <p:spPr>
                    <a:xfrm>
                      <a:off x="7520040" y="2178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1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220"/>
                    <p:cNvSpPr/>
                    <p:nvPr/>
                  </p:nvSpPr>
                  <p:spPr>
                    <a:xfrm>
                      <a:off x="7525080" y="2139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12"/>
                          </a:moveTo>
                          <a:lnTo>
                            <a:pt x="1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Line 221"/>
                    <p:cNvSpPr/>
                    <p:nvPr/>
                  </p:nvSpPr>
                  <p:spPr>
                    <a:xfrm flipV="1">
                      <a:off x="7542000" y="21096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Line 222"/>
                    <p:cNvSpPr/>
                    <p:nvPr/>
                  </p:nvSpPr>
                  <p:spPr>
                    <a:xfrm flipV="1">
                      <a:off x="7566120" y="207972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223"/>
                    <p:cNvSpPr/>
                    <p:nvPr/>
                  </p:nvSpPr>
                  <p:spPr>
                    <a:xfrm>
                      <a:off x="7588440" y="2046240"/>
                      <a:ext cx="3240" cy="15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2" h="10">
                          <a:moveTo>
                            <a:pt x="0" y="10"/>
                          </a:moveTo>
                          <a:lnTo>
                            <a:pt x="2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Line 224"/>
                    <p:cNvSpPr/>
                    <p:nvPr/>
                  </p:nvSpPr>
                  <p:spPr>
                    <a:xfrm flipV="1">
                      <a:off x="7586640" y="2009880"/>
                      <a:ext cx="1152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Line 225"/>
                    <p:cNvSpPr/>
                    <p:nvPr/>
                  </p:nvSpPr>
                  <p:spPr>
                    <a:xfrm flipV="1">
                      <a:off x="7612200" y="1981080"/>
                      <a:ext cx="118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226"/>
                    <p:cNvSpPr/>
                    <p:nvPr/>
                  </p:nvSpPr>
                  <p:spPr>
                    <a:xfrm>
                      <a:off x="7638120" y="19508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Freeform 227"/>
                    <p:cNvSpPr/>
                    <p:nvPr/>
                  </p:nvSpPr>
                  <p:spPr>
                    <a:xfrm>
                      <a:off x="7655040" y="191448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0" y="12"/>
                          </a:moveTo>
                          <a:lnTo>
                            <a:pt x="2" y="8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Freeform 228"/>
                    <p:cNvSpPr/>
                    <p:nvPr/>
                  </p:nvSpPr>
                  <p:spPr>
                    <a:xfrm>
                      <a:off x="7665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Freeform 229"/>
                    <p:cNvSpPr/>
                    <p:nvPr/>
                  </p:nvSpPr>
                  <p:spPr>
                    <a:xfrm>
                      <a:off x="7675560" y="1846080"/>
                      <a:ext cx="13320" cy="158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8" h="10">
                          <a:moveTo>
                            <a:pt x="0" y="10"/>
                          </a:moveTo>
                          <a:lnTo>
                            <a:pt x="5" y="3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3" name="Line 230"/>
                    <p:cNvSpPr/>
                    <p:nvPr/>
                  </p:nvSpPr>
                  <p:spPr>
                    <a:xfrm flipV="1">
                      <a:off x="7701120" y="1820520"/>
                      <a:ext cx="154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Line 231"/>
                    <p:cNvSpPr/>
                    <p:nvPr/>
                  </p:nvSpPr>
                  <p:spPr>
                    <a:xfrm flipH="1" flipV="1">
                      <a:off x="7695720" y="179820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5" name="Line 232"/>
                    <p:cNvSpPr/>
                    <p:nvPr/>
                  </p:nvSpPr>
                  <p:spPr>
                    <a:xfrm flipH="1" flipV="1">
                      <a:off x="7663320" y="1774440"/>
                      <a:ext cx="16920" cy="126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Freeform 233"/>
                    <p:cNvSpPr/>
                    <p:nvPr/>
                  </p:nvSpPr>
                  <p:spPr>
                    <a:xfrm>
                      <a:off x="7627320" y="1770120"/>
                      <a:ext cx="15480" cy="792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9" y="5"/>
                          </a:moveTo>
                          <a:lnTo>
                            <a:pt x="1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234"/>
                    <p:cNvSpPr/>
                    <p:nvPr/>
                  </p:nvSpPr>
                  <p:spPr>
                    <a:xfrm>
                      <a:off x="7603920" y="1739880"/>
                      <a:ext cx="10080" cy="158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10"/>
                          </a:move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Line 235"/>
                    <p:cNvSpPr/>
                    <p:nvPr/>
                  </p:nvSpPr>
                  <p:spPr>
                    <a:xfrm flipV="1">
                      <a:off x="7614000" y="1702800"/>
                      <a:ext cx="1044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9" name="Line 236"/>
                    <p:cNvSpPr/>
                    <p:nvPr/>
                  </p:nvSpPr>
                  <p:spPr>
                    <a:xfrm flipV="1">
                      <a:off x="7633080" y="1670040"/>
                      <a:ext cx="64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Line 237"/>
                    <p:cNvSpPr/>
                    <p:nvPr/>
                  </p:nvSpPr>
                  <p:spPr>
                    <a:xfrm flipV="1">
                      <a:off x="7650000" y="163512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Line 238"/>
                    <p:cNvSpPr/>
                    <p:nvPr/>
                  </p:nvSpPr>
                  <p:spPr>
                    <a:xfrm flipH="1" flipV="1">
                      <a:off x="7644240" y="160020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Freeform 239"/>
                    <p:cNvSpPr/>
                    <p:nvPr/>
                  </p:nvSpPr>
                  <p:spPr>
                    <a:xfrm>
                      <a:off x="7633080" y="1563480"/>
                      <a:ext cx="6480" cy="176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11"/>
                          </a:move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Freeform 240"/>
                    <p:cNvSpPr/>
                    <p:nvPr/>
                  </p:nvSpPr>
                  <p:spPr>
                    <a:xfrm>
                      <a:off x="7627320" y="1539720"/>
                      <a:ext cx="16920" cy="504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3" y="2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Line 241"/>
                    <p:cNvSpPr/>
                    <p:nvPr/>
                  </p:nvSpPr>
                  <p:spPr>
                    <a:xfrm flipV="1">
                      <a:off x="7658640" y="15098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5" name="Line 242"/>
                    <p:cNvSpPr/>
                    <p:nvPr/>
                  </p:nvSpPr>
                  <p:spPr>
                    <a:xfrm flipV="1">
                      <a:off x="7663680" y="1471320"/>
                      <a:ext cx="14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243"/>
                    <p:cNvSpPr/>
                    <p:nvPr/>
                  </p:nvSpPr>
                  <p:spPr>
                    <a:xfrm>
                      <a:off x="7670520" y="14493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5" y="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244"/>
                    <p:cNvSpPr/>
                    <p:nvPr/>
                  </p:nvSpPr>
                  <p:spPr>
                    <a:xfrm>
                      <a:off x="7711200" y="1452600"/>
                      <a:ext cx="17280" cy="6120"/>
                    </a:xfrm>
                    <a:custGeom>
                      <a:avLst/>
                      <a:gdLst>
                        <a:gd name="textAreaLeft" fmla="*/ 0 w 17280"/>
                        <a:gd name="textAreaRight" fmla="*/ 17640 w 1728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245"/>
                    <p:cNvSpPr/>
                    <p:nvPr/>
                  </p:nvSpPr>
                  <p:spPr>
                    <a:xfrm>
                      <a:off x="7747200" y="146844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Line 246"/>
                    <p:cNvSpPr/>
                    <p:nvPr/>
                  </p:nvSpPr>
                  <p:spPr>
                    <a:xfrm>
                      <a:off x="7785000" y="148572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247"/>
                    <p:cNvSpPr/>
                    <p:nvPr/>
                  </p:nvSpPr>
                  <p:spPr>
                    <a:xfrm>
                      <a:off x="7826040" y="148284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11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Freeform 248"/>
                    <p:cNvSpPr/>
                    <p:nvPr/>
                  </p:nvSpPr>
                  <p:spPr>
                    <a:xfrm>
                      <a:off x="7861680" y="149688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0" y="0"/>
                          </a:moveTo>
                          <a:lnTo>
                            <a:pt x="6" y="5"/>
                          </a:lnTo>
                          <a:lnTo>
                            <a:pt x="11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249"/>
                    <p:cNvSpPr/>
                    <p:nvPr/>
                  </p:nvSpPr>
                  <p:spPr>
                    <a:xfrm>
                      <a:off x="7066800" y="1544760"/>
                      <a:ext cx="656280" cy="1054080"/>
                    </a:xfrm>
                    <a:custGeom>
                      <a:avLst/>
                      <a:gdLst>
                        <a:gd name="textAreaLeft" fmla="*/ 0 w 656280"/>
                        <a:gd name="textAreaRight" fmla="*/ 656640 w 656280"/>
                        <a:gd name="textAreaTop" fmla="*/ 0 h 1054080"/>
                        <a:gd name="textAreaBottom" fmla="*/ 1054080 h 1054080"/>
                      </a:gdLst>
                      <a:ahLst/>
                      <a:rect l="textAreaLeft" t="textAreaTop" r="textAreaRight" b="textAreaBottom"/>
                      <a:pathLst>
                        <a:path w="384" h="664">
                          <a:moveTo>
                            <a:pt x="228" y="664"/>
                          </a:moveTo>
                          <a:lnTo>
                            <a:pt x="226" y="649"/>
                          </a:lnTo>
                          <a:lnTo>
                            <a:pt x="219" y="643"/>
                          </a:lnTo>
                          <a:lnTo>
                            <a:pt x="207" y="634"/>
                          </a:lnTo>
                          <a:lnTo>
                            <a:pt x="199" y="627"/>
                          </a:lnTo>
                          <a:lnTo>
                            <a:pt x="192" y="618"/>
                          </a:lnTo>
                          <a:lnTo>
                            <a:pt x="180" y="612"/>
                          </a:lnTo>
                          <a:lnTo>
                            <a:pt x="169" y="609"/>
                          </a:lnTo>
                          <a:lnTo>
                            <a:pt x="174" y="604"/>
                          </a:lnTo>
                          <a:lnTo>
                            <a:pt x="162" y="604"/>
                          </a:lnTo>
                          <a:lnTo>
                            <a:pt x="148" y="603"/>
                          </a:lnTo>
                          <a:lnTo>
                            <a:pt x="138" y="601"/>
                          </a:lnTo>
                          <a:lnTo>
                            <a:pt x="124" y="607"/>
                          </a:lnTo>
                          <a:lnTo>
                            <a:pt x="114" y="603"/>
                          </a:lnTo>
                          <a:lnTo>
                            <a:pt x="110" y="592"/>
                          </a:lnTo>
                          <a:lnTo>
                            <a:pt x="105" y="583"/>
                          </a:lnTo>
                          <a:lnTo>
                            <a:pt x="96" y="580"/>
                          </a:lnTo>
                          <a:lnTo>
                            <a:pt x="83" y="577"/>
                          </a:lnTo>
                          <a:lnTo>
                            <a:pt x="74" y="573"/>
                          </a:lnTo>
                          <a:lnTo>
                            <a:pt x="66" y="565"/>
                          </a:lnTo>
                          <a:lnTo>
                            <a:pt x="53" y="561"/>
                          </a:lnTo>
                          <a:lnTo>
                            <a:pt x="41" y="553"/>
                          </a:lnTo>
                          <a:lnTo>
                            <a:pt x="27" y="553"/>
                          </a:lnTo>
                          <a:lnTo>
                            <a:pt x="15" y="547"/>
                          </a:lnTo>
                          <a:lnTo>
                            <a:pt x="6" y="537"/>
                          </a:lnTo>
                          <a:lnTo>
                            <a:pt x="0" y="528"/>
                          </a:lnTo>
                          <a:lnTo>
                            <a:pt x="0" y="519"/>
                          </a:lnTo>
                          <a:lnTo>
                            <a:pt x="9" y="513"/>
                          </a:lnTo>
                          <a:lnTo>
                            <a:pt x="20" y="504"/>
                          </a:lnTo>
                          <a:lnTo>
                            <a:pt x="20" y="498"/>
                          </a:lnTo>
                          <a:lnTo>
                            <a:pt x="18" y="486"/>
                          </a:lnTo>
                          <a:lnTo>
                            <a:pt x="15" y="471"/>
                          </a:lnTo>
                          <a:lnTo>
                            <a:pt x="12" y="455"/>
                          </a:lnTo>
                          <a:lnTo>
                            <a:pt x="14" y="434"/>
                          </a:lnTo>
                          <a:lnTo>
                            <a:pt x="18" y="407"/>
                          </a:lnTo>
                          <a:lnTo>
                            <a:pt x="29" y="395"/>
                          </a:lnTo>
                          <a:lnTo>
                            <a:pt x="44" y="380"/>
                          </a:lnTo>
                          <a:lnTo>
                            <a:pt x="54" y="363"/>
                          </a:lnTo>
                          <a:lnTo>
                            <a:pt x="62" y="341"/>
                          </a:lnTo>
                          <a:lnTo>
                            <a:pt x="60" y="325"/>
                          </a:lnTo>
                          <a:lnTo>
                            <a:pt x="54" y="298"/>
                          </a:lnTo>
                          <a:lnTo>
                            <a:pt x="56" y="280"/>
                          </a:lnTo>
                          <a:lnTo>
                            <a:pt x="59" y="260"/>
                          </a:lnTo>
                          <a:lnTo>
                            <a:pt x="65" y="248"/>
                          </a:lnTo>
                          <a:lnTo>
                            <a:pt x="77" y="241"/>
                          </a:lnTo>
                          <a:lnTo>
                            <a:pt x="81" y="232"/>
                          </a:lnTo>
                          <a:lnTo>
                            <a:pt x="86" y="217"/>
                          </a:lnTo>
                          <a:lnTo>
                            <a:pt x="87" y="212"/>
                          </a:lnTo>
                          <a:lnTo>
                            <a:pt x="93" y="193"/>
                          </a:lnTo>
                          <a:lnTo>
                            <a:pt x="96" y="180"/>
                          </a:lnTo>
                          <a:lnTo>
                            <a:pt x="98" y="165"/>
                          </a:lnTo>
                          <a:lnTo>
                            <a:pt x="104" y="160"/>
                          </a:lnTo>
                          <a:lnTo>
                            <a:pt x="110" y="160"/>
                          </a:lnTo>
                          <a:lnTo>
                            <a:pt x="116" y="165"/>
                          </a:lnTo>
                          <a:lnTo>
                            <a:pt x="120" y="160"/>
                          </a:lnTo>
                          <a:lnTo>
                            <a:pt x="127" y="147"/>
                          </a:lnTo>
                          <a:lnTo>
                            <a:pt x="127" y="138"/>
                          </a:lnTo>
                          <a:lnTo>
                            <a:pt x="121" y="39"/>
                          </a:lnTo>
                          <a:lnTo>
                            <a:pt x="190" y="0"/>
                          </a:lnTo>
                          <a:lnTo>
                            <a:pt x="196" y="3"/>
                          </a:lnTo>
                          <a:lnTo>
                            <a:pt x="207" y="6"/>
                          </a:lnTo>
                          <a:lnTo>
                            <a:pt x="219" y="9"/>
                          </a:lnTo>
                          <a:lnTo>
                            <a:pt x="232" y="15"/>
                          </a:lnTo>
                          <a:lnTo>
                            <a:pt x="237" y="18"/>
                          </a:lnTo>
                          <a:lnTo>
                            <a:pt x="248" y="18"/>
                          </a:lnTo>
                          <a:lnTo>
                            <a:pt x="256" y="18"/>
                          </a:lnTo>
                          <a:lnTo>
                            <a:pt x="265" y="17"/>
                          </a:lnTo>
                          <a:lnTo>
                            <a:pt x="269" y="15"/>
                          </a:lnTo>
                          <a:lnTo>
                            <a:pt x="284" y="11"/>
                          </a:lnTo>
                          <a:lnTo>
                            <a:pt x="301" y="5"/>
                          </a:lnTo>
                          <a:lnTo>
                            <a:pt x="316" y="0"/>
                          </a:lnTo>
                          <a:lnTo>
                            <a:pt x="328" y="0"/>
                          </a:lnTo>
                          <a:lnTo>
                            <a:pt x="334" y="21"/>
                          </a:lnTo>
                          <a:lnTo>
                            <a:pt x="347" y="55"/>
                          </a:lnTo>
                          <a:lnTo>
                            <a:pt x="314" y="124"/>
                          </a:lnTo>
                          <a:lnTo>
                            <a:pt x="329" y="147"/>
                          </a:lnTo>
                          <a:lnTo>
                            <a:pt x="349" y="145"/>
                          </a:lnTo>
                          <a:lnTo>
                            <a:pt x="384" y="171"/>
                          </a:lnTo>
                          <a:lnTo>
                            <a:pt x="361" y="193"/>
                          </a:lnTo>
                          <a:lnTo>
                            <a:pt x="350" y="211"/>
                          </a:lnTo>
                          <a:lnTo>
                            <a:pt x="353" y="224"/>
                          </a:lnTo>
                          <a:lnTo>
                            <a:pt x="346" y="241"/>
                          </a:lnTo>
                          <a:lnTo>
                            <a:pt x="341" y="256"/>
                          </a:lnTo>
                          <a:lnTo>
                            <a:pt x="328" y="272"/>
                          </a:lnTo>
                          <a:lnTo>
                            <a:pt x="313" y="290"/>
                          </a:lnTo>
                          <a:lnTo>
                            <a:pt x="304" y="304"/>
                          </a:lnTo>
                          <a:lnTo>
                            <a:pt x="307" y="326"/>
                          </a:lnTo>
                          <a:lnTo>
                            <a:pt x="287" y="353"/>
                          </a:lnTo>
                          <a:lnTo>
                            <a:pt x="269" y="378"/>
                          </a:lnTo>
                          <a:lnTo>
                            <a:pt x="265" y="401"/>
                          </a:lnTo>
                          <a:lnTo>
                            <a:pt x="265" y="419"/>
                          </a:lnTo>
                          <a:lnTo>
                            <a:pt x="269" y="437"/>
                          </a:lnTo>
                          <a:lnTo>
                            <a:pt x="296" y="458"/>
                          </a:lnTo>
                          <a:lnTo>
                            <a:pt x="319" y="476"/>
                          </a:lnTo>
                          <a:lnTo>
                            <a:pt x="319" y="558"/>
                          </a:lnTo>
                          <a:lnTo>
                            <a:pt x="228" y="664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Line 250"/>
                    <p:cNvSpPr/>
                    <p:nvPr/>
                  </p:nvSpPr>
                  <p:spPr>
                    <a:xfrm flipH="1" flipV="1">
                      <a:off x="7453440" y="2579400"/>
                      <a:ext cx="288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Line 251"/>
                    <p:cNvSpPr/>
                    <p:nvPr/>
                  </p:nvSpPr>
                  <p:spPr>
                    <a:xfrm flipH="1" flipV="1">
                      <a:off x="7425360" y="25538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252"/>
                    <p:cNvSpPr/>
                    <p:nvPr/>
                  </p:nvSpPr>
                  <p:spPr>
                    <a:xfrm>
                      <a:off x="7395120" y="252720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253"/>
                    <p:cNvSpPr/>
                    <p:nvPr/>
                  </p:nvSpPr>
                  <p:spPr>
                    <a:xfrm>
                      <a:off x="7359120" y="2511360"/>
                      <a:ext cx="16920" cy="64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10" y="4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Freeform 254"/>
                    <p:cNvSpPr/>
                    <p:nvPr/>
                  </p:nvSpPr>
                  <p:spPr>
                    <a:xfrm>
                      <a:off x="7333560" y="25034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255"/>
                    <p:cNvSpPr/>
                    <p:nvPr/>
                  </p:nvSpPr>
                  <p:spPr>
                    <a:xfrm>
                      <a:off x="7293960" y="2498760"/>
                      <a:ext cx="18720" cy="32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2"/>
                          </a:moveTo>
                          <a:lnTo>
                            <a:pt x="5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256"/>
                    <p:cNvSpPr/>
                    <p:nvPr/>
                  </p:nvSpPr>
                  <p:spPr>
                    <a:xfrm>
                      <a:off x="7259760" y="2496960"/>
                      <a:ext cx="13680" cy="972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8" h="6">
                          <a:moveTo>
                            <a:pt x="8" y="6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257"/>
                    <p:cNvSpPr/>
                    <p:nvPr/>
                  </p:nvSpPr>
                  <p:spPr>
                    <a:xfrm>
                      <a:off x="7236360" y="24685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6"/>
                          </a:moveTo>
                          <a:lnTo>
                            <a:pt x="6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258"/>
                    <p:cNvSpPr/>
                    <p:nvPr/>
                  </p:nvSpPr>
                  <p:spPr>
                    <a:xfrm>
                      <a:off x="7198560" y="245592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5"/>
                          </a:moveTo>
                          <a:lnTo>
                            <a:pt x="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259"/>
                    <p:cNvSpPr/>
                    <p:nvPr/>
                  </p:nvSpPr>
                  <p:spPr>
                    <a:xfrm>
                      <a:off x="7162560" y="243684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Freeform 260"/>
                    <p:cNvSpPr/>
                    <p:nvPr/>
                  </p:nvSpPr>
                  <p:spPr>
                    <a:xfrm>
                      <a:off x="7126560" y="242244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261"/>
                    <p:cNvSpPr/>
                    <p:nvPr/>
                  </p:nvSpPr>
                  <p:spPr>
                    <a:xfrm>
                      <a:off x="7087320" y="2408040"/>
                      <a:ext cx="18360" cy="129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11" h="8">
                          <a:moveTo>
                            <a:pt x="11" y="8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262"/>
                    <p:cNvSpPr/>
                    <p:nvPr/>
                  </p:nvSpPr>
                  <p:spPr>
                    <a:xfrm>
                      <a:off x="7066800" y="23781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10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66" name="Freeform 263"/>
                  <p:cNvSpPr/>
                  <p:nvPr/>
                </p:nvSpPr>
                <p:spPr>
                  <a:xfrm>
                    <a:off x="7075440" y="2352600"/>
                    <a:ext cx="15480" cy="111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Line 264"/>
                  <p:cNvSpPr/>
                  <p:nvPr/>
                </p:nvSpPr>
                <p:spPr>
                  <a:xfrm flipH="1" flipV="1">
                    <a:off x="7097040" y="231588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Freeform 265"/>
                  <p:cNvSpPr/>
                  <p:nvPr/>
                </p:nvSpPr>
                <p:spPr>
                  <a:xfrm>
                    <a:off x="7090920" y="228132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12"/>
                        </a:moveTo>
                        <a:lnTo>
                          <a:pt x="1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Line 266"/>
                  <p:cNvSpPr/>
                  <p:nvPr/>
                </p:nvSpPr>
                <p:spPr>
                  <a:xfrm flipV="1">
                    <a:off x="7087320" y="224280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Line 267"/>
                  <p:cNvSpPr/>
                  <p:nvPr/>
                </p:nvSpPr>
                <p:spPr>
                  <a:xfrm flipV="1">
                    <a:off x="7092360" y="220464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Line 268"/>
                  <p:cNvSpPr/>
                  <p:nvPr/>
                </p:nvSpPr>
                <p:spPr>
                  <a:xfrm flipV="1">
                    <a:off x="7102800" y="217296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Freeform 269"/>
                  <p:cNvSpPr/>
                  <p:nvPr/>
                </p:nvSpPr>
                <p:spPr>
                  <a:xfrm>
                    <a:off x="7131960" y="214452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0" y="9"/>
                        </a:moveTo>
                        <a:lnTo>
                          <a:pt x="6" y="2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270"/>
                  <p:cNvSpPr/>
                  <p:nvPr/>
                </p:nvSpPr>
                <p:spPr>
                  <a:xfrm>
                    <a:off x="7154280" y="21114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0" y="11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271"/>
                  <p:cNvSpPr/>
                  <p:nvPr/>
                </p:nvSpPr>
                <p:spPr>
                  <a:xfrm>
                    <a:off x="7169760" y="2074680"/>
                    <a:ext cx="2880" cy="1908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2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Line 272"/>
                  <p:cNvSpPr/>
                  <p:nvPr/>
                </p:nvSpPr>
                <p:spPr>
                  <a:xfrm flipH="1" flipV="1">
                    <a:off x="7164000" y="2038320"/>
                    <a:ext cx="5400" cy="172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273"/>
                  <p:cNvSpPr/>
                  <p:nvPr/>
                </p:nvSpPr>
                <p:spPr>
                  <a:xfrm>
                    <a:off x="7159320" y="200016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0" y="11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Line 274"/>
                  <p:cNvSpPr/>
                  <p:nvPr/>
                </p:nvSpPr>
                <p:spPr>
                  <a:xfrm flipV="1">
                    <a:off x="7162560" y="196164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Freeform 275"/>
                  <p:cNvSpPr/>
                  <p:nvPr/>
                </p:nvSpPr>
                <p:spPr>
                  <a:xfrm>
                    <a:off x="7174800" y="193176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0" y="9"/>
                        </a:moveTo>
                        <a:lnTo>
                          <a:pt x="2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Freeform 276"/>
                  <p:cNvSpPr/>
                  <p:nvPr/>
                </p:nvSpPr>
                <p:spPr>
                  <a:xfrm>
                    <a:off x="7203600" y="190008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1" y="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277"/>
                  <p:cNvSpPr/>
                  <p:nvPr/>
                </p:nvSpPr>
                <p:spPr>
                  <a:xfrm>
                    <a:off x="7215840" y="1865160"/>
                    <a:ext cx="5040" cy="1584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278"/>
                  <p:cNvSpPr/>
                  <p:nvPr/>
                </p:nvSpPr>
                <p:spPr>
                  <a:xfrm>
                    <a:off x="7225920" y="182700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3" y="2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279"/>
                  <p:cNvSpPr/>
                  <p:nvPr/>
                </p:nvSpPr>
                <p:spPr>
                  <a:xfrm>
                    <a:off x="7234560" y="1798560"/>
                    <a:ext cx="15480" cy="972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280"/>
                  <p:cNvSpPr/>
                  <p:nvPr/>
                </p:nvSpPr>
                <p:spPr>
                  <a:xfrm>
                    <a:off x="7266960" y="17892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0" y="9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Freeform 281"/>
                  <p:cNvSpPr/>
                  <p:nvPr/>
                </p:nvSpPr>
                <p:spPr>
                  <a:xfrm>
                    <a:off x="7284240" y="1751040"/>
                    <a:ext cx="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2">
                        <a:moveTo>
                          <a:pt x="0" y="12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Line 282"/>
                  <p:cNvSpPr/>
                  <p:nvPr/>
                </p:nvSpPr>
                <p:spPr>
                  <a:xfrm flipH="1" flipV="1">
                    <a:off x="7282440" y="171252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Line 283"/>
                  <p:cNvSpPr/>
                  <p:nvPr/>
                </p:nvSpPr>
                <p:spPr>
                  <a:xfrm flipH="1" flipV="1">
                    <a:off x="7278840" y="167436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Line 284"/>
                  <p:cNvSpPr/>
                  <p:nvPr/>
                </p:nvSpPr>
                <p:spPr>
                  <a:xfrm flipH="1" flipV="1">
                    <a:off x="7276680" y="16362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285"/>
                  <p:cNvSpPr/>
                  <p:nvPr/>
                </p:nvSpPr>
                <p:spPr>
                  <a:xfrm>
                    <a:off x="7274160" y="1604880"/>
                    <a:ext cx="8280" cy="1260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5" h="8">
                        <a:moveTo>
                          <a:pt x="2" y="8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Line 286"/>
                  <p:cNvSpPr/>
                  <p:nvPr/>
                </p:nvSpPr>
                <p:spPr>
                  <a:xfrm flipV="1">
                    <a:off x="7299720" y="158544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Line 287"/>
                  <p:cNvSpPr/>
                  <p:nvPr/>
                </p:nvSpPr>
                <p:spPr>
                  <a:xfrm flipV="1">
                    <a:off x="7335360" y="1566360"/>
                    <a:ext cx="1872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Line 288"/>
                  <p:cNvSpPr/>
                  <p:nvPr/>
                </p:nvSpPr>
                <p:spPr>
                  <a:xfrm flipV="1">
                    <a:off x="7371360" y="154728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289"/>
                  <p:cNvSpPr/>
                  <p:nvPr/>
                </p:nvSpPr>
                <p:spPr>
                  <a:xfrm>
                    <a:off x="7410600" y="1552680"/>
                    <a:ext cx="16920" cy="468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0" h="3">
                        <a:moveTo>
                          <a:pt x="0" y="0"/>
                        </a:moveTo>
                        <a:lnTo>
                          <a:pt x="6" y="1"/>
                        </a:lnTo>
                        <a:lnTo>
                          <a:pt x="10" y="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Freeform 290"/>
                  <p:cNvSpPr/>
                  <p:nvPr/>
                </p:nvSpPr>
                <p:spPr>
                  <a:xfrm>
                    <a:off x="7448040" y="1562040"/>
                    <a:ext cx="18720" cy="936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" h="6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1" y="6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Freeform 291"/>
                  <p:cNvSpPr/>
                  <p:nvPr/>
                </p:nvSpPr>
                <p:spPr>
                  <a:xfrm>
                    <a:off x="7487640" y="1573200"/>
                    <a:ext cx="18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292"/>
                  <p:cNvSpPr/>
                  <p:nvPr/>
                </p:nvSpPr>
                <p:spPr>
                  <a:xfrm>
                    <a:off x="7526880" y="1563480"/>
                    <a:ext cx="18720" cy="79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293"/>
                  <p:cNvSpPr/>
                  <p:nvPr/>
                </p:nvSpPr>
                <p:spPr>
                  <a:xfrm>
                    <a:off x="7566480" y="1552680"/>
                    <a:ext cx="20520" cy="46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2" h="3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294"/>
                  <p:cNvSpPr/>
                  <p:nvPr/>
                </p:nvSpPr>
                <p:spPr>
                  <a:xfrm>
                    <a:off x="7603920" y="1544760"/>
                    <a:ext cx="20520" cy="28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880"/>
                      <a:gd name="textAreaBottom" fmla="*/ 3240 h 2880"/>
                    </a:gdLst>
                    <a:ahLst/>
                    <a:rect l="textAreaLeft" t="textAreaTop" r="textAreaRight" b="textAreaBottom"/>
                    <a:pathLst>
                      <a:path w="12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295"/>
                  <p:cNvSpPr/>
                  <p:nvPr/>
                </p:nvSpPr>
                <p:spPr>
                  <a:xfrm>
                    <a:off x="7633080" y="1562040"/>
                    <a:ext cx="6480" cy="190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3" y="10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Line 296"/>
                  <p:cNvSpPr/>
                  <p:nvPr/>
                </p:nvSpPr>
                <p:spPr>
                  <a:xfrm>
                    <a:off x="7644960" y="159696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Line 297"/>
                  <p:cNvSpPr/>
                  <p:nvPr/>
                </p:nvSpPr>
                <p:spPr>
                  <a:xfrm flipH="1">
                    <a:off x="7650000" y="163188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Line 298"/>
                  <p:cNvSpPr/>
                  <p:nvPr/>
                </p:nvSpPr>
                <p:spPr>
                  <a:xfrm flipH="1">
                    <a:off x="7633080" y="1668240"/>
                    <a:ext cx="10080" cy="162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Line 299"/>
                  <p:cNvSpPr/>
                  <p:nvPr/>
                </p:nvSpPr>
                <p:spPr>
                  <a:xfrm flipH="1">
                    <a:off x="7617240" y="1703160"/>
                    <a:ext cx="6840" cy="176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Freeform 300"/>
                  <p:cNvSpPr/>
                  <p:nvPr/>
                </p:nvSpPr>
                <p:spPr>
                  <a:xfrm>
                    <a:off x="7603920" y="1736640"/>
                    <a:ext cx="10080" cy="176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6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Freeform 301"/>
                  <p:cNvSpPr/>
                  <p:nvPr/>
                </p:nvSpPr>
                <p:spPr>
                  <a:xfrm>
                    <a:off x="7624440" y="1770120"/>
                    <a:ext cx="18360" cy="7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0"/>
                        </a:moveTo>
                        <a:lnTo>
                          <a:pt x="3" y="5"/>
                        </a:lnTo>
                        <a:lnTo>
                          <a:pt x="11" y="5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302"/>
                  <p:cNvSpPr/>
                  <p:nvPr/>
                </p:nvSpPr>
                <p:spPr>
                  <a:xfrm>
                    <a:off x="7663680" y="1774800"/>
                    <a:ext cx="15480" cy="1260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Line 303"/>
                  <p:cNvSpPr/>
                  <p:nvPr/>
                </p:nvSpPr>
                <p:spPr>
                  <a:xfrm>
                    <a:off x="7696440" y="1797120"/>
                    <a:ext cx="1692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Line 304"/>
                  <p:cNvSpPr/>
                  <p:nvPr/>
                </p:nvSpPr>
                <p:spPr>
                  <a:xfrm flipH="1">
                    <a:off x="7702560" y="1820880"/>
                    <a:ext cx="154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305"/>
                  <p:cNvSpPr/>
                  <p:nvPr/>
                </p:nvSpPr>
                <p:spPr>
                  <a:xfrm>
                    <a:off x="7675920" y="184608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8" y="0"/>
                        </a:moveTo>
                        <a:lnTo>
                          <a:pt x="5" y="3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Freeform 306"/>
                  <p:cNvSpPr/>
                  <p:nvPr/>
                </p:nvSpPr>
                <p:spPr>
                  <a:xfrm>
                    <a:off x="7665480" y="1876320"/>
                    <a:ext cx="5400" cy="190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307"/>
                  <p:cNvSpPr/>
                  <p:nvPr/>
                </p:nvSpPr>
                <p:spPr>
                  <a:xfrm>
                    <a:off x="7655400" y="1914480"/>
                    <a:ext cx="8280" cy="1728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5" y="0"/>
                        </a:moveTo>
                        <a:lnTo>
                          <a:pt x="2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Freeform 308"/>
                  <p:cNvSpPr/>
                  <p:nvPr/>
                </p:nvSpPr>
                <p:spPr>
                  <a:xfrm>
                    <a:off x="7638120" y="1950840"/>
                    <a:ext cx="11880" cy="14400"/>
                  </a:xfrm>
                  <a:custGeom>
                    <a:avLst/>
                    <a:gdLst>
                      <a:gd name="textAreaLeft" fmla="*/ 0 w 11880"/>
                      <a:gd name="textAreaRight" fmla="*/ 12240 w 118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7" y="0"/>
                        </a:move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Line 309"/>
                  <p:cNvSpPr/>
                  <p:nvPr/>
                </p:nvSpPr>
                <p:spPr>
                  <a:xfrm flipH="1">
                    <a:off x="7612200" y="197964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Line 310"/>
                  <p:cNvSpPr/>
                  <p:nvPr/>
                </p:nvSpPr>
                <p:spPr>
                  <a:xfrm flipH="1">
                    <a:off x="7588440" y="2009880"/>
                    <a:ext cx="100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311"/>
                  <p:cNvSpPr/>
                  <p:nvPr/>
                </p:nvSpPr>
                <p:spPr>
                  <a:xfrm>
                    <a:off x="7588440" y="204300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Line 312"/>
                  <p:cNvSpPr/>
                  <p:nvPr/>
                </p:nvSpPr>
                <p:spPr>
                  <a:xfrm flipH="1">
                    <a:off x="7566480" y="2079720"/>
                    <a:ext cx="115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Line 313"/>
                  <p:cNvSpPr/>
                  <p:nvPr/>
                </p:nvSpPr>
                <p:spPr>
                  <a:xfrm flipH="1">
                    <a:off x="7542000" y="210960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314"/>
                  <p:cNvSpPr/>
                  <p:nvPr/>
                </p:nvSpPr>
                <p:spPr>
                  <a:xfrm>
                    <a:off x="7525440" y="213984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0"/>
                        </a:moveTo>
                        <a:lnTo>
                          <a:pt x="1" y="3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Freeform 315"/>
                  <p:cNvSpPr/>
                  <p:nvPr/>
                </p:nvSpPr>
                <p:spPr>
                  <a:xfrm>
                    <a:off x="7520400" y="2176560"/>
                    <a:ext cx="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Line 316"/>
                  <p:cNvSpPr/>
                  <p:nvPr/>
                </p:nvSpPr>
                <p:spPr>
                  <a:xfrm>
                    <a:off x="7520400" y="221436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Line 317"/>
                  <p:cNvSpPr/>
                  <p:nvPr/>
                </p:nvSpPr>
                <p:spPr>
                  <a:xfrm>
                    <a:off x="7537320" y="2247840"/>
                    <a:ext cx="1836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Freeform 318"/>
                  <p:cNvSpPr/>
                  <p:nvPr/>
                </p:nvSpPr>
                <p:spPr>
                  <a:xfrm>
                    <a:off x="7571520" y="2268360"/>
                    <a:ext cx="16920" cy="1296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0" h="8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Freeform 319"/>
                  <p:cNvSpPr/>
                  <p:nvPr/>
                </p:nvSpPr>
                <p:spPr>
                  <a:xfrm>
                    <a:off x="7603920" y="2292120"/>
                    <a:ext cx="8280" cy="1764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5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Line 320"/>
                  <p:cNvSpPr/>
                  <p:nvPr/>
                </p:nvSpPr>
                <p:spPr>
                  <a:xfrm>
                    <a:off x="7612560" y="232884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Line 321"/>
                  <p:cNvSpPr/>
                  <p:nvPr/>
                </p:nvSpPr>
                <p:spPr>
                  <a:xfrm>
                    <a:off x="7612560" y="236520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Line 322"/>
                  <p:cNvSpPr/>
                  <p:nvPr/>
                </p:nvSpPr>
                <p:spPr>
                  <a:xfrm>
                    <a:off x="7612560" y="240336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Line 323"/>
                  <p:cNvSpPr/>
                  <p:nvPr/>
                </p:nvSpPr>
                <p:spPr>
                  <a:xfrm flipH="1">
                    <a:off x="7588080" y="244008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Line 324"/>
                  <p:cNvSpPr/>
                  <p:nvPr/>
                </p:nvSpPr>
                <p:spPr>
                  <a:xfrm flipH="1">
                    <a:off x="7562520" y="246852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Line 325"/>
                  <p:cNvSpPr/>
                  <p:nvPr/>
                </p:nvSpPr>
                <p:spPr>
                  <a:xfrm flipH="1">
                    <a:off x="7535160" y="249696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Line 326"/>
                  <p:cNvSpPr/>
                  <p:nvPr/>
                </p:nvSpPr>
                <p:spPr>
                  <a:xfrm flipH="1">
                    <a:off x="7509600" y="252576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Line 327"/>
                  <p:cNvSpPr/>
                  <p:nvPr/>
                </p:nvSpPr>
                <p:spPr>
                  <a:xfrm flipH="1">
                    <a:off x="7482600" y="2554200"/>
                    <a:ext cx="11520" cy="158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Line 328"/>
                  <p:cNvSpPr/>
                  <p:nvPr/>
                </p:nvSpPr>
                <p:spPr>
                  <a:xfrm flipH="1">
                    <a:off x="7456320" y="258444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32" name="Freeform 329"/>
            <p:cNvSpPr/>
            <p:nvPr/>
          </p:nvSpPr>
          <p:spPr>
            <a:xfrm>
              <a:off x="6870960" y="1654200"/>
              <a:ext cx="1370160" cy="8049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01" h="507">
                  <a:moveTo>
                    <a:pt x="0" y="102"/>
                  </a:moveTo>
                  <a:cubicBezTo>
                    <a:pt x="57" y="51"/>
                    <a:pt x="114" y="0"/>
                    <a:pt x="148" y="5"/>
                  </a:cubicBezTo>
                  <a:cubicBezTo>
                    <a:pt x="182" y="10"/>
                    <a:pt x="193" y="62"/>
                    <a:pt x="205" y="131"/>
                  </a:cubicBezTo>
                  <a:cubicBezTo>
                    <a:pt x="217" y="200"/>
                    <a:pt x="191" y="378"/>
                    <a:pt x="222" y="422"/>
                  </a:cubicBezTo>
                  <a:cubicBezTo>
                    <a:pt x="253" y="466"/>
                    <a:pt x="340" y="412"/>
                    <a:pt x="393" y="393"/>
                  </a:cubicBezTo>
                  <a:cubicBezTo>
                    <a:pt x="446" y="374"/>
                    <a:pt x="494" y="318"/>
                    <a:pt x="542" y="307"/>
                  </a:cubicBezTo>
                  <a:cubicBezTo>
                    <a:pt x="590" y="296"/>
                    <a:pt x="642" y="312"/>
                    <a:pt x="684" y="325"/>
                  </a:cubicBezTo>
                  <a:cubicBezTo>
                    <a:pt x="726" y="338"/>
                    <a:pt x="785" y="357"/>
                    <a:pt x="793" y="387"/>
                  </a:cubicBezTo>
                  <a:cubicBezTo>
                    <a:pt x="801" y="417"/>
                    <a:pt x="765" y="462"/>
                    <a:pt x="730" y="507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30"/>
            <p:cNvSpPr/>
            <p:nvPr/>
          </p:nvSpPr>
          <p:spPr>
            <a:xfrm>
              <a:off x="7293240" y="1581120"/>
              <a:ext cx="718200" cy="468360"/>
            </a:xfrm>
            <a:custGeom>
              <a:avLst/>
              <a:gdLst>
                <a:gd name="textAreaLeft" fmla="*/ 0 w 718200"/>
                <a:gd name="textAreaRight" fmla="*/ 718560 w 71820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20" h="295">
                  <a:moveTo>
                    <a:pt x="95" y="0"/>
                  </a:moveTo>
                  <a:cubicBezTo>
                    <a:pt x="93" y="22"/>
                    <a:pt x="92" y="44"/>
                    <a:pt x="78" y="85"/>
                  </a:cubicBezTo>
                  <a:cubicBezTo>
                    <a:pt x="64" y="126"/>
                    <a:pt x="0" y="217"/>
                    <a:pt x="10" y="245"/>
                  </a:cubicBezTo>
                  <a:cubicBezTo>
                    <a:pt x="20" y="273"/>
                    <a:pt x="96" y="245"/>
                    <a:pt x="141" y="251"/>
                  </a:cubicBezTo>
                  <a:cubicBezTo>
                    <a:pt x="186" y="257"/>
                    <a:pt x="249" y="295"/>
                    <a:pt x="283" y="279"/>
                  </a:cubicBezTo>
                  <a:cubicBezTo>
                    <a:pt x="317" y="263"/>
                    <a:pt x="323" y="180"/>
                    <a:pt x="346" y="154"/>
                  </a:cubicBezTo>
                  <a:cubicBezTo>
                    <a:pt x="369" y="128"/>
                    <a:pt x="408" y="126"/>
                    <a:pt x="420" y="120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TextBox 313"/>
          <p:cNvSpPr/>
          <p:nvPr/>
        </p:nvSpPr>
        <p:spPr>
          <a:xfrm>
            <a:off x="383040" y="1362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Group 340"/>
          <p:cNvGrpSpPr/>
          <p:nvPr/>
        </p:nvGrpSpPr>
        <p:grpSpPr>
          <a:xfrm>
            <a:off x="361440" y="5540400"/>
            <a:ext cx="8209440" cy="1212120"/>
            <a:chOff x="361440" y="5540400"/>
            <a:chExt cx="8209440" cy="1212120"/>
          </a:xfrm>
        </p:grpSpPr>
        <p:sp>
          <p:nvSpPr>
            <p:cNvPr id="1936" name="Text Box 30"/>
            <p:cNvSpPr/>
            <p:nvPr/>
          </p:nvSpPr>
          <p:spPr>
            <a:xfrm>
              <a:off x="361440" y="5810400"/>
              <a:ext cx="8209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ousehold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mmun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haracter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ross-country data harmonization challenges.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Livelihoods, Assets, Gender &amp; Access Fo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Box 314"/>
            <p:cNvSpPr/>
            <p:nvPr/>
          </p:nvSpPr>
          <p:spPr>
            <a:xfrm>
              <a:off x="375840" y="55404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I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335"/>
          <p:cNvGrpSpPr/>
          <p:nvPr/>
        </p:nvGrpSpPr>
        <p:grpSpPr>
          <a:xfrm>
            <a:off x="380880" y="3319560"/>
            <a:ext cx="8276760" cy="2000160"/>
            <a:chOff x="380880" y="3319560"/>
            <a:chExt cx="8276760" cy="2000160"/>
          </a:xfrm>
        </p:grpSpPr>
        <p:sp>
          <p:nvSpPr>
            <p:cNvPr id="1939" name="Text Box 32"/>
            <p:cNvSpPr/>
            <p:nvPr/>
          </p:nvSpPr>
          <p:spPr>
            <a:xfrm>
              <a:off x="380880" y="3941640"/>
              <a:ext cx="457164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duction/Market Context &amp; Imp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idcells/pixels as uni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atural/Human landscape patterns as well as re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product flows are unifying concepts and objec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Systems focus</a:t>
              </a:r>
              <a:r>
                <a:rPr b="1" lang="en-US" sz="14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Box 315"/>
            <p:cNvSpPr/>
            <p:nvPr/>
          </p:nvSpPr>
          <p:spPr>
            <a:xfrm>
              <a:off x="389160" y="36403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1" name="Group 332"/>
            <p:cNvGrpSpPr/>
            <p:nvPr/>
          </p:nvGrpSpPr>
          <p:grpSpPr>
            <a:xfrm>
              <a:off x="4157640" y="3319560"/>
              <a:ext cx="4500000" cy="2000160"/>
              <a:chOff x="4157640" y="3319560"/>
              <a:chExt cx="4500000" cy="2000160"/>
            </a:xfrm>
          </p:grpSpPr>
          <p:sp>
            <p:nvSpPr>
              <p:cNvPr id="1942" name="Line 34"/>
              <p:cNvSpPr/>
              <p:nvPr/>
            </p:nvSpPr>
            <p:spPr>
              <a:xfrm>
                <a:off x="5343120" y="4157640"/>
                <a:ext cx="1271880" cy="116208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5"/>
              <p:cNvSpPr/>
              <p:nvPr/>
            </p:nvSpPr>
            <p:spPr>
              <a:xfrm>
                <a:off x="4342680" y="4138560"/>
                <a:ext cx="1219320" cy="115200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6"/>
              <p:cNvSpPr/>
              <p:nvPr/>
            </p:nvSpPr>
            <p:spPr>
              <a:xfrm flipV="1">
                <a:off x="4699800" y="496656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7"/>
              <p:cNvSpPr/>
              <p:nvPr/>
            </p:nvSpPr>
            <p:spPr>
              <a:xfrm flipV="1">
                <a:off x="4157640" y="4344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8"/>
              <p:cNvSpPr/>
              <p:nvPr/>
            </p:nvSpPr>
            <p:spPr>
              <a:xfrm>
                <a:off x="502020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9"/>
              <p:cNvSpPr/>
              <p:nvPr/>
            </p:nvSpPr>
            <p:spPr>
              <a:xfrm>
                <a:off x="554004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40"/>
              <p:cNvSpPr/>
              <p:nvPr/>
            </p:nvSpPr>
            <p:spPr>
              <a:xfrm>
                <a:off x="576756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43"/>
              <p:cNvSpPr/>
              <p:nvPr/>
            </p:nvSpPr>
            <p:spPr>
              <a:xfrm flipV="1" rot="10800000">
                <a:off x="5003640" y="461736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Text Box 45"/>
              <p:cNvSpPr/>
              <p:nvPr/>
            </p:nvSpPr>
            <p:spPr>
              <a:xfrm>
                <a:off x="5965920" y="406980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Verdana"/>
                  </a:rPr>
                  <a:t>Production Syste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Text Box 46"/>
              <p:cNvSpPr/>
              <p:nvPr/>
            </p:nvSpPr>
            <p:spPr>
              <a:xfrm>
                <a:off x="6021720" y="4402440"/>
                <a:ext cx="208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b6bcf"/>
                    </a:solidFill>
                    <a:latin typeface="Verdana"/>
                  </a:rPr>
                  <a:t>Ecosystems &amp; ES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Text Box 47"/>
              <p:cNvSpPr/>
              <p:nvPr/>
            </p:nvSpPr>
            <p:spPr>
              <a:xfrm>
                <a:off x="5876280" y="3754800"/>
                <a:ext cx="278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ff"/>
                    </a:solidFill>
                    <a:latin typeface="Verdana"/>
                  </a:rPr>
                  <a:t>Infrastructure/Market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48"/>
              <p:cNvSpPr/>
              <p:nvPr/>
            </p:nvSpPr>
            <p:spPr>
              <a:xfrm flipV="1">
                <a:off x="4406400" y="4542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49"/>
              <p:cNvSpPr/>
              <p:nvPr/>
            </p:nvSpPr>
            <p:spPr>
              <a:xfrm>
                <a:off x="4838040" y="4148280"/>
                <a:ext cx="1239120" cy="115704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48"/>
              <p:cNvSpPr/>
              <p:nvPr/>
            </p:nvSpPr>
            <p:spPr>
              <a:xfrm flipV="1">
                <a:off x="4587480" y="474264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AutoShape 42"/>
              <p:cNvSpPr/>
              <p:nvPr/>
            </p:nvSpPr>
            <p:spPr>
              <a:xfrm flipV="1" rot="10800000">
                <a:off x="5017320" y="4286880"/>
                <a:ext cx="765000" cy="345960"/>
              </a:xfrm>
              <a:prstGeom prst="cube">
                <a:avLst>
                  <a:gd name="adj" fmla="val 64611"/>
                </a:avLst>
              </a:prstGeom>
              <a:solidFill>
                <a:srgbClr val="fac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AutoShape 41"/>
              <p:cNvSpPr/>
              <p:nvPr/>
            </p:nvSpPr>
            <p:spPr>
              <a:xfrm flipV="1" rot="10800000">
                <a:off x="5028120" y="3964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AutoShape 41"/>
              <p:cNvSpPr/>
              <p:nvPr/>
            </p:nvSpPr>
            <p:spPr>
              <a:xfrm flipV="1" rot="10800000">
                <a:off x="5018400" y="3640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Text Box 46"/>
              <p:cNvSpPr/>
              <p:nvPr/>
            </p:nvSpPr>
            <p:spPr>
              <a:xfrm>
                <a:off x="6015240" y="4745520"/>
                <a:ext cx="253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f0d"/>
                    </a:solidFill>
                    <a:latin typeface="Verdana"/>
                  </a:rPr>
                  <a:t>Demographics/Human Welf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44"/>
              <p:cNvSpPr/>
              <p:nvPr/>
            </p:nvSpPr>
            <p:spPr>
              <a:xfrm>
                <a:off x="524808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1" name="TextBox 322"/>
          <p:cNvSpPr/>
          <p:nvPr/>
        </p:nvSpPr>
        <p:spPr>
          <a:xfrm>
            <a:off x="193680" y="1634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Data &amp; Analysis Across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A Farm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Content Placeholder 3" descr="fs.png"/>
          <p:cNvPicPr/>
          <p:nvPr/>
        </p:nvPicPr>
        <p:blipFill>
          <a:blip r:embed="rId1"/>
          <a:stretch/>
        </p:blipFill>
        <p:spPr>
          <a:xfrm>
            <a:off x="-23760" y="914400"/>
            <a:ext cx="5468760" cy="5791320"/>
          </a:xfrm>
          <a:prstGeom prst="rect">
            <a:avLst/>
          </a:prstGeom>
          <a:ln w="0">
            <a:noFill/>
          </a:ln>
        </p:spPr>
      </p:pic>
      <p:pic>
        <p:nvPicPr>
          <p:cNvPr id="1964" name="Content Placeholder 3" descr="fs.png"/>
          <p:cNvPicPr/>
          <p:nvPr/>
        </p:nvPicPr>
        <p:blipFill>
          <a:blip r:embed="rId2"/>
          <a:stretch/>
        </p:blipFill>
        <p:spPr>
          <a:xfrm>
            <a:off x="5459400" y="1708200"/>
            <a:ext cx="3106800" cy="465624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2"/>
          <p:cNvSpPr/>
          <p:nvPr/>
        </p:nvSpPr>
        <p:spPr>
          <a:xfrm>
            <a:off x="241200" y="3505320"/>
            <a:ext cx="1892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Box 7"/>
          <p:cNvSpPr/>
          <p:nvPr/>
        </p:nvSpPr>
        <p:spPr>
          <a:xfrm>
            <a:off x="253080" y="6305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Dixon el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8" name="Content Placeholder 3" descr="africa_poppng.png"/>
          <p:cNvPicPr/>
          <p:nvPr/>
        </p:nvPicPr>
        <p:blipFill>
          <a:blip r:embed="rId1"/>
          <a:stretch/>
        </p:blipFill>
        <p:spPr>
          <a:xfrm>
            <a:off x="162000" y="380880"/>
            <a:ext cx="4275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9" name="TextBox 8"/>
          <p:cNvSpPr/>
          <p:nvPr/>
        </p:nvSpPr>
        <p:spPr>
          <a:xfrm>
            <a:off x="142920" y="43322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Box 12"/>
          <p:cNvSpPr/>
          <p:nvPr/>
        </p:nvSpPr>
        <p:spPr>
          <a:xfrm>
            <a:off x="3450240" y="378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UMP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2" name="Group 16"/>
          <p:cNvGrpSpPr/>
          <p:nvPr/>
        </p:nvGrpSpPr>
        <p:grpSpPr>
          <a:xfrm>
            <a:off x="886680" y="1065240"/>
            <a:ext cx="4592520" cy="4591800"/>
            <a:chOff x="886680" y="1065240"/>
            <a:chExt cx="4592520" cy="4591800"/>
          </a:xfrm>
        </p:grpSpPr>
        <p:grpSp>
          <p:nvGrpSpPr>
            <p:cNvPr id="1973" name="Group 2"/>
            <p:cNvGrpSpPr/>
            <p:nvPr/>
          </p:nvGrpSpPr>
          <p:grpSpPr>
            <a:xfrm>
              <a:off x="936720" y="1067040"/>
              <a:ext cx="4526280" cy="4525560"/>
              <a:chOff x="936720" y="1067040"/>
              <a:chExt cx="4526280" cy="4525560"/>
            </a:xfrm>
          </p:grpSpPr>
          <p:pic>
            <p:nvPicPr>
              <p:cNvPr id="1974" name="Content Placeholder 5" descr="headcount $1.25 per day.png"/>
              <p:cNvPicPr/>
              <p:nvPr/>
            </p:nvPicPr>
            <p:blipFill>
              <a:blip r:embed="rId1"/>
              <a:stretch/>
            </p:blipFill>
            <p:spPr>
              <a:xfrm>
                <a:off x="936720" y="1067040"/>
                <a:ext cx="4526280" cy="4525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975" name="Picture 7" descr="legend headcount $1.25 per day.png"/>
              <p:cNvPicPr/>
              <p:nvPr/>
            </p:nvPicPr>
            <p:blipFill>
              <a:blip r:embed="rId2"/>
              <a:stretch/>
            </p:blipFill>
            <p:spPr>
              <a:xfrm>
                <a:off x="1319760" y="2880360"/>
                <a:ext cx="1346400" cy="254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6" name="TextBox 9"/>
            <p:cNvSpPr/>
            <p:nvPr/>
          </p:nvSpPr>
          <p:spPr>
            <a:xfrm>
              <a:off x="886680" y="52887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TextBox 13"/>
            <p:cNvSpPr/>
            <p:nvPr/>
          </p:nvSpPr>
          <p:spPr>
            <a:xfrm>
              <a:off x="4269600" y="106524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ood et al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now replac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9" name="Group 17"/>
          <p:cNvGrpSpPr/>
          <p:nvPr/>
        </p:nvGrpSpPr>
        <p:grpSpPr>
          <a:xfrm>
            <a:off x="1988640" y="1636560"/>
            <a:ext cx="4336920" cy="4629960"/>
            <a:chOff x="1988640" y="1636560"/>
            <a:chExt cx="4336920" cy="4629960"/>
          </a:xfrm>
        </p:grpSpPr>
        <p:pic>
          <p:nvPicPr>
            <p:cNvPr id="1980" name="Content Placeholder 6" descr="Africa Cropland density.png"/>
            <p:cNvPicPr/>
            <p:nvPr/>
          </p:nvPicPr>
          <p:blipFill>
            <a:blip r:embed="rId1"/>
            <a:stretch/>
          </p:blipFill>
          <p:spPr>
            <a:xfrm>
              <a:off x="2031120" y="1675440"/>
              <a:ext cx="4275360" cy="452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81" name="TextBox 10"/>
            <p:cNvSpPr/>
            <p:nvPr/>
          </p:nvSpPr>
          <p:spPr>
            <a:xfrm>
              <a:off x="1988640" y="58982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Box 14"/>
            <p:cNvSpPr/>
            <p:nvPr/>
          </p:nvSpPr>
          <p:spPr>
            <a:xfrm>
              <a:off x="5094720" y="163656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amankutty et 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200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4" name="Content Placeholder 3" descr="africa_mkt.png"/>
          <p:cNvPicPr/>
          <p:nvPr/>
        </p:nvPicPr>
        <p:blipFill>
          <a:blip r:embed="rId1"/>
          <a:stretch/>
        </p:blipFill>
        <p:spPr>
          <a:xfrm>
            <a:off x="3457440" y="2390760"/>
            <a:ext cx="412128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85" name="Group 18"/>
          <p:cNvGrpSpPr/>
          <p:nvPr/>
        </p:nvGrpSpPr>
        <p:grpSpPr>
          <a:xfrm>
            <a:off x="3414960" y="2384280"/>
            <a:ext cx="4158000" cy="4407480"/>
            <a:chOff x="3414960" y="2384280"/>
            <a:chExt cx="4158000" cy="4407480"/>
          </a:xfrm>
        </p:grpSpPr>
        <p:sp>
          <p:nvSpPr>
            <p:cNvPr id="1986" name="TextBox 11"/>
            <p:cNvSpPr/>
            <p:nvPr/>
          </p:nvSpPr>
          <p:spPr>
            <a:xfrm>
              <a:off x="3414960" y="64234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me to &gt;50K t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Box 15"/>
            <p:cNvSpPr/>
            <p:nvPr/>
          </p:nvSpPr>
          <p:spPr>
            <a:xfrm>
              <a:off x="6499080" y="2384280"/>
              <a:ext cx="107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arvestCh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uo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1-11T15:03:52Z</dcterms:modified>
  <cp:revision>33</cp:revision>
  <dc:subject/>
  <dc:title>PowerPoint Presentation</dc:title>
</cp:coreProperties>
</file>