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B721-FD7E-4A08-9297-808BF4B62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BEB-761E-464C-BA2D-D6E573DF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8FAC-AEAE-48CA-B12C-9AE88CAB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3526-09CE-4D6A-BFF4-ED225A97B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40E4-603D-46B0-8BDC-12F30CA7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FDA39-308B-4135-9E6C-9E5AEC14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2AA6-5E52-4809-9C1E-071277D1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96BB-5DF3-4509-AD4E-0955A394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8DCD-E4A9-4FB7-B0D3-8F7B133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F3B9-605C-4D93-92BE-BE4EF362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A36-747C-48D2-B50E-2F81712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D564-2C12-4691-8950-7E51AA51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0DC8-6C88-4084-932A-CC089B9A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A36F-B5FB-49D6-8D1A-421FE8DC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8098-C12E-4DE4-9B53-642808E77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BD3D-E219-48CC-8611-CD5C4DED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29F5-8BD7-4DBA-8C9A-4C0602A74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25CC9-425B-45A7-A619-118F5821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AFC2-0450-4B0C-8F30-8CAA15F3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16F2-3146-4AAE-AEB4-F01FCD7A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D76BB-E913-4DCB-BE9F-4989C871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E0AD-C266-44A5-9CF2-CDD82BEB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ADBA-DCD1-4633-99A4-4F63598E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9CD06-4FA8-4553-8503-560ED262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639B0-8CA7-42D0-9F5E-B0396B65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008B3-485B-40D7-8CE7-D61583BB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EA1C-4E1C-455D-A9E8-3E9E2D9F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190B8-0C0E-43F3-A346-6198D98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97AD8-4192-4F41-BC0D-BA64375D3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32F2-788C-4936-BA2D-8D39A953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EE08E-DC27-43BA-AEA8-BB1A858D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F844C-A329-497D-A58C-EDC70276D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8E36-5E63-4579-90D5-BD5C62DF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F1E-C0D5-425C-B5CA-97AD4C6B0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59856-7F64-40DE-AD7E-9AAD2758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71E2-05B5-4ED2-B0F6-5E689A99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07C86-1EEE-4AC6-92A5-16823B7F5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93E3F-3CB2-4645-95B3-B34DF4A0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722F9-35F1-4717-AD74-48ECBDBE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F2EA5-05E1-4403-BBB3-21291652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7B1D1-E537-429A-8ED2-566B66DB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EE87A-3611-41EA-B50A-7188A660F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AC51B-60A5-4AF8-8B54-B0990046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4BAD-CB7F-4992-B01A-273B74B1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9F4-0F6D-4D96-B349-BA1F7253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3629-5F7B-47A0-9D65-96EB292C7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77F-C54C-4AA4-9290-3DA1621A9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F478-A5FF-4B98-A997-2800B88E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8363-CFED-4928-8B63-FE0C6C044B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5F5B9-E665-400A-B54C-674ACFBBF5C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3E4C-C087-4C75-A0E1-9770CAD2643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7A8E-6E4B-4232-BFC8-8DA1894BD6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1"/>
          <p:cNvSpPr/>
          <p:nvPr/>
        </p:nvSpPr>
        <p:spPr>
          <a:xfrm>
            <a:off x="380880" y="733320"/>
            <a:ext cx="8610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lvanus Mruma, Gabriel Ndungu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sephat Kionaum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itle 1"/>
          <p:cNvSpPr/>
          <p:nvPr/>
        </p:nvSpPr>
        <p:spPr>
          <a:xfrm>
            <a:off x="228600" y="7621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Farmers’ perceptions on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Calibri"/>
              </a:rPr>
              <a:t>postharvest operatio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knowledge gap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Table 8" descr=""/>
          <p:cNvPicPr/>
          <p:nvPr/>
        </p:nvPicPr>
        <p:blipFill>
          <a:blip r:embed="rId1"/>
          <a:stretch/>
        </p:blipFill>
        <p:spPr>
          <a:xfrm>
            <a:off x="225360" y="2305080"/>
            <a:ext cx="5492880" cy="40402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3"/>
          <p:cNvSpPr/>
          <p:nvPr/>
        </p:nvSpPr>
        <p:spPr>
          <a:xfrm>
            <a:off x="5867280" y="2362320"/>
            <a:ext cx="3276720" cy="16167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Diverse knowledge g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Farmers’ training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Creation and training of commodity storage specialis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09480" y="7621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loss control practic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28600" y="2362320"/>
          <a:ext cx="5257800" cy="3817800"/>
        </p:xfrm>
        <a:graphic>
          <a:graphicData uri="http://schemas.openxmlformats.org/drawingml/2006/table">
            <a:tbl>
              <a:tblPr/>
              <a:tblGrid>
                <a:gridCol w="4114800"/>
                <a:gridCol w="1143000"/>
              </a:tblGrid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ol 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er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ditional her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s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-processing meth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5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rtificial chemical control (Insecticides &amp; pesticides)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4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f3ca"/>
                    </a:solidFill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rap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dry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intaining hygienic condit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per handling/packag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3" name="Rectangle 2"/>
          <p:cNvSpPr/>
          <p:nvPr/>
        </p:nvSpPr>
        <p:spPr>
          <a:xfrm>
            <a:off x="0" y="45720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5562720" y="2362320"/>
            <a:ext cx="3581280" cy="275796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Extensive use of pesticides in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management training: Introduce improved methods for drying, shelling, storage, 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Ensure public health safety by investigating and providing a remedy to potential high pesticide residue in marketed cereals and legu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360" y="1676160"/>
            <a:ext cx="56386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514440" indent="-514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43 lead farmers were trained in Kipelesa and Ngipa  villages of Kitet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cal maize shelling practices aiming at reducing food loss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ong tim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armers spend on crop processing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880920" indent="-514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0070c0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drying technology (e.g. by using the collapsible dryer case)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5" descr="I:\DCIM\Camera\2015-07-02 11.43.22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"/>
          <p:cNvSpPr/>
          <p:nvPr/>
        </p:nvSpPr>
        <p:spPr>
          <a:xfrm>
            <a:off x="6095880" y="32767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IPERESA VILLAGE, KITETO DISTRI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G:\DCIM\129___07\IMG_5076.JPG"/>
          <p:cNvPicPr/>
          <p:nvPr/>
        </p:nvPicPr>
        <p:blipFill>
          <a:blip r:embed="rId2"/>
          <a:stretch/>
        </p:blipFill>
        <p:spPr>
          <a:xfrm>
            <a:off x="6070680" y="441972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-360" y="1676520"/>
            <a:ext cx="5638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80920" indent="-514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d storage practices (e.g. use of hermetic storage bags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activities are going fin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I:\DCIM\Camera\2015-07-02 11.16.20.jpg"/>
          <p:cNvPicPr/>
          <p:nvPr/>
        </p:nvPicPr>
        <p:blipFill>
          <a:blip r:embed="rId1"/>
          <a:stretch/>
        </p:blipFill>
        <p:spPr>
          <a:xfrm>
            <a:off x="6477120" y="3524400"/>
            <a:ext cx="2500200" cy="33336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I:\DCIM\Camera\2015-07-02 12.01.02.jpg"/>
          <p:cNvPicPr/>
          <p:nvPr/>
        </p:nvPicPr>
        <p:blipFill>
          <a:blip r:embed="rId2"/>
          <a:stretch/>
        </p:blipFill>
        <p:spPr>
          <a:xfrm>
            <a:off x="6477120" y="76320"/>
            <a:ext cx="25146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193500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ain 48 lead farmers in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ining of trainers</a:t>
            </a: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 four  villages of Kongwa and Mvomero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 intensification of maize fortification with micronutrient in areas where TUBOCHA was operating micronutrient progra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the awareness of processors on proper fortification procedur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 training of lead farmers on improved postharvest handling practices: shelling, drying and storag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 public health safety of  cereals and legumes stored with pesticid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UTURE WORK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609120" y="1706040"/>
            <a:ext cx="8077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ong expectation of farmers in return for the  information they offered; majority of the farmers were expecting food ai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rmers experienced prolonged dry season and late rainfall which are thought to cause crop failure, causing reduced need for storage technologies as the household food may run-out very quickly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HALLENGES AND CONSTRA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harvest management activities have just started because the harvest season for maize is June/Jul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ostharvest team will keep implementing the IR 6 to improve the livelihoods of the smallholder farming communities in the project areas through reduced food loss and consumption of nutrient-dense food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Title 1"/>
          <p:cNvSpPr/>
          <p:nvPr/>
        </p:nvSpPr>
        <p:spPr>
          <a:xfrm>
            <a:off x="609480" y="838080"/>
            <a:ext cx="822960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NCLUSION  AND RECOMMENDATIONS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530280" y="2822400"/>
            <a:ext cx="7742160" cy="1444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https://encrypted-tbn3.gstatic.com/images?q=tbn:ANd9GcTqGbQx8ihsnIQDjkt_WTAIpj7IkuwUHV3fvUytXDUfWJ30NIiHxw"/>
          <p:cNvPicPr/>
          <p:nvPr/>
        </p:nvPicPr>
        <p:blipFill>
          <a:blip r:embed="rId2"/>
          <a:stretch/>
        </p:blipFill>
        <p:spPr>
          <a:xfrm>
            <a:off x="228600" y="685800"/>
            <a:ext cx="4876920" cy="121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s://encrypted-tbn0.gstatic.com/images?q=tbn:ANd9GcQFfRd58MYaM_0rAWLbDpwffKO1Bk9-EI7uogj0YIV6ag5K2Xx6"/>
          <p:cNvPicPr/>
          <p:nvPr/>
        </p:nvPicPr>
        <p:blipFill>
          <a:blip r:embed="rId3"/>
          <a:stretch/>
        </p:blipFill>
        <p:spPr>
          <a:xfrm>
            <a:off x="7238880" y="762120"/>
            <a:ext cx="1352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560" y="1143000"/>
            <a:ext cx="88390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BJECTIVES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PARTNER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RESULT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KEY ACHIE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FUTURE WORK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HALLENGES AND CONSTRAINTS FACED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BEST ACTIVITIES AND IMPROVEMENT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50000"/>
              </a:lnSpc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ONCLUSION AND RECOMMENDATION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Title 1"/>
          <p:cNvSpPr/>
          <p:nvPr/>
        </p:nvSpPr>
        <p:spPr>
          <a:xfrm>
            <a:off x="457200" y="533520"/>
            <a:ext cx="43434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3" descr="G:\DCIM\129___07\IMG_5073.JPG"/>
          <p:cNvPicPr/>
          <p:nvPr/>
        </p:nvPicPr>
        <p:blipFill>
          <a:blip r:embed="rId1"/>
          <a:stretch/>
        </p:blipFill>
        <p:spPr>
          <a:xfrm>
            <a:off x="4775040" y="1143000"/>
            <a:ext cx="4368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114264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tIns="0" bIns="0"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food loss is a challenge that contributes to food insecurity and reduces the income of millions of smallholder farmer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grains and legumes ranged from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0 – 40%  at the time of harve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% during shelling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5 – 25% or up to 90% during storag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stharvest loss of  vegetables ≥ 30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oor handling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inadequate storage conditions and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damage during transport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1523520"/>
            <a:ext cx="46483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Many simple tools and approaches for reducing the losses exist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Uptake and adoption by smallholder farmers remain limited due to lack of awareness and skills to use the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14000"/>
              </a:lnSpc>
              <a:spcBef>
                <a:spcPts val="700"/>
              </a:spcBef>
              <a:buClr>
                <a:srgbClr val="ff0000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Picture 2" descr="G:\DCIM\129___07\IMG_5072.JPG"/>
          <p:cNvPicPr/>
          <p:nvPr/>
        </p:nvPicPr>
        <p:blipFill>
          <a:blip r:embed="rId1"/>
          <a:stretch/>
        </p:blipFill>
        <p:spPr>
          <a:xfrm>
            <a:off x="4724280" y="914400"/>
            <a:ext cx="4419720" cy="3314880"/>
          </a:xfrm>
          <a:prstGeom prst="rect">
            <a:avLst/>
          </a:prstGeom>
          <a:ln w="0">
            <a:noFill/>
          </a:ln>
        </p:spPr>
      </p:pic>
      <p:sp>
        <p:nvSpPr>
          <p:cNvPr id="203" name="Title 1"/>
          <p:cNvSpPr/>
          <p:nvPr/>
        </p:nvSpPr>
        <p:spPr>
          <a:xfrm>
            <a:off x="609480" y="533520"/>
            <a:ext cx="822960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2280" y="1599840"/>
            <a:ext cx="8305920" cy="49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 and provide improved innovation and technologies that improve harvesting, processing and storage of cereals and legumes to increase food security and safe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 algn="just">
              <a:lnSpc>
                <a:spcPct val="100000"/>
              </a:lnSpc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mote post harvest management technologies to reduce losses and bring quality up to market standar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bjective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228600" y="1447920"/>
          <a:ext cx="8686800" cy="4494240"/>
        </p:xfrm>
        <a:graphic>
          <a:graphicData uri="http://schemas.openxmlformats.org/drawingml/2006/table">
            <a:tbl>
              <a:tblPr/>
              <a:tblGrid>
                <a:gridCol w="533520"/>
                <a:gridCol w="2819160"/>
                <a:gridCol w="609840"/>
                <a:gridCol w="1218960"/>
                <a:gridCol w="914400"/>
                <a:gridCol w="914400"/>
                <a:gridCol w="914400"/>
                <a:gridCol w="762120"/>
              </a:tblGrid>
              <a:tr h="946440"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/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TAR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ISTRI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ACHIEVEMENT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FE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farmers and others who have applied new technologies or management practices as a result of USG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.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Number of rural households benefiting directly from USG interven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IT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KONG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VO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920" rIns="619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920" marR="61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838080" y="6094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ARGET BENEFITIA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NER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560" y="1676160"/>
            <a:ext cx="83055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NAFAK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UBOCHA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enter for Counseling, Nutrition and Health Care (COUNSENUTH)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TrueFood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Pee Pee (T) Ltd – PICS bag manufactur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" descr="C:\Users\Simon Boniface\Desktop\For Ibrahim\Map showing the villages.png"/>
          <p:cNvPicPr/>
          <p:nvPr/>
        </p:nvPicPr>
        <p:blipFill>
          <a:blip r:embed="rId1"/>
          <a:stretch/>
        </p:blipFill>
        <p:spPr>
          <a:xfrm>
            <a:off x="457200" y="1981080"/>
            <a:ext cx="6324480" cy="4619880"/>
          </a:xfrm>
          <a:prstGeom prst="rect">
            <a:avLst/>
          </a:prstGeom>
          <a:ln w="9360">
            <a:solidFill>
              <a:srgbClr val="0d0d0d"/>
            </a:solidFill>
            <a:miter/>
          </a:ln>
        </p:spPr>
      </p:pic>
      <p:sp>
        <p:nvSpPr>
          <p:cNvPr id="212" name="Title 1"/>
          <p:cNvSpPr/>
          <p:nvPr/>
        </p:nvSpPr>
        <p:spPr>
          <a:xfrm>
            <a:off x="685800" y="38088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icipatory diagnosis of the main postharvest problems that should be addressed by the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6858000" y="1981080"/>
            <a:ext cx="2057400" cy="100692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 collected from 255 farmers in 15 villag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itle 1"/>
          <p:cNvSpPr/>
          <p:nvPr/>
        </p:nvSpPr>
        <p:spPr>
          <a:xfrm>
            <a:off x="609480" y="53352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EY RESULTS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ercent Loss at different postharvest handling stag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42840" y="1828800"/>
          <a:ext cx="6934320" cy="262908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533520"/>
                <a:gridCol w="685800"/>
                <a:gridCol w="609480"/>
                <a:gridCol w="685800"/>
                <a:gridCol w="654120"/>
                <a:gridCol w="588960"/>
                <a:gridCol w="738360"/>
              </a:tblGrid>
              <a:tr h="105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op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eld loss (insects, rodents &amp; fungi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nsport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ss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ckag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rket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ok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lo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igeon pea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4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flow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.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35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m-si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.5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. nut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2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2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2628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rghu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0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.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7086600" y="1828800"/>
            <a:ext cx="1981080" cy="1844280"/>
          </a:xfrm>
          <a:prstGeom prst="rect">
            <a:avLst/>
          </a:prstGeom>
          <a:solidFill>
            <a:srgbClr val="59a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mplications &amp; required action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00"/>
                </a:solidFill>
                <a:latin typeface="Arial"/>
              </a:rPr>
              <a:t>9-20% loss of food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stharvest loss prevention technologies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8T10:24:56Z</dcterms:created>
  <dc:creator>Kinyoro Ibrahim</dc:creator>
  <dc:description/>
  <dc:language>en-US</dc:language>
  <cp:lastModifiedBy>Odhong, Jonathan (IITA)</cp:lastModifiedBy>
  <dcterms:modified xsi:type="dcterms:W3CDTF">2015-07-10T14:54:12Z</dcterms:modified>
  <cp:revision>60</cp:revision>
  <dc:subject/>
  <dc:title>Slide 1</dc:title>
</cp:coreProperties>
</file>