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7E4-0774-4F6E-93EF-C82B2A88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9905-8656-4B4C-8069-22B636AE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AB9-6417-43CF-B865-5B13D34A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746-DA59-48D2-A5D8-F8875A94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8735-BEE7-485B-A18E-F45150D6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DE12-2371-4150-BA0F-B52CC0D4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ECCC-BEE5-4A83-A13E-E0799EC0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C6B1-A869-4C81-84C0-59872955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9FB9-7237-410E-B414-2095483B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4D02-4AD0-4B3C-8C00-25E77709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D2B5-C92D-412A-99AF-11F83842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6762-7358-4FD3-BC27-302328F2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E779-C571-46CE-A21F-C5811A75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8B68-189F-41E8-96B2-95B8A62B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45BD-0BC0-4288-A1D9-F3858CF9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7357-3AEC-41B1-8AF1-067340FA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65E4-6594-49F0-BC85-970BD7C4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58E08-8A49-456B-8E96-71C8B91E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7FC61-331E-469A-A4A4-DC6C4579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6C944-65B6-4856-BF78-26791960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FC058-17D4-4D6A-872F-CCDBFF5B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07D77-C477-45EF-A92C-401949A1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A87-4C11-4A24-A8DF-25CE6C55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02139-17DA-44EB-8070-CCA526E5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CBBA7-61DE-4AB8-BC05-ABD5921E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09754-8EE4-46DA-8990-E6D580A8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A424B-F63F-4528-B458-87C8F241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CF2C1-0163-4872-B07F-06309722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0CB58-BE1C-4848-A3F6-CD712E70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CF3E0-A35D-4A8C-80FC-052FC22F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46207-3A35-4033-AC9A-7C69BCAF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0D810-6C47-4B92-8017-D9611A2F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4F963-E63F-4982-A7F0-E57C85CD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97D9-1659-4ED9-BA42-8F0773F9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1A48F-1492-417E-9148-8792A072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1C3C3-5DCA-43E2-9D3C-05EEC956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27752-7892-4D69-8F01-01CD4937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17F3D-835F-4228-ACB4-10BA6F75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B85C2-CCA4-468D-9FE5-8D3E5BDE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A7E62-C572-4CDD-A593-C3B67E62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68502-F8BF-403F-B759-C55FA1B4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A628C-D9B6-4260-AB0A-0FC533C4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E2828-3928-4D12-80FF-B0AD9A1D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F032-8052-4B32-AF02-B1458461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40F-54BC-4A79-885E-C29C6D23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7A1-981F-445D-81D4-7DF40F81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CFC2-40A9-4EFB-9E78-5B4DC9B7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2D0-3E4A-4C1D-9858-25A8E6D3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874C-A130-4502-BA38-A4818E3C66C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541C-2DD5-4CAC-AD2D-B2FB45F06CB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69F3-1683-4568-8103-7D74B4DB90D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B141-8EF0-4CC7-9D1D-B909B2F2B7D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380880" y="733320"/>
            <a:ext cx="8610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ing partnership among Africa RISING, NAFAKA and TUBORESHE CHAKULA Programs for fast-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duced food waste and spoi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rahim Shabani, Abass Adeba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vanus Mruma, Gabriel Ndung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ephat Kionaum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a RISING annual planning Meet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LY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Sand Hotel, Dar es sala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itle 1"/>
          <p:cNvSpPr/>
          <p:nvPr/>
        </p:nvSpPr>
        <p:spPr>
          <a:xfrm>
            <a:off x="228600" y="7621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rmers’ perceptions on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Calibri"/>
              </a:rPr>
              <a:t>postharvest ope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Table 8" descr=""/>
          <p:cNvPicPr/>
          <p:nvPr/>
        </p:nvPicPr>
        <p:blipFill>
          <a:blip r:embed="rId1"/>
          <a:stretch/>
        </p:blipFill>
        <p:spPr>
          <a:xfrm>
            <a:off x="225360" y="2305080"/>
            <a:ext cx="5492880" cy="40402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5867280" y="2362320"/>
            <a:ext cx="3276720" cy="161676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Diverse knowledge g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armers’ trai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reation and training of commodity storage specialis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tle 1"/>
          <p:cNvSpPr/>
          <p:nvPr/>
        </p:nvSpPr>
        <p:spPr>
          <a:xfrm>
            <a:off x="60948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harvest loss control pract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28600" y="2362320"/>
          <a:ext cx="5257800" cy="3817800"/>
        </p:xfrm>
        <a:graphic>
          <a:graphicData uri="http://schemas.openxmlformats.org/drawingml/2006/table">
            <a:tbl>
              <a:tblPr/>
              <a:tblGrid>
                <a:gridCol w="4114800"/>
                <a:gridCol w="1143000"/>
              </a:tblGrid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ntrol meas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raditional her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s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e-processing 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5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rtificial chemical control (Insecticides &amp; pesticides)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r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per dr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intaining hygienic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per handling/packa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Rectangle 2"/>
          <p:cNvSpPr/>
          <p:nvPr/>
        </p:nvSpPr>
        <p:spPr>
          <a:xfrm>
            <a:off x="0" y="457200"/>
            <a:ext cx="30178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5562720" y="2362320"/>
            <a:ext cx="3581280" cy="275796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Extensive use of pesticides in cereals and legu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ostharvest management training: Introduce improved methods for drying, shelling, storage,  et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nsure public health safety by investigating and providing a remedy to potential high pesticide residue in marketed cereals and legu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-360" y="1676160"/>
            <a:ext cx="5638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44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3 lead farmers were trained in Kipelesa and Ngipa  villages of Kitet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80920" indent="-514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70c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maize shelling practices aiming at reducing food loss an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ng ti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armers spend on crop process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80920" indent="-514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70c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drying technology (e.g. by using the collapsible dryer case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I:\DCIM\Camera\2015-07-02 11.43.22.jpg"/>
          <p:cNvPicPr/>
          <p:nvPr/>
        </p:nvPicPr>
        <p:blipFill>
          <a:blip r:embed="rId1"/>
          <a:stretch/>
        </p:blipFill>
        <p:spPr>
          <a:xfrm>
            <a:off x="6095880" y="2286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6095880" y="32767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PERESA VILLAGE, KITET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G:\DCIM\129___07\IMG_5076.JPG"/>
          <p:cNvPicPr/>
          <p:nvPr/>
        </p:nvPicPr>
        <p:blipFill>
          <a:blip r:embed="rId2"/>
          <a:stretch/>
        </p:blipFill>
        <p:spPr>
          <a:xfrm>
            <a:off x="607068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-360" y="1676520"/>
            <a:ext cx="5638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80920" indent="-514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  <a:ea typeface="Arial"/>
              </a:rPr>
              <a:t>3.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torage practices (e.g. use of hermetic storage bags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ctivities are going fi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I:\DCIM\Camera\2015-07-02 11.16.20.jpg"/>
          <p:cNvPicPr/>
          <p:nvPr/>
        </p:nvPicPr>
        <p:blipFill>
          <a:blip r:embed="rId1"/>
          <a:stretch/>
        </p:blipFill>
        <p:spPr>
          <a:xfrm>
            <a:off x="6477120" y="3524400"/>
            <a:ext cx="2500200" cy="3333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I:\DCIM\Camera\2015-07-02 12.01.02.jpg"/>
          <p:cNvPicPr/>
          <p:nvPr/>
        </p:nvPicPr>
        <p:blipFill>
          <a:blip r:embed="rId2"/>
          <a:stretch/>
        </p:blipFill>
        <p:spPr>
          <a:xfrm>
            <a:off x="6477120" y="7632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500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rain 48 lead farmers in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of trainers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 four  villages of Kongwa and Mvomer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intensification of maize fortification with micronutrient in areas where TUBOCHA was operating micronutrient progra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he awareness of processors on proper fortification procedur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 WORK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training of lead farmers on improved postharvest handling practices: shelling, drying and storag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public health safety of  cereals and legumes stored with pesticid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 WORK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09120" y="170604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ong expectation of farmers in return for the  information they offered; majority of the farmers were expecting food ai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ers experienced prolonged dry season and late rainfall which are thought to cause crop failure, causing reduced need for storage technologies as the household food may run-out very quickly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ALLENGES AND CONSTR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harvest management activities have just started because the harvest season for maize is June/Jul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stharvest team will keep implementing the IR 6 to improve the livelihoods of the smallholder farming communities in the project areas through reduced food loss and consumption of nutrient-dense food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LUSION  AND RECOMMENDATION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530280" y="2822400"/>
            <a:ext cx="7742160" cy="1444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s://encrypted-tbn3.gstatic.com/images?q=tbn:ANd9GcTqGbQx8ihsnIQDjkt_WTAIpj7IkuwUHV3fvUytXDUfWJ30NIiHxw"/>
          <p:cNvPicPr/>
          <p:nvPr/>
        </p:nvPicPr>
        <p:blipFill>
          <a:blip r:embed="rId2"/>
          <a:stretch/>
        </p:blipFill>
        <p:spPr>
          <a:xfrm>
            <a:off x="228600" y="685800"/>
            <a:ext cx="4876920" cy="121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s://encrypted-tbn0.gstatic.com/images?q=tbn:ANd9GcQFfRd58MYaM_0rAWLbDpwffKO1Bk9-EI7uogj0YIV6ag5K2Xx6"/>
          <p:cNvPicPr/>
          <p:nvPr/>
        </p:nvPicPr>
        <p:blipFill>
          <a:blip r:embed="rId3"/>
          <a:stretch/>
        </p:blipFill>
        <p:spPr>
          <a:xfrm>
            <a:off x="7238880" y="762120"/>
            <a:ext cx="13525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560" y="1143000"/>
            <a:ext cx="8839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OBJECTIVES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ARTNER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KEY RESULT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KEY ACHIEVEMENT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UTURE WORK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HALLENGES AND CONSTRAINTS FACED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BEST ACTIVITIES AND IMPROVEMENT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NCLUSION AND RECOMMENDATION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457200" y="533520"/>
            <a:ext cx="43434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G:\DCIM\129___07\IMG_5073.JPG"/>
          <p:cNvPicPr/>
          <p:nvPr/>
        </p:nvPicPr>
        <p:blipFill>
          <a:blip r:embed="rId1"/>
          <a:stretch/>
        </p:blipFill>
        <p:spPr>
          <a:xfrm>
            <a:off x="4775040" y="1143000"/>
            <a:ext cx="4368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8600" y="114264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food loss is a challenge that contributes to food insecurity and reduces the income of millions of smallholder farm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loss of grains and legumes ranged from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0 – 40%  at the time of harv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5% during shell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5 – 25% or up to 90% during stor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loss of  vegetables ≥ 3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or handling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inadequate storage conditions an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damage during transport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609480" y="533520"/>
            <a:ext cx="8229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0" y="1523520"/>
            <a:ext cx="4648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Many simple tools and approaches for reducing the losses exis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Uptake and adoption by smallholder farmers remain limited due to lack of awareness and skills to use the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G:\DCIM\129___07\IMG_5072.JPG"/>
          <p:cNvPicPr/>
          <p:nvPr/>
        </p:nvPicPr>
        <p:blipFill>
          <a:blip r:embed="rId1"/>
          <a:stretch/>
        </p:blipFill>
        <p:spPr>
          <a:xfrm>
            <a:off x="4724280" y="9144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203" name="Title 1"/>
          <p:cNvSpPr/>
          <p:nvPr/>
        </p:nvSpPr>
        <p:spPr>
          <a:xfrm>
            <a:off x="609480" y="533520"/>
            <a:ext cx="8229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52280" y="1599840"/>
            <a:ext cx="83059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 and provide improved innovation and technologies that improve harvesting, processing and storage of cereals and legumes to increase food security and safe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post harvest management technologies to reduce losses and bring quality up to market standar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bjectiv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28600" y="1447920"/>
          <a:ext cx="8686800" cy="4494240"/>
        </p:xfrm>
        <a:graphic>
          <a:graphicData uri="http://schemas.openxmlformats.org/drawingml/2006/table">
            <a:tbl>
              <a:tblPr/>
              <a:tblGrid>
                <a:gridCol w="533520"/>
                <a:gridCol w="2819160"/>
                <a:gridCol w="609840"/>
                <a:gridCol w="1218960"/>
                <a:gridCol w="914400"/>
                <a:gridCol w="914400"/>
                <a:gridCol w="914400"/>
                <a:gridCol w="762120"/>
              </a:tblGrid>
              <a:tr h="94644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HIEVEMENT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ber of farmers and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ber of rural households benefiting directly from USG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838080" y="6094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ARGET BENEFITI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TNER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560" y="1676160"/>
            <a:ext cx="83055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NAFAK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UBOCH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Center for Counseling, Nutrition and Health Care (COUNSENUTH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rueFoo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ee Pee (T) Ltd – PICS bag manufactur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C:\Users\Simon Boniface\Desktop\For Ibrahim\Map showing the villages.png"/>
          <p:cNvPicPr/>
          <p:nvPr/>
        </p:nvPicPr>
        <p:blipFill>
          <a:blip r:embed="rId1"/>
          <a:stretch/>
        </p:blipFill>
        <p:spPr>
          <a:xfrm>
            <a:off x="457200" y="1981080"/>
            <a:ext cx="6324480" cy="46198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212" name="Title 1"/>
          <p:cNvSpPr/>
          <p:nvPr/>
        </p:nvSpPr>
        <p:spPr>
          <a:xfrm>
            <a:off x="685800" y="3808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ticipatory diagnosis of the main postharvest problems that should be addressed by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858000" y="1981080"/>
            <a:ext cx="2057400" cy="100692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 collected from 255 farmers in 15 villag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1"/>
          <p:cNvSpPr/>
          <p:nvPr/>
        </p:nvSpPr>
        <p:spPr>
          <a:xfrm>
            <a:off x="609480" y="5335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ercent Loss at different postharvest handling sta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2840" y="1828800"/>
          <a:ext cx="6934320" cy="2629080"/>
        </p:xfrm>
        <a:graphic>
          <a:graphicData uri="http://schemas.openxmlformats.org/drawingml/2006/table">
            <a:tbl>
              <a:tblPr/>
              <a:tblGrid>
                <a:gridCol w="1371600"/>
                <a:gridCol w="1066680"/>
                <a:gridCol w="533520"/>
                <a:gridCol w="685800"/>
                <a:gridCol w="609480"/>
                <a:gridCol w="685800"/>
                <a:gridCol w="654120"/>
                <a:gridCol w="588960"/>
                <a:gridCol w="738360"/>
              </a:tblGrid>
              <a:tr h="105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eld loss (insects, rodents &amp; fungi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ck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ckag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ok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lo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geon pe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flo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-si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. nu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rghu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2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7086600" y="1828800"/>
            <a:ext cx="1981080" cy="184428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9-20% loss of foo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ostharvest loss prevention technologies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0:24:56Z</dcterms:created>
  <dc:creator>Kinyoro Ibrahim</dc:creator>
  <dc:description/>
  <dc:language>en-US</dc:language>
  <cp:lastModifiedBy>Odhong, Jonathan (IITA)</cp:lastModifiedBy>
  <dcterms:modified xsi:type="dcterms:W3CDTF">2015-07-10T14:54:12Z</dcterms:modified>
  <cp:revision>60</cp:revision>
  <dc:subject/>
  <dc:title>Slide 1</dc:title>
</cp:coreProperties>
</file>