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wmf" ContentType="image/x-wmf"/>
  <Override PartName="/ppt/media/image12.png" ContentType="image/png"/>
  <Override PartName="/ppt/media/image20.jpeg" ContentType="image/jpeg"/>
  <Override PartName="/ppt/media/image36.png" ContentType="image/png"/>
  <Override PartName="/ppt/media/image37.png" ContentType="image/png"/>
  <Override PartName="/ppt/media/image7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4.png" ContentType="image/png"/>
  <Override PartName="/ppt/media/image1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230-CC5E-481D-9576-C207A1DB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6878-793C-4CCC-8B29-4D4A6E2D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D7C5-A879-476E-A3D5-A5DA415C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B1BA-A8B5-4D85-812A-FAD04033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0561-16A4-4452-B7A8-BE720A9A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352C-A762-402F-8B04-A43E15BB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2B1D-94FB-4936-8159-88F4D1ED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8970-E700-415F-A25A-B8E7B313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927-1028-40F1-9206-0E1AB282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F5EA-D56B-403F-B2B2-D7B6FEEF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2497-7210-48D8-8870-48659C97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DD55-A51D-4338-BC9A-49FA3F42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A7A5-7D66-447C-8B34-E28D8C59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C6C2-5DFE-44A9-94CD-CE65406D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AF164-49B3-49BD-A1FF-5A0FD761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B851-1B84-46B8-A581-195C5689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7EE72-9C56-49DD-9F07-0E2A3FDC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895B4-D9BE-4169-A479-356ADE67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B1975-94E4-4B49-8ACF-DF134D58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1E9-C52D-4F41-B953-536C4D74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21200-34F1-4231-9B4B-2170EF3D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B8D55-7B08-4352-AAD2-F8BCD08F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E89C3-D2A1-476D-B3BD-4613B37C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CF8B2-1A74-4944-BCD2-593D046C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02FD-EE92-41FD-8477-7620674D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0C756-88AC-489C-9432-C8D88E86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53DA2-B15B-48B6-9AD6-4329DFAD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32358-C2EE-41E8-B835-973A5064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FD33E-44C5-480C-9B66-34645F25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B0FDC-A907-45EE-A497-57EB80AF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729-2110-47A2-9389-4155D906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70591-56C1-4FB7-9423-AFC3AAD4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1AEB5-B682-46DA-9815-C29FEA4D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45806-7D5E-4B1E-8C7B-3FF97910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85B45-34FB-4F9D-BEBA-4971D012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61A81-FFF0-4AB8-8282-25AB5AED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DCAB4-0DCA-40F8-B834-60B06ED1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478F7-337A-4880-9737-2BD608FB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5D7F2-2ECA-4DE4-A95B-D385323E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B223E-D974-4D97-9595-C805BA1B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C5377-6D99-4893-84EA-C301E216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40E-7ED3-421B-9950-3E91F478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6BF17-14BE-49B0-8EFA-7278F747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71E55-26EF-4A1C-83DC-C3DD60F1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9F4BB-050A-4AF7-95A7-DBDFDDAB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AB91E-D753-4480-9137-D6B7BB21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C87AB-5E6E-4504-A05D-164A6AC1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47303-5E30-4BDC-BF7B-D84FAB7A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99837-A26A-4505-90E5-9CC61C69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2BC35-317F-4737-8FDF-AFDDD380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29537-F2E1-47BA-B0FC-7B9036E6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CBF83-658D-40D4-ACD4-998BF170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C37-CF29-4FDC-A415-20909C59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07CEA-22C4-4A06-B617-5FA9B7A2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BBBCF-421A-4C61-897E-6FF0769A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8EE49-DC5B-4337-BF1F-BD4232E2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05487-8935-4EEC-A21F-6BE2A96A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DEBB0-1845-403B-96E5-09F7DB01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34D48-8DA3-4AFB-8F1A-BD57F9FB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8B7C1-0526-44B1-B00D-75A90508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E0BD7-E4E0-448B-8BD3-A664EEDC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81D3B-F98C-4701-8F8C-59B3AFB9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8287E-4278-4CE6-B22D-628DA7B1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CE4-F749-4882-BD91-D7A6E10B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E8A9A-40DE-4A7E-A286-F491397D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C5DB6-3453-4A39-B777-F08327FA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13C4E-DF1D-4765-B801-4C7BB061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64F3F-16FA-4CA3-ADB3-9A668DFB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8761A-E762-4E95-B7A7-54E0BC08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656BF-41E3-4E43-880F-0D2A9CFA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11048-B555-41F7-9717-A54366C3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D96C6-E3CE-4DC7-BC32-DE335145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8D605-B163-4CA7-8A97-B9B2D032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383F7-EAC8-4C09-94C3-BD62B36A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F82-F8BF-4798-8538-FB61E6E7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49D1C-CE5D-4FCE-986E-ABF94BE9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BE0E9-2AF4-423A-9C60-C76CE181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CE4B5-43F1-45CA-882D-2135A850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190E0-5E0D-4824-9ED8-64210E57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70D5A-E683-4022-95CE-15AB14D6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C993F-B827-4656-9FDF-0BA08302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A309C-9928-48BF-BD6D-10920835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CA382-A864-4AC5-8414-AF22173D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8F2A0-6CE2-462B-BF0C-6D8164DF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3125F-FF0D-499E-956E-9CA1DA5D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5E34-743E-4D55-B076-CBA7AF49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2297B-F9AC-477D-9B3C-2D0170A1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428D0-9368-4B20-A639-38183A02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B9A23-41FF-4EBB-944C-6C1704EE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E461C-BD99-4ED3-894B-CD138A97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589F0-7C83-42D7-A4E5-40551B24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41F83-9BA8-45EF-A681-4B16070A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76A58-12C3-4B26-B3A6-86306812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7D6F1-909A-4B21-844F-674F81A5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9AFCC-7659-49D2-848F-D00D3C57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8389B-24CB-45F0-8587-AFC8DF4F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8DC-4861-422E-92D7-99804A16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57FB8-C7DF-432C-B42E-A1C7114F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E9205-53D4-4F86-93AA-5A1401D4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D9679-3663-41F3-903F-7244338D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C9A4C-E7C7-4E52-ADD4-09253A99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76DD7-4A96-4D2F-A544-EFE8C5FC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0897A-A625-4B6A-A111-07F8EE08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A7FF0-59B2-400E-8A8B-90B01A35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82A5D-0D37-4BE5-8785-7C6E9431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28BD6-1200-4A31-91A0-F15C2F2C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6B4E6-70C4-454A-AB15-F331EACB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7C6-0331-42C2-9CD7-86199872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277BB-75A4-4345-A779-E961479E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ED20E-8B7D-4EF0-A987-19C3FD16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46168-E62A-4F93-B985-BCCE6AB2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845DE-0EB1-4B59-9B42-85AED4F0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E6BAA-B946-4DAC-BB64-F9BF2CE5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9E0B1-CEB4-47AA-B067-5994205F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34791-69EA-49A2-A88C-74E1FDAE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C216D-AE2C-4258-84DD-EB8D6CED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E1506-FF8F-4E67-8453-61F67C69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26DA9-65B5-4CF9-B66E-88CDA24F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371-D400-488F-8A58-6F2B6DB8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CFCC8-8BBB-4849-B598-1B431ACC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8FA1B-948D-4DCD-AC3B-A588C48F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944D1-A0F6-427F-828D-C8409FFC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4DC80-299F-4F29-B136-9B6C569D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AE25E-FD5C-4081-95A4-6180B05F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CE01D-EE77-448E-9BE2-51499EF2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363BE-507B-4CBE-A593-2AC150E4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0856C-EBC5-4229-AC01-C96A26D3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947A1-0A37-4869-918D-D8562E0E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A83AB-8007-42E9-88C4-35BEABE7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D5BB5-AD7E-4630-91F0-89F3A70C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0995F-E5CF-4B49-B4A0-088E79CB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B9A69-5446-4601-8053-A82D1D5B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FA6D2-518D-4933-ACEC-DE97259F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92BCC-37FA-4F83-9F91-619AF764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DFA47-21F9-4AD8-B192-4B88F124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71722-8E36-4668-AA0C-2DE19E49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1C421-FDDA-4977-9056-7BCCF0A0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D9BE2-6041-47A9-B759-BCB0B413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AFBAF-C753-4553-ADDC-0B052B48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F9756-0F8A-47AD-94C7-AD5CB603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E2AA6-EF95-4664-8BDD-C16EC73D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C3E8F-481C-45AC-B56D-33B25746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C7C59-4292-4CAD-B328-29D60EFA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FA50D-EFD3-45F2-909D-6985341D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6B4F-35D9-4F37-9B92-4854CAE49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6992-9B66-4CEB-8F64-7D7B785A8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0C11-7AA7-432E-A797-0D21D35CF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5F5A-E365-4D67-AFC4-7DAD4F219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4A0E-7B45-4BC7-85DD-D981ED34F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82F9-C5DF-4CC0-8603-2293B1E87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1CDD-65C6-4864-8F93-D316B6FDB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5FAA-0C87-4539-A562-EB5CEFE5D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885B-2FCB-40C5-BECB-73757182B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0C65-C149-4D96-80A3-9C4A1E285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1E36-1447-44F6-AB5A-22F0EC5A2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9A39-D674-432B-8999-DAF967E8FF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1" descr="Zambia Agriculture Research Institute"/>
          <p:cNvPicPr/>
          <p:nvPr/>
        </p:nvPicPr>
        <p:blipFill>
          <a:blip r:embed="rId2"/>
          <a:stretch/>
        </p:blipFill>
        <p:spPr>
          <a:xfrm>
            <a:off x="0" y="2300400"/>
            <a:ext cx="1752480" cy="1433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2" descr=""/>
          <p:cNvPicPr/>
          <p:nvPr/>
        </p:nvPicPr>
        <p:blipFill>
          <a:blip r:embed="rId3"/>
          <a:stretch/>
        </p:blipFill>
        <p:spPr>
          <a:xfrm>
            <a:off x="0" y="5589720"/>
            <a:ext cx="1752480" cy="1268280"/>
          </a:xfrm>
          <a:prstGeom prst="rect">
            <a:avLst/>
          </a:prstGeom>
          <a:ln w="0">
            <a:noFill/>
          </a:ln>
        </p:spPr>
      </p:pic>
      <p:sp>
        <p:nvSpPr>
          <p:cNvPr id="924" name="TextBox 16"/>
          <p:cNvSpPr/>
          <p:nvPr/>
        </p:nvSpPr>
        <p:spPr>
          <a:xfrm>
            <a:off x="0" y="990720"/>
            <a:ext cx="914400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595959"/>
                </a:solidFill>
                <a:latin typeface="Tahoma"/>
                <a:ea typeface="Tahoma"/>
              </a:rPr>
              <a:t>Commercialising  aflasafe as a biocontrol for aflatoxi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4"/>
          <a:stretch/>
        </p:blipFill>
        <p:spPr>
          <a:xfrm>
            <a:off x="2924280" y="2438280"/>
            <a:ext cx="3247920" cy="4343400"/>
          </a:xfrm>
          <a:prstGeom prst="rect">
            <a:avLst/>
          </a:prstGeom>
          <a:ln w="0">
            <a:noFill/>
          </a:ln>
        </p:spPr>
      </p:pic>
      <p:grpSp>
        <p:nvGrpSpPr>
          <p:cNvPr id="926" name="Group 7"/>
          <p:cNvGrpSpPr/>
          <p:nvPr/>
        </p:nvGrpSpPr>
        <p:grpSpPr>
          <a:xfrm>
            <a:off x="209520" y="4165560"/>
            <a:ext cx="1238400" cy="1244520"/>
            <a:chOff x="209520" y="4165560"/>
            <a:chExt cx="1238400" cy="1244520"/>
          </a:xfrm>
        </p:grpSpPr>
        <p:pic>
          <p:nvPicPr>
            <p:cNvPr id="927" name="Picture 3" descr="nisirlogo"/>
            <p:cNvPicPr/>
            <p:nvPr/>
          </p:nvPicPr>
          <p:blipFill>
            <a:blip r:embed="rId5"/>
            <a:stretch/>
          </p:blipFill>
          <p:spPr>
            <a:xfrm>
              <a:off x="405720" y="4364640"/>
              <a:ext cx="84204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AutoShape 4"/>
            <p:cNvSpPr/>
            <p:nvPr/>
          </p:nvSpPr>
          <p:spPr>
            <a:xfrm>
              <a:off x="209520" y="4165560"/>
              <a:ext cx="1238400" cy="1244520"/>
            </a:xfrm>
            <a:custGeom>
              <a:avLst/>
              <a:gdLst>
                <a:gd name="textAreaLeft" fmla="*/ 181080 w 1238400"/>
                <a:gd name="textAreaRight" fmla="*/ 1057320 w 1238400"/>
                <a:gd name="textAreaTop" fmla="*/ 182160 h 1244520"/>
                <a:gd name="textAreaBottom" fmla="*/ 106236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544" y="10800"/>
                  </a:moveTo>
                  <a:cubicBezTo>
                    <a:pt x="3544" y="14807"/>
                    <a:pt x="6793" y="18056"/>
                    <a:pt x="10800" y="18056"/>
                  </a:cubicBezTo>
                  <a:cubicBezTo>
                    <a:pt x="14807" y="18056"/>
                    <a:pt x="18056" y="14807"/>
                    <a:pt x="18056" y="10800"/>
                  </a:cubicBezTo>
                  <a:cubicBezTo>
                    <a:pt x="18056" y="6793"/>
                    <a:pt x="14807" y="3544"/>
                    <a:pt x="10800" y="3544"/>
                  </a:cubicBezTo>
                  <a:cubicBezTo>
                    <a:pt x="6793" y="3544"/>
                    <a:pt x="3544" y="6793"/>
                    <a:pt x="3544" y="10800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TextBox 16"/>
          <p:cNvSpPr/>
          <p:nvPr/>
        </p:nvSpPr>
        <p:spPr>
          <a:xfrm>
            <a:off x="2724120" y="0"/>
            <a:ext cx="65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Stakeholders’ Meeting, 30</a:t>
            </a:r>
            <a:r>
              <a:rPr b="1" lang="en-GB" sz="1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th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 September 2016, Lus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Theme 4:  Current achievements &amp;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2"/>
          <p:cNvSpPr/>
          <p:nvPr/>
        </p:nvSpPr>
        <p:spPr>
          <a:xfrm>
            <a:off x="155520" y="-1150920"/>
            <a:ext cx="674388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Picture 18" descr="Macintosh HD:Users:alys.yng:Dropbox:Research:Zambia:AA GNIAA - INGENEAS:Communication Tools:Logos - INGENAES:ingenaesLogos2.png"/>
          <p:cNvPicPr/>
          <p:nvPr/>
        </p:nvPicPr>
        <p:blipFill>
          <a:blip r:embed="rId7"/>
          <a:stretch/>
        </p:blipFill>
        <p:spPr>
          <a:xfrm>
            <a:off x="6899400" y="5948280"/>
            <a:ext cx="2122200" cy="71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9" descr=""/>
          <p:cNvPicPr/>
          <p:nvPr/>
        </p:nvPicPr>
        <p:blipFill>
          <a:blip r:embed="rId8"/>
          <a:stretch/>
        </p:blipFill>
        <p:spPr>
          <a:xfrm>
            <a:off x="6781680" y="2438280"/>
            <a:ext cx="2239920" cy="790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20" descr="Macintosh HD:Users:alys.yng:Desktop:Screen Shot 2016-05-01 at 5.46.06 AM.png"/>
          <p:cNvPicPr/>
          <p:nvPr/>
        </p:nvPicPr>
        <p:blipFill>
          <a:blip r:embed="rId9"/>
          <a:stretch/>
        </p:blipFill>
        <p:spPr>
          <a:xfrm>
            <a:off x="6899400" y="4363920"/>
            <a:ext cx="212220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: Dossier submitted to ZE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11"/>
          <p:cNvGrpSpPr/>
          <p:nvPr/>
        </p:nvGrpSpPr>
        <p:grpSpPr>
          <a:xfrm>
            <a:off x="95400" y="5743440"/>
            <a:ext cx="2641320" cy="962280"/>
            <a:chOff x="95400" y="5743440"/>
            <a:chExt cx="2641320" cy="962280"/>
          </a:xfrm>
        </p:grpSpPr>
        <p:sp>
          <p:nvSpPr>
            <p:cNvPr id="1006" name="Rounded Rectangle 12"/>
            <p:cNvSpPr/>
            <p:nvPr/>
          </p:nvSpPr>
          <p:spPr>
            <a:xfrm>
              <a:off x="95400" y="5743440"/>
              <a:ext cx="2641320" cy="962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ounded Rectangle 4"/>
            <p:cNvSpPr/>
            <p:nvPr/>
          </p:nvSpPr>
          <p:spPr>
            <a:xfrm>
              <a:off x="142920" y="5790960"/>
              <a:ext cx="25462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-submission of Dossier-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et to be d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14"/>
          <p:cNvGrpSpPr/>
          <p:nvPr/>
        </p:nvGrpSpPr>
        <p:grpSpPr>
          <a:xfrm>
            <a:off x="76320" y="4343400"/>
            <a:ext cx="2641320" cy="961920"/>
            <a:chOff x="76320" y="4343400"/>
            <a:chExt cx="2641320" cy="961920"/>
          </a:xfrm>
        </p:grpSpPr>
        <p:sp>
          <p:nvSpPr>
            <p:cNvPr id="1009" name="Rounded Rectangle 16"/>
            <p:cNvSpPr/>
            <p:nvPr/>
          </p:nvSpPr>
          <p:spPr>
            <a:xfrm>
              <a:off x="76320" y="4343400"/>
              <a:ext cx="264132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ounded Rectangle 4"/>
            <p:cNvSpPr/>
            <p:nvPr/>
          </p:nvSpPr>
          <p:spPr>
            <a:xfrm>
              <a:off x="123840" y="4390920"/>
              <a:ext cx="254628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vision of Doss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19"/>
          <p:cNvGrpSpPr/>
          <p:nvPr/>
        </p:nvGrpSpPr>
        <p:grpSpPr>
          <a:xfrm>
            <a:off x="82440" y="1600200"/>
            <a:ext cx="2641680" cy="961920"/>
            <a:chOff x="82440" y="1600200"/>
            <a:chExt cx="2641680" cy="961920"/>
          </a:xfrm>
        </p:grpSpPr>
        <p:sp>
          <p:nvSpPr>
            <p:cNvPr id="1012" name="Rounded Rectangle 20"/>
            <p:cNvSpPr/>
            <p:nvPr/>
          </p:nvSpPr>
          <p:spPr>
            <a:xfrm>
              <a:off x="82440" y="1600200"/>
              <a:ext cx="264168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ounded Rectangle 4"/>
            <p:cNvSpPr/>
            <p:nvPr/>
          </p:nvSpPr>
          <p:spPr>
            <a:xfrm>
              <a:off x="129960" y="1647720"/>
              <a:ext cx="254664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ubmission of Application doss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22"/>
          <p:cNvGrpSpPr/>
          <p:nvPr/>
        </p:nvGrpSpPr>
        <p:grpSpPr>
          <a:xfrm>
            <a:off x="76320" y="2971800"/>
            <a:ext cx="2641320" cy="969840"/>
            <a:chOff x="76320" y="2971800"/>
            <a:chExt cx="2641320" cy="969840"/>
          </a:xfrm>
        </p:grpSpPr>
        <p:sp>
          <p:nvSpPr>
            <p:cNvPr id="1015" name="Rounded Rectangle 23"/>
            <p:cNvSpPr/>
            <p:nvPr/>
          </p:nvSpPr>
          <p:spPr>
            <a:xfrm>
              <a:off x="76320" y="2971800"/>
              <a:ext cx="2641320" cy="969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ounded Rectangle 4"/>
            <p:cNvSpPr/>
            <p:nvPr/>
          </p:nvSpPr>
          <p:spPr>
            <a:xfrm>
              <a:off x="146160" y="3019320"/>
              <a:ext cx="2501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ssier Review &amp; Feedback to Applic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7" name="Group 25" descr=""/>
          <p:cNvPicPr/>
          <p:nvPr/>
        </p:nvPicPr>
        <p:blipFill>
          <a:blip r:embed="rId2"/>
          <a:stretch/>
        </p:blipFill>
        <p:spPr>
          <a:xfrm>
            <a:off x="3236760" y="1584360"/>
            <a:ext cx="2670480" cy="946080"/>
          </a:xfrm>
          <a:prstGeom prst="rect">
            <a:avLst/>
          </a:prstGeom>
          <a:ln w="0">
            <a:noFill/>
          </a:ln>
        </p:spPr>
      </p:pic>
      <p:pic>
        <p:nvPicPr>
          <p:cNvPr id="1018" name="Group 28" descr=""/>
          <p:cNvPicPr/>
          <p:nvPr/>
        </p:nvPicPr>
        <p:blipFill>
          <a:blip r:embed="rId3"/>
          <a:stretch/>
        </p:blipFill>
        <p:spPr>
          <a:xfrm>
            <a:off x="3365640" y="3645000"/>
            <a:ext cx="2670120" cy="946080"/>
          </a:xfrm>
          <a:prstGeom prst="rect">
            <a:avLst/>
          </a:prstGeom>
          <a:ln w="0">
            <a:noFill/>
          </a:ln>
        </p:spPr>
      </p:pic>
      <p:pic>
        <p:nvPicPr>
          <p:cNvPr id="1019" name="Group 31" descr=""/>
          <p:cNvPicPr/>
          <p:nvPr/>
        </p:nvPicPr>
        <p:blipFill>
          <a:blip r:embed="rId4"/>
          <a:stretch/>
        </p:blipFill>
        <p:spPr>
          <a:xfrm>
            <a:off x="6188040" y="3645000"/>
            <a:ext cx="2664000" cy="946080"/>
          </a:xfrm>
          <a:prstGeom prst="rect">
            <a:avLst/>
          </a:prstGeom>
          <a:ln w="0">
            <a:noFill/>
          </a:ln>
        </p:spPr>
      </p:pic>
      <p:pic>
        <p:nvPicPr>
          <p:cNvPr id="1020" name="Group 34" descr=""/>
          <p:cNvPicPr/>
          <p:nvPr/>
        </p:nvPicPr>
        <p:blipFill>
          <a:blip r:embed="rId5"/>
          <a:stretch/>
        </p:blipFill>
        <p:spPr>
          <a:xfrm>
            <a:off x="4584600" y="5778360"/>
            <a:ext cx="2670120" cy="946440"/>
          </a:xfrm>
          <a:prstGeom prst="rect">
            <a:avLst/>
          </a:prstGeom>
          <a:ln w="0">
            <a:noFill/>
          </a:ln>
        </p:spPr>
      </p:pic>
      <p:pic>
        <p:nvPicPr>
          <p:cNvPr id="1021" name="Group 37" descr=""/>
          <p:cNvPicPr/>
          <p:nvPr/>
        </p:nvPicPr>
        <p:blipFill>
          <a:blip r:embed="rId6"/>
          <a:stretch/>
        </p:blipFill>
        <p:spPr>
          <a:xfrm>
            <a:off x="6315120" y="1633680"/>
            <a:ext cx="2663640" cy="944280"/>
          </a:xfrm>
          <a:prstGeom prst="rect">
            <a:avLst/>
          </a:prstGeom>
          <a:ln w="0">
            <a:noFill/>
          </a:ln>
        </p:spPr>
      </p:pic>
      <p:sp>
        <p:nvSpPr>
          <p:cNvPr id="1022" name="Striped Right Arrow 3"/>
          <p:cNvSpPr/>
          <p:nvPr/>
        </p:nvSpPr>
        <p:spPr>
          <a:xfrm>
            <a:off x="2895480" y="6059520"/>
            <a:ext cx="1600200" cy="380880"/>
          </a:xfrm>
          <a:custGeom>
            <a:avLst/>
            <a:gdLst/>
            <a:ahLst/>
            <a:rect l="l" t="t" r="r" b="b"/>
            <a:pathLst>
              <a:path w="16002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lnTo>
                  <a:pt x="0" y="952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lnTo>
                  <a:pt x="23813" y="95250"/>
                </a:lnTo>
                <a:close/>
                <a:moveTo>
                  <a:pt x="59531" y="95250"/>
                </a:moveTo>
                <a:lnTo>
                  <a:pt x="1409700" y="95250"/>
                </a:lnTo>
                <a:lnTo>
                  <a:pt x="1409700" y="0"/>
                </a:lnTo>
                <a:lnTo>
                  <a:pt x="1600200" y="190500"/>
                </a:lnTo>
                <a:lnTo>
                  <a:pt x="1409700" y="381000"/>
                </a:lnTo>
                <a:lnTo>
                  <a:pt x="1409700" y="285750"/>
                </a:lnTo>
                <a:lnTo>
                  <a:pt x="59531" y="285750"/>
                </a:lnTo>
                <a:lnTo>
                  <a:pt x="59531" y="9525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triped Right Arrow 40"/>
          <p:cNvSpPr/>
          <p:nvPr/>
        </p:nvSpPr>
        <p:spPr>
          <a:xfrm rot="14026200">
            <a:off x="4408200" y="5111280"/>
            <a:ext cx="1370160" cy="160200"/>
          </a:xfrm>
          <a:custGeom>
            <a:avLst/>
            <a:gdLst/>
            <a:ahLst/>
            <a:rect l="l" t="t" r="r" b="b"/>
            <a:pathLst>
              <a:path w="1370012" h="160338">
                <a:moveTo>
                  <a:pt x="0" y="40085"/>
                </a:moveTo>
                <a:lnTo>
                  <a:pt x="5011" y="40085"/>
                </a:lnTo>
                <a:lnTo>
                  <a:pt x="5011" y="120254"/>
                </a:lnTo>
                <a:lnTo>
                  <a:pt x="0" y="120254"/>
                </a:lnTo>
                <a:lnTo>
                  <a:pt x="0" y="40085"/>
                </a:lnTo>
                <a:close/>
                <a:moveTo>
                  <a:pt x="10021" y="40085"/>
                </a:moveTo>
                <a:lnTo>
                  <a:pt x="20042" y="40085"/>
                </a:lnTo>
                <a:lnTo>
                  <a:pt x="20042" y="120254"/>
                </a:lnTo>
                <a:lnTo>
                  <a:pt x="10021" y="120254"/>
                </a:lnTo>
                <a:lnTo>
                  <a:pt x="10021" y="40085"/>
                </a:lnTo>
                <a:close/>
                <a:moveTo>
                  <a:pt x="25053" y="40085"/>
                </a:moveTo>
                <a:lnTo>
                  <a:pt x="1289843" y="40085"/>
                </a:lnTo>
                <a:lnTo>
                  <a:pt x="1289843" y="0"/>
                </a:lnTo>
                <a:lnTo>
                  <a:pt x="1370012" y="80169"/>
                </a:lnTo>
                <a:lnTo>
                  <a:pt x="1289843" y="160338"/>
                </a:lnTo>
                <a:lnTo>
                  <a:pt x="1289843" y="120254"/>
                </a:lnTo>
                <a:lnTo>
                  <a:pt x="25053" y="120254"/>
                </a:lnTo>
                <a:lnTo>
                  <a:pt x="25053" y="40085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triped Right Arrow 41"/>
          <p:cNvSpPr/>
          <p:nvPr/>
        </p:nvSpPr>
        <p:spPr>
          <a:xfrm rot="18195600">
            <a:off x="6334920" y="5108400"/>
            <a:ext cx="1368720" cy="158760"/>
          </a:xfrm>
          <a:custGeom>
            <a:avLst/>
            <a:gdLst/>
            <a:ahLst/>
            <a:rect l="l" t="t" r="r" b="b"/>
            <a:pathLst>
              <a:path w="1368425" h="158750">
                <a:moveTo>
                  <a:pt x="0" y="39688"/>
                </a:moveTo>
                <a:lnTo>
                  <a:pt x="4961" y="39688"/>
                </a:lnTo>
                <a:lnTo>
                  <a:pt x="4961" y="119063"/>
                </a:lnTo>
                <a:lnTo>
                  <a:pt x="0" y="119063"/>
                </a:lnTo>
                <a:lnTo>
                  <a:pt x="0" y="39688"/>
                </a:lnTo>
                <a:close/>
                <a:moveTo>
                  <a:pt x="9922" y="39688"/>
                </a:moveTo>
                <a:lnTo>
                  <a:pt x="19844" y="39688"/>
                </a:lnTo>
                <a:lnTo>
                  <a:pt x="19844" y="119063"/>
                </a:lnTo>
                <a:lnTo>
                  <a:pt x="9922" y="119063"/>
                </a:lnTo>
                <a:lnTo>
                  <a:pt x="9922" y="39688"/>
                </a:lnTo>
                <a:close/>
                <a:moveTo>
                  <a:pt x="24805" y="39688"/>
                </a:moveTo>
                <a:lnTo>
                  <a:pt x="1289050" y="39688"/>
                </a:lnTo>
                <a:lnTo>
                  <a:pt x="1289050" y="0"/>
                </a:lnTo>
                <a:lnTo>
                  <a:pt x="1368425" y="79375"/>
                </a:lnTo>
                <a:lnTo>
                  <a:pt x="1289050" y="158750"/>
                </a:lnTo>
                <a:lnTo>
                  <a:pt x="1289050" y="119063"/>
                </a:lnTo>
                <a:lnTo>
                  <a:pt x="24805" y="119063"/>
                </a:lnTo>
                <a:lnTo>
                  <a:pt x="24805" y="39688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triped Right Arrow 42"/>
          <p:cNvSpPr/>
          <p:nvPr/>
        </p:nvSpPr>
        <p:spPr>
          <a:xfrm rot="15835200">
            <a:off x="3625560" y="3024000"/>
            <a:ext cx="1055520" cy="118800"/>
          </a:xfrm>
          <a:custGeom>
            <a:avLst/>
            <a:gdLst/>
            <a:ahLst/>
            <a:rect l="l" t="t" r="r" b="b"/>
            <a:pathLst>
              <a:path w="1055688" h="119062">
                <a:moveTo>
                  <a:pt x="0" y="29766"/>
                </a:moveTo>
                <a:lnTo>
                  <a:pt x="3721" y="29766"/>
                </a:lnTo>
                <a:lnTo>
                  <a:pt x="3721" y="89297"/>
                </a:lnTo>
                <a:lnTo>
                  <a:pt x="0" y="89297"/>
                </a:lnTo>
                <a:lnTo>
                  <a:pt x="0" y="29766"/>
                </a:lnTo>
                <a:close/>
                <a:moveTo>
                  <a:pt x="7441" y="29766"/>
                </a:moveTo>
                <a:lnTo>
                  <a:pt x="14883" y="29766"/>
                </a:lnTo>
                <a:lnTo>
                  <a:pt x="14883" y="89297"/>
                </a:lnTo>
                <a:lnTo>
                  <a:pt x="7441" y="89297"/>
                </a:lnTo>
                <a:lnTo>
                  <a:pt x="7441" y="29766"/>
                </a:lnTo>
                <a:close/>
                <a:moveTo>
                  <a:pt x="18603" y="29766"/>
                </a:moveTo>
                <a:lnTo>
                  <a:pt x="996157" y="29766"/>
                </a:lnTo>
                <a:lnTo>
                  <a:pt x="996157" y="0"/>
                </a:lnTo>
                <a:lnTo>
                  <a:pt x="1055688" y="59531"/>
                </a:lnTo>
                <a:lnTo>
                  <a:pt x="996157" y="119062"/>
                </a:lnTo>
                <a:lnTo>
                  <a:pt x="996157" y="89297"/>
                </a:lnTo>
                <a:lnTo>
                  <a:pt x="18603" y="89297"/>
                </a:lnTo>
                <a:lnTo>
                  <a:pt x="18603" y="2976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triped Right Arrow 43"/>
          <p:cNvSpPr/>
          <p:nvPr/>
        </p:nvSpPr>
        <p:spPr>
          <a:xfrm flipV="1" rot="19268400">
            <a:off x="5421240" y="3068640"/>
            <a:ext cx="1577520" cy="104760"/>
          </a:xfrm>
          <a:custGeom>
            <a:avLst/>
            <a:gdLst/>
            <a:ahLst/>
            <a:rect l="l" t="t" r="r" b="b"/>
            <a:pathLst>
              <a:path w="1577975" h="104775">
                <a:moveTo>
                  <a:pt x="0" y="26194"/>
                </a:moveTo>
                <a:lnTo>
                  <a:pt x="3274" y="26194"/>
                </a:lnTo>
                <a:lnTo>
                  <a:pt x="3274" y="78581"/>
                </a:lnTo>
                <a:lnTo>
                  <a:pt x="0" y="78581"/>
                </a:lnTo>
                <a:lnTo>
                  <a:pt x="0" y="26194"/>
                </a:lnTo>
                <a:close/>
                <a:moveTo>
                  <a:pt x="6548" y="26194"/>
                </a:moveTo>
                <a:lnTo>
                  <a:pt x="13097" y="26194"/>
                </a:lnTo>
                <a:lnTo>
                  <a:pt x="13097" y="78581"/>
                </a:lnTo>
                <a:lnTo>
                  <a:pt x="6548" y="78581"/>
                </a:lnTo>
                <a:lnTo>
                  <a:pt x="6548" y="26194"/>
                </a:lnTo>
                <a:close/>
                <a:moveTo>
                  <a:pt x="16371" y="26194"/>
                </a:moveTo>
                <a:lnTo>
                  <a:pt x="1525588" y="26194"/>
                </a:lnTo>
                <a:lnTo>
                  <a:pt x="1525588" y="0"/>
                </a:lnTo>
                <a:lnTo>
                  <a:pt x="1577975" y="52388"/>
                </a:lnTo>
                <a:lnTo>
                  <a:pt x="1525588" y="104775"/>
                </a:lnTo>
                <a:lnTo>
                  <a:pt x="1525588" y="78581"/>
                </a:lnTo>
                <a:lnTo>
                  <a:pt x="16371" y="78581"/>
                </a:lnTo>
                <a:lnTo>
                  <a:pt x="16371" y="2619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: BP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4632480" y="1006560"/>
          <a:ext cx="4511520" cy="1598400"/>
        </p:xfrm>
        <a:graphic>
          <a:graphicData uri="http://schemas.openxmlformats.org/drawingml/2006/table">
            <a:tbl>
              <a:tblPr/>
              <a:tblGrid>
                <a:gridCol w="4511520"/>
              </a:tblGrid>
              <a:tr h="46980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RY POINT AF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58800">
                <a:tc>
                  <a:txBody>
                    <a:bodyPr rIns="7308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SINESS PLAN FOR AFLASAFE COMMERCIALISATION IN ZAMB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6980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Working Draft- JANUARY 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1" name=""/>
          <p:cNvGraphicFramePr/>
          <p:nvPr/>
        </p:nvGraphicFramePr>
        <p:xfrm>
          <a:off x="42840" y="1295280"/>
          <a:ext cx="2190600" cy="5521320"/>
        </p:xfrm>
        <a:graphic>
          <a:graphicData uri="http://schemas.openxmlformats.org/drawingml/2006/table">
            <a:tbl>
              <a:tblPr/>
              <a:tblGrid>
                <a:gridCol w="2190600"/>
              </a:tblGrid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I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AID-Zamb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F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A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787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astern Province Farmers Cooperatives union (EPFC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MSE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ES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B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hare Africa Zamb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 Against Malnutrition (PA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787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ain Traders Association of Zambia (GTA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FIT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E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2316240" y="3137040"/>
          <a:ext cx="2495520" cy="3644640"/>
        </p:xfrm>
        <a:graphic>
          <a:graphicData uri="http://schemas.openxmlformats.org/drawingml/2006/table">
            <a:tbl>
              <a:tblPr/>
              <a:tblGrid>
                <a:gridCol w="2495520"/>
              </a:tblGrid>
              <a:tr h="8413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mallholder Agri Business Promotion Programme (SAP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120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Department of Marketing and Agri-bus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196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05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illage headman &amp; Farmers in 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016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tete District Women’s Assoc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3" name=""/>
          <p:cNvGraphicFramePr/>
          <p:nvPr/>
        </p:nvGraphicFramePr>
        <p:xfrm>
          <a:off x="4876920" y="4191120"/>
          <a:ext cx="4267080" cy="256068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Petau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84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Petau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Ny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4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Ny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Kab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4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Chib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Chib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sp>
        <p:nvSpPr>
          <p:cNvPr id="1034" name="Rectangle 7"/>
          <p:cNvSpPr/>
          <p:nvPr/>
        </p:nvSpPr>
        <p:spPr>
          <a:xfrm>
            <a:off x="5369040" y="3359160"/>
            <a:ext cx="3698640" cy="50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takeholder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: BP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15"/>
          <p:cNvSpPr/>
          <p:nvPr/>
        </p:nvSpPr>
        <p:spPr>
          <a:xfrm>
            <a:off x="4343400" y="853920"/>
            <a:ext cx="4695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Potential aflasafe manufac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Share-Africa Zamb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ZAMS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companies expressed need for seed money to jump start the manufacturing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530, 000$ for aflasafe pl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5"/>
          <p:cNvSpPr/>
          <p:nvPr/>
        </p:nvSpPr>
        <p:spPr>
          <a:xfrm>
            <a:off x="4295880" y="4302000"/>
            <a:ext cx="4695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Potential distribution chann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Lead firms: Organizations operating M/GN value ch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Seed &amp; input supp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GOs &amp; development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15"/>
          <p:cNvSpPr/>
          <p:nvPr/>
        </p:nvSpPr>
        <p:spPr>
          <a:xfrm>
            <a:off x="27000" y="1509840"/>
            <a:ext cx="4162320" cy="461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Market &amp;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60% of farmers willing to pay for such a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Market: Local consumers, processors, Govt school feeding programs, regional tra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GOs &amp; development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5. Trade assess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2"/>
          <p:cNvSpPr/>
          <p:nvPr/>
        </p:nvSpPr>
        <p:spPr>
          <a:xfrm>
            <a:off x="1066680" y="1703520"/>
            <a:ext cx="6782040" cy="5031720"/>
          </a:xfrm>
          <a:prstGeom prst="rect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n Assessment Report of Trade Performance of Key Agricultural Value Chains in Zambia from 2013 to 201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epared and submitted b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Gregory Chans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pril, 201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FIT plus USAID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lot #18944 | Off Lubansheshi Road Olympia Park | Lusak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Zamb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ZM1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15" descr=""/>
          <p:cNvPicPr/>
          <p:nvPr/>
        </p:nvPicPr>
        <p:blipFill>
          <a:blip r:embed="rId2"/>
          <a:stretch/>
        </p:blipFill>
        <p:spPr>
          <a:xfrm>
            <a:off x="7337520" y="990720"/>
            <a:ext cx="1806480" cy="63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6. Awareness raising &amp; Capacity buil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Picture 44" descr=""/>
          <p:cNvPicPr/>
          <p:nvPr/>
        </p:nvPicPr>
        <p:blipFill>
          <a:blip r:embed="rId2"/>
          <a:stretch/>
        </p:blipFill>
        <p:spPr>
          <a:xfrm>
            <a:off x="76320" y="4648320"/>
            <a:ext cx="3759120" cy="2114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5" descr=""/>
          <p:cNvPicPr/>
          <p:nvPr/>
        </p:nvPicPr>
        <p:blipFill>
          <a:blip r:embed="rId3"/>
          <a:stretch/>
        </p:blipFill>
        <p:spPr>
          <a:xfrm>
            <a:off x="6553080" y="4686480"/>
            <a:ext cx="2514600" cy="207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3" name=""/>
          <p:cNvGraphicFramePr/>
          <p:nvPr/>
        </p:nvGraphicFramePr>
        <p:xfrm>
          <a:off x="76320" y="1600200"/>
          <a:ext cx="8915400" cy="2641680"/>
        </p:xfrm>
        <a:graphic>
          <a:graphicData uri="http://schemas.openxmlformats.org/drawingml/2006/table">
            <a:tbl>
              <a:tblPr/>
              <a:tblGrid>
                <a:gridCol w="1523880"/>
                <a:gridCol w="762120"/>
                <a:gridCol w="990360"/>
                <a:gridCol w="1371600"/>
                <a:gridCol w="685800"/>
                <a:gridCol w="990720"/>
                <a:gridCol w="762120"/>
                <a:gridCol w="1096920"/>
                <a:gridCol w="731880"/>
              </a:tblGrid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she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sung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e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ead fa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EOs/ CE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4" name="Picture 46" descr=""/>
          <p:cNvPicPr/>
          <p:nvPr/>
        </p:nvPicPr>
        <p:blipFill>
          <a:blip r:embed="rId4"/>
          <a:stretch/>
        </p:blipFill>
        <p:spPr>
          <a:xfrm>
            <a:off x="4343400" y="4581360"/>
            <a:ext cx="1676520" cy="22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7"/>
          <p:cNvSpPr/>
          <p:nvPr/>
        </p:nvSpPr>
        <p:spPr>
          <a:xfrm>
            <a:off x="-457200" y="836640"/>
            <a:ext cx="952488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Dry spell experienced in Western &amp; Southern provinces negatively affected aflasafe deployment in pre-selected field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oor road networks: inaccessible fallen trees/ logs and thickets prevented access to fields in the fores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irds were a problem in forest areas cropped to maize &amp; groundnut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743200" y="19224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Challenges &amp; research gap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76320" y="4081320"/>
            <a:ext cx="4800600" cy="27003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2" descr=""/>
          <p:cNvPicPr/>
          <p:nvPr/>
        </p:nvPicPr>
        <p:blipFill>
          <a:blip r:embed="rId3"/>
          <a:stretch/>
        </p:blipFill>
        <p:spPr>
          <a:xfrm>
            <a:off x="6626160" y="4081320"/>
            <a:ext cx="24670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61" name="Rectangle 7"/>
          <p:cNvSpPr/>
          <p:nvPr/>
        </p:nvSpPr>
        <p:spPr>
          <a:xfrm>
            <a:off x="-457200" y="835200"/>
            <a:ext cx="952488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usiness plan development: A new consultant to be hired to finalize business plan developmen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registration: Continue with the product registration proces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Data: Test aflasafe product region I &amp; III AEZ to gather 2</a:t>
            </a:r>
            <a:r>
              <a:rPr b="0" lang="en-GB" sz="23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nd</a:t>
            </a: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 year efficacy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Gaps &amp; outloo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76320" y="4402080"/>
            <a:ext cx="4228920" cy="2379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2" descr=""/>
          <p:cNvPicPr/>
          <p:nvPr/>
        </p:nvPicPr>
        <p:blipFill>
          <a:blip r:embed="rId3"/>
          <a:stretch/>
        </p:blipFill>
        <p:spPr>
          <a:xfrm>
            <a:off x="6934320" y="4417920"/>
            <a:ext cx="2158920" cy="23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666880" y="4572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7" name="Picture 6" descr=""/>
          <p:cNvPicPr/>
          <p:nvPr/>
        </p:nvPicPr>
        <p:blipFill>
          <a:blip r:embed="rId2"/>
          <a:stretch/>
        </p:blipFill>
        <p:spPr>
          <a:xfrm>
            <a:off x="152280" y="5365800"/>
            <a:ext cx="2514600" cy="16444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P1040794"/>
          <p:cNvPicPr/>
          <p:nvPr/>
        </p:nvPicPr>
        <p:blipFill>
          <a:blip r:embed="rId3"/>
          <a:stretch/>
        </p:blipFill>
        <p:spPr>
          <a:xfrm>
            <a:off x="4781520" y="914400"/>
            <a:ext cx="4406760" cy="5867280"/>
          </a:xfrm>
          <a:prstGeom prst="rect">
            <a:avLst/>
          </a:prstGeom>
          <a:ln w="0">
            <a:noFill/>
          </a:ln>
        </p:spPr>
      </p:pic>
      <p:sp>
        <p:nvSpPr>
          <p:cNvPr id="10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5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Picture 9" descr=""/>
          <p:cNvPicPr/>
          <p:nvPr/>
        </p:nvPicPr>
        <p:blipFill>
          <a:blip r:embed="rId4"/>
          <a:stretch/>
        </p:blipFill>
        <p:spPr>
          <a:xfrm>
            <a:off x="23240880" y="30403800"/>
            <a:ext cx="4724640" cy="16542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2" descr=""/>
          <p:cNvPicPr/>
          <p:nvPr/>
        </p:nvPicPr>
        <p:blipFill>
          <a:blip r:embed="rId5"/>
          <a:stretch/>
        </p:blipFill>
        <p:spPr>
          <a:xfrm>
            <a:off x="76320" y="2666880"/>
            <a:ext cx="2471760" cy="865440"/>
          </a:xfrm>
          <a:prstGeom prst="rect">
            <a:avLst/>
          </a:prstGeom>
          <a:ln w="0">
            <a:noFill/>
          </a:ln>
        </p:spPr>
      </p:pic>
      <p:pic>
        <p:nvPicPr>
          <p:cNvPr id="1073" name="Grafik 7" descr=""/>
          <p:cNvPicPr/>
          <p:nvPr/>
        </p:nvPicPr>
        <p:blipFill>
          <a:blip r:embed="rId6"/>
          <a:stretch/>
        </p:blipFill>
        <p:spPr>
          <a:xfrm>
            <a:off x="34920" y="3638520"/>
            <a:ext cx="2239920" cy="933480"/>
          </a:xfrm>
          <a:prstGeom prst="rect">
            <a:avLst/>
          </a:prstGeom>
          <a:ln w="0">
            <a:noFill/>
          </a:ln>
        </p:spPr>
      </p:pic>
      <p:sp>
        <p:nvSpPr>
          <p:cNvPr id="1074" name="AutoShape 14"/>
          <p:cNvSpPr/>
          <p:nvPr/>
        </p:nvSpPr>
        <p:spPr>
          <a:xfrm>
            <a:off x="155520" y="-1881360"/>
            <a:ext cx="33717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15" descr=""/>
          <p:cNvPicPr/>
          <p:nvPr/>
        </p:nvPicPr>
        <p:blipFill>
          <a:blip r:embed="rId7"/>
          <a:stretch/>
        </p:blipFill>
        <p:spPr>
          <a:xfrm>
            <a:off x="0" y="838080"/>
            <a:ext cx="1514520" cy="17640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4" descr="Macintosh HD:Users:alys.yng:Dropbox:Research:Zambia:AA GNIAA - INGENEAS:Communication Tools:Logos - INGENAES:ingenaesLogos2.png"/>
          <p:cNvPicPr/>
          <p:nvPr/>
        </p:nvPicPr>
        <p:blipFill>
          <a:blip r:embed="rId8"/>
          <a:stretch/>
        </p:blipFill>
        <p:spPr>
          <a:xfrm>
            <a:off x="2362320" y="1949400"/>
            <a:ext cx="2122200" cy="716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6" descr="Macintosh HD:Users:alys.yng:Desktop:Screen Shot 2016-05-01 at 5.46.06 AM.png"/>
          <p:cNvPicPr/>
          <p:nvPr/>
        </p:nvPicPr>
        <p:blipFill>
          <a:blip r:embed="rId9"/>
          <a:stretch/>
        </p:blipFill>
        <p:spPr>
          <a:xfrm>
            <a:off x="2602080" y="3809880"/>
            <a:ext cx="2122200" cy="538200"/>
          </a:xfrm>
          <a:prstGeom prst="rect">
            <a:avLst/>
          </a:prstGeom>
          <a:ln w="0">
            <a:noFill/>
          </a:ln>
        </p:spPr>
      </p:pic>
      <p:sp>
        <p:nvSpPr>
          <p:cNvPr id="1078" name="Rectangle 17"/>
          <p:cNvSpPr/>
          <p:nvPr/>
        </p:nvSpPr>
        <p:spPr>
          <a:xfrm>
            <a:off x="2286000" y="4729320"/>
            <a:ext cx="23544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 </a:t>
            </a: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Aflasafe te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15" descr=""/>
          <p:cNvPicPr/>
          <p:nvPr/>
        </p:nvPicPr>
        <p:blipFill>
          <a:blip r:embed="rId10"/>
          <a:stretch/>
        </p:blipFill>
        <p:spPr>
          <a:xfrm>
            <a:off x="34920" y="4610160"/>
            <a:ext cx="223992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oject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76320" y="1308240"/>
            <a:ext cx="8991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conduct a trade assessment of key agricultural VCs in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assess the efficacy of two aflasafe biocontrol products in Region I and III agro-ecological zones of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develop a business plan for commercializing aflasafe in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develop a dossier &amp; identify requirements for aflasafe registration &amp; commer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assess the cost benefits of using afla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ff"/>
                </a:solidFill>
                <a:latin typeface="Tahoma"/>
                <a:ea typeface="Tahoma"/>
              </a:rPr>
              <a:t>Aflasafe Technology: Planned activities &amp; Part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traight Connector 12"/>
          <p:cNvSpPr/>
          <p:nvPr/>
        </p:nvSpPr>
        <p:spPr>
          <a:xfrm>
            <a:off x="0" y="988920"/>
            <a:ext cx="914400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"/>
          <p:cNvSpPr/>
          <p:nvPr/>
        </p:nvSpPr>
        <p:spPr>
          <a:xfrm>
            <a:off x="12600" y="2757600"/>
            <a:ext cx="1752840" cy="21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Trade assessment +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Cost benefit analy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15"/>
          <p:cNvSpPr/>
          <p:nvPr/>
        </p:nvSpPr>
        <p:spPr>
          <a:xfrm>
            <a:off x="584280" y="1322280"/>
            <a:ext cx="802620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11" descr=""/>
          <p:cNvPicPr/>
          <p:nvPr/>
        </p:nvPicPr>
        <p:blipFill>
          <a:blip r:embed="rId1"/>
          <a:stretch/>
        </p:blipFill>
        <p:spPr>
          <a:xfrm>
            <a:off x="8174160" y="1297080"/>
            <a:ext cx="817560" cy="1603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1" descr=""/>
          <p:cNvPicPr/>
          <p:nvPr/>
        </p:nvPicPr>
        <p:blipFill>
          <a:blip r:embed="rId2"/>
          <a:stretch/>
        </p:blipFill>
        <p:spPr>
          <a:xfrm>
            <a:off x="4419720" y="1309680"/>
            <a:ext cx="817560" cy="16034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1" descr=""/>
          <p:cNvPicPr/>
          <p:nvPr/>
        </p:nvPicPr>
        <p:blipFill>
          <a:blip r:embed="rId3"/>
          <a:stretch/>
        </p:blipFill>
        <p:spPr>
          <a:xfrm>
            <a:off x="2535120" y="1295280"/>
            <a:ext cx="817560" cy="4065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1" descr=""/>
          <p:cNvPicPr/>
          <p:nvPr/>
        </p:nvPicPr>
        <p:blipFill>
          <a:blip r:embed="rId4"/>
          <a:stretch/>
        </p:blipFill>
        <p:spPr>
          <a:xfrm>
            <a:off x="6323040" y="1309680"/>
            <a:ext cx="817560" cy="4122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1" descr=""/>
          <p:cNvPicPr/>
          <p:nvPr/>
        </p:nvPicPr>
        <p:blipFill>
          <a:blip r:embed="rId5"/>
          <a:stretch/>
        </p:blipFill>
        <p:spPr>
          <a:xfrm>
            <a:off x="200160" y="1297080"/>
            <a:ext cx="793440" cy="160344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1"/>
          <p:cNvSpPr/>
          <p:nvPr/>
        </p:nvSpPr>
        <p:spPr>
          <a:xfrm>
            <a:off x="3733920" y="2760840"/>
            <a:ext cx="2179440" cy="1144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value demon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"/>
          <p:cNvSpPr/>
          <p:nvPr/>
        </p:nvSpPr>
        <p:spPr>
          <a:xfrm>
            <a:off x="1952640" y="4800600"/>
            <a:ext cx="2127240" cy="794520"/>
          </a:xfrm>
          <a:prstGeom prst="rect">
            <a:avLst/>
          </a:prstGeom>
          <a:noFill/>
          <a:ln w="38160">
            <a:solidFill>
              <a:srgbClr val="55f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Efficacy trial in AEZs I &amp; I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"/>
          <p:cNvSpPr/>
          <p:nvPr/>
        </p:nvSpPr>
        <p:spPr>
          <a:xfrm>
            <a:off x="5943600" y="5030640"/>
            <a:ext cx="1476360" cy="794520"/>
          </a:xfrm>
          <a:prstGeom prst="rect">
            <a:avLst/>
          </a:prstGeom>
          <a:noFill/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usiness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"/>
          <p:cNvSpPr/>
          <p:nvPr/>
        </p:nvSpPr>
        <p:spPr>
          <a:xfrm>
            <a:off x="7281720" y="2728800"/>
            <a:ext cx="1828800" cy="794520"/>
          </a:xfrm>
          <a:prstGeom prst="rect">
            <a:avLst/>
          </a:prstGeom>
          <a:noFill/>
          <a:ln w="38160">
            <a:solidFill>
              <a:srgbClr val="fc4b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regi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itle 8"/>
          <p:cNvSpPr/>
          <p:nvPr/>
        </p:nvSpPr>
        <p:spPr>
          <a:xfrm>
            <a:off x="0" y="4567320"/>
            <a:ext cx="17096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Profit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Share Africa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itle 8"/>
          <p:cNvSpPr/>
          <p:nvPr/>
        </p:nvSpPr>
        <p:spPr>
          <a:xfrm>
            <a:off x="2098800" y="5715000"/>
            <a:ext cx="1711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NI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US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itle 8"/>
          <p:cNvSpPr/>
          <p:nvPr/>
        </p:nvSpPr>
        <p:spPr>
          <a:xfrm>
            <a:off x="4079880" y="3595680"/>
            <a:ext cx="1711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Profit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Share-Africa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/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itle 8"/>
          <p:cNvSpPr/>
          <p:nvPr/>
        </p:nvSpPr>
        <p:spPr>
          <a:xfrm>
            <a:off x="6051600" y="5869080"/>
            <a:ext cx="13399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itle 8"/>
          <p:cNvSpPr/>
          <p:nvPr/>
        </p:nvSpPr>
        <p:spPr>
          <a:xfrm>
            <a:off x="7467480" y="3519360"/>
            <a:ext cx="171144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NI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-76320" y="838080"/>
            <a:ext cx="9525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3333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Efficacy of Aflasafe in Region I &amp; III agro-ecological zo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(60.2 Ha treated (45 females, 57 males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33480" y="1973160"/>
          <a:ext cx="9067680" cy="2889360"/>
        </p:xfrm>
        <a:graphic>
          <a:graphicData uri="http://schemas.openxmlformats.org/drawingml/2006/table">
            <a:tbl>
              <a:tblPr/>
              <a:tblGrid>
                <a:gridCol w="934920"/>
                <a:gridCol w="1471680"/>
                <a:gridCol w="1444680"/>
                <a:gridCol w="1284120"/>
                <a:gridCol w="1363680"/>
                <a:gridCol w="1390680"/>
                <a:gridCol w="1177920"/>
              </a:tblGrid>
              <a:tr h="457560"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oundnut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575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es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shek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uth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zung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e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pic>
        <p:nvPicPr>
          <p:cNvPr id="961" name="Picture 5" descr=""/>
          <p:cNvPicPr/>
          <p:nvPr/>
        </p:nvPicPr>
        <p:blipFill>
          <a:blip r:embed="rId2"/>
          <a:stretch/>
        </p:blipFill>
        <p:spPr>
          <a:xfrm>
            <a:off x="12600" y="4981680"/>
            <a:ext cx="2730600" cy="1888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8" descr=""/>
          <p:cNvPicPr/>
          <p:nvPr/>
        </p:nvPicPr>
        <p:blipFill>
          <a:blip r:embed="rId3"/>
          <a:stretch/>
        </p:blipFill>
        <p:spPr>
          <a:xfrm>
            <a:off x="6019920" y="4924440"/>
            <a:ext cx="3124080" cy="19018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"/>
          <p:cNvPicPr/>
          <p:nvPr/>
        </p:nvPicPr>
        <p:blipFill>
          <a:blip r:embed="rId4"/>
          <a:stretch/>
        </p:blipFill>
        <p:spPr>
          <a:xfrm>
            <a:off x="3276720" y="4959360"/>
            <a:ext cx="2271600" cy="189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1. Results: aflasafe effic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52280" y="1447920"/>
          <a:ext cx="8839440" cy="5257800"/>
        </p:xfrm>
        <a:graphic>
          <a:graphicData uri="http://schemas.openxmlformats.org/drawingml/2006/table">
            <a:tbl>
              <a:tblPr/>
              <a:tblGrid>
                <a:gridCol w="1952640"/>
                <a:gridCol w="1704960"/>
                <a:gridCol w="1676520"/>
                <a:gridCol w="1676520"/>
                <a:gridCol w="1828800"/>
              </a:tblGrid>
              <a:tr h="9241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flatoxi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maize sample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groundnut sample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Range (p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2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14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detec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9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4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5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-4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3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-1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-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 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"/>
          <p:cNvSpPr/>
          <p:nvPr/>
        </p:nvSpPr>
        <p:spPr>
          <a:xfrm>
            <a:off x="0" y="83808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2. Aflasafe product value demonstration + Cost benefit analysi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63360" y="1905120"/>
          <a:ext cx="9028080" cy="2797200"/>
        </p:xfrm>
        <a:graphic>
          <a:graphicData uri="http://schemas.openxmlformats.org/drawingml/2006/table">
            <a:tbl>
              <a:tblPr/>
              <a:tblGrid>
                <a:gridCol w="882720"/>
                <a:gridCol w="1536840"/>
                <a:gridCol w="1614240"/>
                <a:gridCol w="1920960"/>
                <a:gridCol w="1613160"/>
                <a:gridCol w="1460160"/>
              </a:tblGrid>
              <a:tr h="549000"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tri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l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oundnut fiel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54900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ast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tand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nga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3368520" y="4829040"/>
            <a:ext cx="1508400" cy="20034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6" descr=""/>
          <p:cNvPicPr/>
          <p:nvPr/>
        </p:nvPicPr>
        <p:blipFill>
          <a:blip r:embed="rId3"/>
          <a:stretch/>
        </p:blipFill>
        <p:spPr>
          <a:xfrm>
            <a:off x="76320" y="4829040"/>
            <a:ext cx="2373120" cy="20131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C:\Users\mwale\Pictures\2016-04-28\013.jpg"/>
          <p:cNvPicPr/>
          <p:nvPr/>
        </p:nvPicPr>
        <p:blipFill>
          <a:blip r:embed="rId4"/>
          <a:stretch/>
        </p:blipFill>
        <p:spPr>
          <a:xfrm>
            <a:off x="5521320" y="4800600"/>
            <a:ext cx="3614760" cy="207504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2.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152280" y="1487520"/>
          <a:ext cx="8915400" cy="3419280"/>
        </p:xfrm>
        <a:graphic>
          <a:graphicData uri="http://schemas.openxmlformats.org/drawingml/2006/table">
            <a:tbl>
              <a:tblPr/>
              <a:tblGrid>
                <a:gridCol w="2362320"/>
                <a:gridCol w="2971800"/>
                <a:gridCol w="3581280"/>
              </a:tblGrid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flatoxi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treated groundnut s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untreated groundnut s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Range (p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0-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0-1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detec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-4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-1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-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 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2" name="Rectangle 4"/>
          <p:cNvSpPr/>
          <p:nvPr/>
        </p:nvSpPr>
        <p:spPr>
          <a:xfrm>
            <a:off x="0" y="5083200"/>
            <a:ext cx="91440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Aflatoxin analysis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Cost benefit analysis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Profit+ &amp; Share Africa Zambia  undertaking the assess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9" descr=""/>
          <p:cNvPicPr/>
          <p:nvPr/>
        </p:nvPicPr>
        <p:blipFill>
          <a:blip r:embed="rId2"/>
          <a:stretch/>
        </p:blipFill>
        <p:spPr>
          <a:xfrm>
            <a:off x="76320" y="4172040"/>
            <a:ext cx="4640040" cy="26096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0" descr=""/>
          <p:cNvPicPr/>
          <p:nvPr/>
        </p:nvPicPr>
        <p:blipFill>
          <a:blip r:embed="rId3"/>
          <a:stretch/>
        </p:blipFill>
        <p:spPr>
          <a:xfrm>
            <a:off x="4888080" y="990720"/>
            <a:ext cx="4206600" cy="411480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15"/>
          <p:cNvSpPr/>
          <p:nvPr/>
        </p:nvSpPr>
        <p:spPr>
          <a:xfrm>
            <a:off x="47520" y="1600200"/>
            <a:ext cx="4695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ZEMA Engagement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Field evaluation of aflasa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: Requirements ident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14"/>
          <p:cNvGrpSpPr/>
          <p:nvPr/>
        </p:nvGrpSpPr>
        <p:grpSpPr>
          <a:xfrm>
            <a:off x="52560" y="4239720"/>
            <a:ext cx="3276360" cy="2598120"/>
            <a:chOff x="52560" y="4239720"/>
            <a:chExt cx="3276360" cy="2598120"/>
          </a:xfrm>
        </p:grpSpPr>
        <p:pic>
          <p:nvPicPr>
            <p:cNvPr id="995" name="Picture 3" descr=""/>
            <p:cNvPicPr/>
            <p:nvPr/>
          </p:nvPicPr>
          <p:blipFill>
            <a:blip r:embed="rId2"/>
            <a:stretch/>
          </p:blipFill>
          <p:spPr>
            <a:xfrm>
              <a:off x="2562840" y="6115680"/>
              <a:ext cx="76176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Rectangle 5"/>
            <p:cNvSpPr/>
            <p:nvPr/>
          </p:nvSpPr>
          <p:spPr>
            <a:xfrm>
              <a:off x="52560" y="4239720"/>
              <a:ext cx="3276360" cy="255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INSTITUTE FOR SCIENTIFIC AND INDUSTRIAL RESE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SIONAL ECOTOXICOGY DOSSIER FOR AFLASAFE ZM01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D AFLASAFE ZM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par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nry Njapa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ch 20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Rectangle 12"/>
          <p:cNvSpPr/>
          <p:nvPr/>
        </p:nvSpPr>
        <p:spPr>
          <a:xfrm>
            <a:off x="3886200" y="1471680"/>
            <a:ext cx="5181480" cy="375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Efficacy (min 2 seasons; 2 trials /crop; all A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Produ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Physical and chemical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Mode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"/>
          <p:cNvSpPr/>
          <p:nvPr/>
        </p:nvSpPr>
        <p:spPr>
          <a:xfrm>
            <a:off x="0" y="1371600"/>
            <a:ext cx="337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Form VIII (Main applicatio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Form X (Label contents applicatio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du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 draft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0"/>
          <p:cNvSpPr/>
          <p:nvPr/>
        </p:nvSpPr>
        <p:spPr>
          <a:xfrm>
            <a:off x="3746520" y="5229360"/>
            <a:ext cx="5626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registration from country of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Safety data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onsent letter from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cotoxicology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iped Right Arrow 22"/>
          <p:cNvSpPr/>
          <p:nvPr/>
        </p:nvSpPr>
        <p:spPr>
          <a:xfrm>
            <a:off x="2666880" y="3200400"/>
            <a:ext cx="1143000" cy="241200"/>
          </a:xfrm>
          <a:custGeom>
            <a:avLst/>
            <a:gdLst/>
            <a:ahLst/>
            <a:rect l="l" t="t" r="r" b="b"/>
            <a:pathLst>
              <a:path w="1143000" h="241300">
                <a:moveTo>
                  <a:pt x="0" y="60325"/>
                </a:moveTo>
                <a:lnTo>
                  <a:pt x="7541" y="60325"/>
                </a:lnTo>
                <a:lnTo>
                  <a:pt x="7541" y="180975"/>
                </a:lnTo>
                <a:lnTo>
                  <a:pt x="0" y="180975"/>
                </a:lnTo>
                <a:lnTo>
                  <a:pt x="0" y="60325"/>
                </a:lnTo>
                <a:close/>
                <a:moveTo>
                  <a:pt x="15081" y="60325"/>
                </a:moveTo>
                <a:lnTo>
                  <a:pt x="30163" y="60325"/>
                </a:lnTo>
                <a:lnTo>
                  <a:pt x="30163" y="180975"/>
                </a:lnTo>
                <a:lnTo>
                  <a:pt x="15081" y="180975"/>
                </a:lnTo>
                <a:lnTo>
                  <a:pt x="15081" y="60325"/>
                </a:lnTo>
                <a:close/>
                <a:moveTo>
                  <a:pt x="37703" y="60325"/>
                </a:moveTo>
                <a:lnTo>
                  <a:pt x="1022350" y="60325"/>
                </a:lnTo>
                <a:lnTo>
                  <a:pt x="1022350" y="0"/>
                </a:lnTo>
                <a:lnTo>
                  <a:pt x="1143000" y="120650"/>
                </a:lnTo>
                <a:lnTo>
                  <a:pt x="1022350" y="241300"/>
                </a:lnTo>
                <a:lnTo>
                  <a:pt x="1022350" y="180975"/>
                </a:lnTo>
                <a:lnTo>
                  <a:pt x="37703" y="180975"/>
                </a:lnTo>
                <a:lnTo>
                  <a:pt x="37703" y="60325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8:38:10Z</dcterms:created>
  <dc:creator>CRaphael</dc:creator>
  <dc:description/>
  <dc:language>en-US</dc:language>
  <cp:lastModifiedBy>Odhong, Jonathan (IITA)</cp:lastModifiedBy>
  <dcterms:modified xsi:type="dcterms:W3CDTF">2016-09-14T08:33:21Z</dcterms:modified>
  <cp:revision>687</cp:revision>
  <dc:subject/>
  <dc:title>Slide 1</dc:title>
</cp:coreProperties>
</file>