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4.wmf" ContentType="image/x-wmf"/>
  <Override PartName="/ppt/media/image12.png" ContentType="image/png"/>
  <Override PartName="/ppt/media/image20.jpeg" ContentType="image/jpeg"/>
  <Override PartName="/ppt/media/image36.png" ContentType="image/png"/>
  <Override PartName="/ppt/media/image37.png" ContentType="image/png"/>
  <Override PartName="/ppt/media/image7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38.png" ContentType="image/png"/>
  <Override PartName="/ppt/media/image4.png" ContentType="image/png"/>
  <Override PartName="/ppt/media/image1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D191-E508-4FBF-BDC9-1CF7F4BF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6D45-2DDE-4C5A-AC7D-1211316A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E7585-5B01-4509-981C-C6BA7FFD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FA8C-A8A5-40F0-BCB2-BABA819B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7E09-211B-4D13-8B09-B2C6E9B8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C704-BC81-4BBC-8F5F-B4BC0D0E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381E-93AD-4593-9141-764A71C0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55F9-FDA7-4143-A2C6-F163FEEF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F9B5-08C0-44AA-A96C-748EC0BC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5A9D-DD54-492E-82A3-37BB7819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70AC-F016-4034-9DA9-360A3891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D283-A324-4853-9E43-F5D3C7EE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94DB-A277-4837-AD7B-7D4E3F4B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ED5D-C393-45ED-A2CF-7A64EAB10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20A9B-DA29-4673-BC08-DC8146DB7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86953-DBE7-4694-BD00-11A9DA06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2C0AD-5C11-4D8D-97C9-AE9D319C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D12AD-8DD7-4F0C-B172-BA802A33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2ED88-903C-43F3-ACBC-CA2F0563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5D21-BD04-4F8F-B66C-C6A688F6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D6B32-36E1-4BD9-9283-2BDDD3EC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B2EEB-0BEA-427E-AE46-0B5865D4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D8E5E-A097-4DB2-BCAC-04EC893F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DC663-0075-484A-B873-547F1C2F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7ABC4-7EF5-4FE5-BADC-7BD9A6A9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4AE0C-EA59-4DC7-83E8-AB48315ED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8E339-689B-4E82-9DD2-E3051CA19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43571-83DB-4F7F-9826-7882CA9A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C9403-7703-49E8-B120-C9EF98F7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1AE04-E4D9-41D1-9731-C535E53D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E990-7E61-4363-A2F1-7D000506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414AE-C7C1-43A0-9671-1E2F38DD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68CAF-4C7F-4BDF-8CA2-5FE46D66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D2934-CCDC-496F-97B1-C731432C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5D006-6379-48B1-B7A1-8540C9DC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24109-8F4D-4405-9A16-C7B60DD2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5549D-48E5-4E15-BDAE-778090D9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B328A-D6C7-43D9-A0F9-07D40EA5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23194-6F0A-4B6D-B551-2BF5DDC97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E6AC4-C5F0-4461-9DE5-FB5917B32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CB515-9FD7-4749-8E04-69473A2F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F4D7-7496-479E-80FC-C1331248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7A00E-7F49-46D4-88BB-594420D3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2D48D-15E3-4FDE-8698-AD2FEBF0C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3D49F-DA2F-4F41-A8AB-E88F689D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9110C-8131-4F81-BD26-2852FAAE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F8253-EA97-4422-9237-016AD9B7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03207-3367-4307-95D6-DF2302A8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A6762-C73F-4E85-B87A-32CAA827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4ABB3-2BBA-4E4C-A4D1-53DDDD7B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62DDF-92E1-434D-8D34-C46AA0F6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0FA3E-DC02-4A82-990A-345DECE4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A09-0FDA-4B78-9461-68975E7D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BCAB6-67F8-47BE-A42C-F0F0D71C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D9EBD-6430-45A2-958C-7B0A4265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D1F24-5698-4274-95D1-204B7131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9E9B9-7C5A-4ED6-AE85-08962459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44F9E-012B-4E1D-801A-CD6EC864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B13CB-CA2F-4706-9B94-906CADF3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BBC6C-2408-4B15-9E3F-E0551E63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AFA10A-0A10-433C-8454-B4B50588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6C751-F74E-42A4-950B-6EE73A1C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8C4C2-351E-4BD0-873F-8C0EE508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639-BBD5-4C3C-827E-2D9BD5B6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F2EDF-1F1D-4D56-AA7E-64606EE4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BC82E-E493-4C16-98F4-C0626AB9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8FF2C-B902-4C5F-975E-C7034B53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61EAD-A4B1-4B07-B457-AAB071A5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1F0C6-8BC2-4B05-B342-B35FDC3E1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F064C-5F7F-43E8-8BC9-AC28D9A9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93A89-2E3F-4401-A900-3D30ED14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92BB0-6F49-43A4-B2AA-A3CE40F3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C1CAE-8913-413B-98B4-2C22D66C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3299C-DCD1-4DCD-833B-2354D11D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A557-2B97-4437-B822-D427D48E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80773-70F0-4806-827F-4ECEDBDC8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FE774-C0D1-46BC-A0C3-CB8C02A7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D2A20-47BE-4A29-A30A-8051D58F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A509C-A0D1-425A-9403-55E92123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B028B-1ADB-4E66-99B2-E82E1BF7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189F5-BCF5-4FA7-925D-C22F33CB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DDC6B-6A18-4C7F-921B-78F1921B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F8797-1D8C-408E-A246-09F55F2D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7C6B8-C7A3-4DCF-8E10-8F5E3D3F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6A390-B57E-44BC-9261-7711DB1A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3908-7638-4D0C-8A7E-8542FFF6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B4265-2BC5-4536-A49C-D7CBB7785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30146-48F8-4079-90FB-9ADE6C1D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EFC7A-35E6-4976-84A4-63538C3B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9EAD1-5A36-4CB3-9D6A-2474C7B3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EE3B2A-C303-4984-BF4B-0A34E232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C299D-38D9-4F9E-A8FC-2AD8A7F4C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C88CE-5A5F-4E29-B5B5-E06BF894F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8B606-4110-4C83-91A1-1C5C164D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029AE-18FD-413B-804D-094EFDED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3934C-8F3A-4413-A64F-02E5F748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475-DC40-459C-ACAC-A8C8C58E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ADE545-6B0E-46CD-87E1-A953AD9B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F1F12-90F6-4A1E-9D9B-D88F8C8EB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C5F99-7B17-4B55-B2F4-22454DB3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9FA93-CF65-4663-8284-35061127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ED732-B9B0-49D5-A954-82A2E14F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2FC9D-5F87-4C6E-9134-B3C90004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71D13-4067-46FE-A147-F2E2CD85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AA915-6418-49AC-BDF3-14DACBBF0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9A97B-9491-4271-81C5-CA5395400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324449-59C3-48A5-9D73-FE634D308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9CE4-831A-4E70-8DE9-8F8C8ABC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012A6-1CAA-4493-8AEB-537CAA03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13CD5-19A8-4C84-9ECD-AD9615D5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66EB9-8712-4B58-9177-5193FBF5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B27E74-C2A9-4888-925E-30159B27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DB581-CAE9-4C4A-AF4D-9863E493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33DAF-EE62-4991-B92F-B7AC8B36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EFF8B-07C1-4931-B6E7-8B449F38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E18471-737A-40C3-A4E4-D8DB52C2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7821C-E189-4D70-A035-6838EF28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8AC10-86A7-4FD6-BA4F-480BA912F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62D7-A133-49FB-A49B-4143CB2B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76A8E-CB50-45F4-B5B7-B7DAC3804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0E770-B71B-4BFD-84FF-36F76DD5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9698F-5F80-4B97-807A-A8A9B7898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53F713-F60C-440F-93BF-3AB65740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0AC6B-B6F5-4C81-A917-A7098718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8D947-B2F4-4403-8D07-928FE5FF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95F37-342C-4583-9F59-B611FB7F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E4157-832F-4113-82EE-99885A3D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FDBCF-E5A7-4308-8CBF-93FFFF61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4FBEB-6EFF-455F-B3CF-06C45579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5A988-B661-4EDC-86B2-C96353C1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ED37B-13B4-41B6-B52A-D85DEE3C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FB4F5-CB82-4A4D-8098-2A34AFEB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56B8DC-4F24-4116-BDD3-B5AAA7718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9F81E-86C3-423C-AA22-56A73FB3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8A33A5-5D6B-41B4-B69E-65F56AF2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C1D1F6-0E27-40AD-843E-CF867F96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832967-AD4A-404B-8EAD-AA3FD697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9B35C4-F1E6-4C11-932C-A2452FB6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EB7EA-2785-495F-9425-2AFE85DE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34202-AA81-4539-9E91-9EB13414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19E7FC-9D16-40E4-939E-E0243F8F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F5311-FFFD-4FC1-BB01-CD2F0012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084511-8308-4E79-95B5-2243432F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2C19A-3647-44FE-971A-1DC5AB93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2C1C-C66B-4B0E-9689-9B43610FBA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0AFB-6A18-4015-BD64-AE062F6A7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27564-0256-4EDA-A027-0B781CF9FF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59F4-08D0-4F47-B9FA-BDA0989D1F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A8A7-08DD-4675-A2F1-188245CDE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75E0-4099-42EB-B5C9-127FE600BB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CA94-B841-44E1-AB6D-1E9FB2984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51B7-28C4-4984-B65E-D1AE3B59D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90F84-00E0-488A-AE5C-76B41C753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BBB9-23A3-4D8F-B035-50720F3DC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576D-4537-4E6E-82A5-2F42FB7982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FBC8-556C-4761-8E2F-21AC224BE5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11" descr="Zambia Agriculture Research Institute"/>
          <p:cNvPicPr/>
          <p:nvPr/>
        </p:nvPicPr>
        <p:blipFill>
          <a:blip r:embed="rId2"/>
          <a:stretch/>
        </p:blipFill>
        <p:spPr>
          <a:xfrm>
            <a:off x="0" y="2300400"/>
            <a:ext cx="1752480" cy="1433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2" descr=""/>
          <p:cNvPicPr/>
          <p:nvPr/>
        </p:nvPicPr>
        <p:blipFill>
          <a:blip r:embed="rId3"/>
          <a:stretch/>
        </p:blipFill>
        <p:spPr>
          <a:xfrm>
            <a:off x="0" y="5589720"/>
            <a:ext cx="1752480" cy="1268280"/>
          </a:xfrm>
          <a:prstGeom prst="rect">
            <a:avLst/>
          </a:prstGeom>
          <a:ln w="0">
            <a:noFill/>
          </a:ln>
        </p:spPr>
      </p:pic>
      <p:sp>
        <p:nvSpPr>
          <p:cNvPr id="924" name="TextBox 16"/>
          <p:cNvSpPr/>
          <p:nvPr/>
        </p:nvSpPr>
        <p:spPr>
          <a:xfrm>
            <a:off x="0" y="990720"/>
            <a:ext cx="9144000" cy="112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595959"/>
                </a:solidFill>
                <a:latin typeface="Tahoma"/>
                <a:ea typeface="Tahoma"/>
              </a:rPr>
              <a:t>Commercialising  aflasafe as a biocontrol for aflatoxi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Picture 2" descr=""/>
          <p:cNvPicPr/>
          <p:nvPr/>
        </p:nvPicPr>
        <p:blipFill>
          <a:blip r:embed="rId4"/>
          <a:stretch/>
        </p:blipFill>
        <p:spPr>
          <a:xfrm>
            <a:off x="2924280" y="2438280"/>
            <a:ext cx="3247920" cy="4343400"/>
          </a:xfrm>
          <a:prstGeom prst="rect">
            <a:avLst/>
          </a:prstGeom>
          <a:ln w="0">
            <a:noFill/>
          </a:ln>
        </p:spPr>
      </p:pic>
      <p:grpSp>
        <p:nvGrpSpPr>
          <p:cNvPr id="926" name="Group 7"/>
          <p:cNvGrpSpPr/>
          <p:nvPr/>
        </p:nvGrpSpPr>
        <p:grpSpPr>
          <a:xfrm>
            <a:off x="209520" y="4165560"/>
            <a:ext cx="1238400" cy="1244520"/>
            <a:chOff x="209520" y="4165560"/>
            <a:chExt cx="1238400" cy="1244520"/>
          </a:xfrm>
        </p:grpSpPr>
        <p:pic>
          <p:nvPicPr>
            <p:cNvPr id="927" name="Picture 3" descr="nisirlogo"/>
            <p:cNvPicPr/>
            <p:nvPr/>
          </p:nvPicPr>
          <p:blipFill>
            <a:blip r:embed="rId5"/>
            <a:stretch/>
          </p:blipFill>
          <p:spPr>
            <a:xfrm>
              <a:off x="405720" y="4364640"/>
              <a:ext cx="84204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AutoShape 4"/>
            <p:cNvSpPr/>
            <p:nvPr/>
          </p:nvSpPr>
          <p:spPr>
            <a:xfrm>
              <a:off x="209520" y="4165560"/>
              <a:ext cx="1238400" cy="1244520"/>
            </a:xfrm>
            <a:custGeom>
              <a:avLst/>
              <a:gdLst>
                <a:gd name="textAreaLeft" fmla="*/ 181080 w 1238400"/>
                <a:gd name="textAreaRight" fmla="*/ 1057320 w 1238400"/>
                <a:gd name="textAreaTop" fmla="*/ 182160 h 1244520"/>
                <a:gd name="textAreaBottom" fmla="*/ 1062360 h 12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544" y="10800"/>
                  </a:moveTo>
                  <a:cubicBezTo>
                    <a:pt x="3544" y="14807"/>
                    <a:pt x="6793" y="18056"/>
                    <a:pt x="10800" y="18056"/>
                  </a:cubicBezTo>
                  <a:cubicBezTo>
                    <a:pt x="14807" y="18056"/>
                    <a:pt x="18056" y="14807"/>
                    <a:pt x="18056" y="10800"/>
                  </a:cubicBezTo>
                  <a:cubicBezTo>
                    <a:pt x="18056" y="6793"/>
                    <a:pt x="14807" y="3544"/>
                    <a:pt x="10800" y="3544"/>
                  </a:cubicBezTo>
                  <a:cubicBezTo>
                    <a:pt x="6793" y="3544"/>
                    <a:pt x="3544" y="6793"/>
                    <a:pt x="3544" y="10800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TextBox 16"/>
          <p:cNvSpPr/>
          <p:nvPr/>
        </p:nvSpPr>
        <p:spPr>
          <a:xfrm>
            <a:off x="2724120" y="0"/>
            <a:ext cx="6572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Stakeholders’ Meeting, 30</a:t>
            </a:r>
            <a:r>
              <a:rPr b="1" lang="en-GB" sz="1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th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 September 2016, Lus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Theme 4:  Current achievements &amp;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2"/>
          <p:cNvSpPr/>
          <p:nvPr/>
        </p:nvSpPr>
        <p:spPr>
          <a:xfrm>
            <a:off x="155520" y="-1150920"/>
            <a:ext cx="674388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Picture 18" descr="Macintosh HD:Users:alys.yng:Dropbox:Research:Zambia:AA GNIAA - INGENEAS:Communication Tools:Logos - INGENAES:ingenaesLogos2.png"/>
          <p:cNvPicPr/>
          <p:nvPr/>
        </p:nvPicPr>
        <p:blipFill>
          <a:blip r:embed="rId7"/>
          <a:stretch/>
        </p:blipFill>
        <p:spPr>
          <a:xfrm>
            <a:off x="6899400" y="5948280"/>
            <a:ext cx="2122200" cy="71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9" descr=""/>
          <p:cNvPicPr/>
          <p:nvPr/>
        </p:nvPicPr>
        <p:blipFill>
          <a:blip r:embed="rId8"/>
          <a:stretch/>
        </p:blipFill>
        <p:spPr>
          <a:xfrm>
            <a:off x="6781680" y="2438280"/>
            <a:ext cx="2239920" cy="790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20" descr="Macintosh HD:Users:alys.yng:Desktop:Screen Shot 2016-05-01 at 5.46.06 AM.png"/>
          <p:cNvPicPr/>
          <p:nvPr/>
        </p:nvPicPr>
        <p:blipFill>
          <a:blip r:embed="rId9"/>
          <a:stretch/>
        </p:blipFill>
        <p:spPr>
          <a:xfrm>
            <a:off x="6899400" y="4363920"/>
            <a:ext cx="212220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: Dossier submitted to ZE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11"/>
          <p:cNvGrpSpPr/>
          <p:nvPr/>
        </p:nvGrpSpPr>
        <p:grpSpPr>
          <a:xfrm>
            <a:off x="95400" y="5743440"/>
            <a:ext cx="2641320" cy="962280"/>
            <a:chOff x="95400" y="5743440"/>
            <a:chExt cx="2641320" cy="962280"/>
          </a:xfrm>
        </p:grpSpPr>
        <p:sp>
          <p:nvSpPr>
            <p:cNvPr id="1006" name="Rounded Rectangle 12"/>
            <p:cNvSpPr/>
            <p:nvPr/>
          </p:nvSpPr>
          <p:spPr>
            <a:xfrm>
              <a:off x="95400" y="5743440"/>
              <a:ext cx="2641320" cy="9622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ounded Rectangle 4"/>
            <p:cNvSpPr/>
            <p:nvPr/>
          </p:nvSpPr>
          <p:spPr>
            <a:xfrm>
              <a:off x="142920" y="5790960"/>
              <a:ext cx="2546280" cy="8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-submission of Dossier-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yet to be d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14"/>
          <p:cNvGrpSpPr/>
          <p:nvPr/>
        </p:nvGrpSpPr>
        <p:grpSpPr>
          <a:xfrm>
            <a:off x="76320" y="4343400"/>
            <a:ext cx="2641320" cy="961920"/>
            <a:chOff x="76320" y="4343400"/>
            <a:chExt cx="2641320" cy="961920"/>
          </a:xfrm>
        </p:grpSpPr>
        <p:sp>
          <p:nvSpPr>
            <p:cNvPr id="1009" name="Rounded Rectangle 16"/>
            <p:cNvSpPr/>
            <p:nvPr/>
          </p:nvSpPr>
          <p:spPr>
            <a:xfrm>
              <a:off x="76320" y="4343400"/>
              <a:ext cx="2641320" cy="961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ounded Rectangle 4"/>
            <p:cNvSpPr/>
            <p:nvPr/>
          </p:nvSpPr>
          <p:spPr>
            <a:xfrm>
              <a:off x="123840" y="4390920"/>
              <a:ext cx="254628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vision of Doss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19"/>
          <p:cNvGrpSpPr/>
          <p:nvPr/>
        </p:nvGrpSpPr>
        <p:grpSpPr>
          <a:xfrm>
            <a:off x="82440" y="1600200"/>
            <a:ext cx="2641680" cy="961920"/>
            <a:chOff x="82440" y="1600200"/>
            <a:chExt cx="2641680" cy="961920"/>
          </a:xfrm>
        </p:grpSpPr>
        <p:sp>
          <p:nvSpPr>
            <p:cNvPr id="1012" name="Rounded Rectangle 20"/>
            <p:cNvSpPr/>
            <p:nvPr/>
          </p:nvSpPr>
          <p:spPr>
            <a:xfrm>
              <a:off x="82440" y="1600200"/>
              <a:ext cx="2641680" cy="961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ounded Rectangle 4"/>
            <p:cNvSpPr/>
            <p:nvPr/>
          </p:nvSpPr>
          <p:spPr>
            <a:xfrm>
              <a:off x="129960" y="1647720"/>
              <a:ext cx="254664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ubmission of Application doss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22"/>
          <p:cNvGrpSpPr/>
          <p:nvPr/>
        </p:nvGrpSpPr>
        <p:grpSpPr>
          <a:xfrm>
            <a:off x="76320" y="2971800"/>
            <a:ext cx="2641320" cy="969840"/>
            <a:chOff x="76320" y="2971800"/>
            <a:chExt cx="2641320" cy="969840"/>
          </a:xfrm>
        </p:grpSpPr>
        <p:sp>
          <p:nvSpPr>
            <p:cNvPr id="1015" name="Rounded Rectangle 23"/>
            <p:cNvSpPr/>
            <p:nvPr/>
          </p:nvSpPr>
          <p:spPr>
            <a:xfrm>
              <a:off x="76320" y="2971800"/>
              <a:ext cx="2641320" cy="969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ounded Rectangle 4"/>
            <p:cNvSpPr/>
            <p:nvPr/>
          </p:nvSpPr>
          <p:spPr>
            <a:xfrm>
              <a:off x="146160" y="3019320"/>
              <a:ext cx="2501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ssier Review &amp; Feedback to Applica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7" name="Group 25" descr=""/>
          <p:cNvPicPr/>
          <p:nvPr/>
        </p:nvPicPr>
        <p:blipFill>
          <a:blip r:embed="rId2"/>
          <a:stretch/>
        </p:blipFill>
        <p:spPr>
          <a:xfrm>
            <a:off x="3236760" y="1584360"/>
            <a:ext cx="2670480" cy="946080"/>
          </a:xfrm>
          <a:prstGeom prst="rect">
            <a:avLst/>
          </a:prstGeom>
          <a:ln w="0">
            <a:noFill/>
          </a:ln>
        </p:spPr>
      </p:pic>
      <p:pic>
        <p:nvPicPr>
          <p:cNvPr id="1018" name="Group 28" descr=""/>
          <p:cNvPicPr/>
          <p:nvPr/>
        </p:nvPicPr>
        <p:blipFill>
          <a:blip r:embed="rId3"/>
          <a:stretch/>
        </p:blipFill>
        <p:spPr>
          <a:xfrm>
            <a:off x="3365640" y="3645000"/>
            <a:ext cx="2670120" cy="946080"/>
          </a:xfrm>
          <a:prstGeom prst="rect">
            <a:avLst/>
          </a:prstGeom>
          <a:ln w="0">
            <a:noFill/>
          </a:ln>
        </p:spPr>
      </p:pic>
      <p:pic>
        <p:nvPicPr>
          <p:cNvPr id="1019" name="Group 31" descr=""/>
          <p:cNvPicPr/>
          <p:nvPr/>
        </p:nvPicPr>
        <p:blipFill>
          <a:blip r:embed="rId4"/>
          <a:stretch/>
        </p:blipFill>
        <p:spPr>
          <a:xfrm>
            <a:off x="6188040" y="3645000"/>
            <a:ext cx="2664000" cy="946080"/>
          </a:xfrm>
          <a:prstGeom prst="rect">
            <a:avLst/>
          </a:prstGeom>
          <a:ln w="0">
            <a:noFill/>
          </a:ln>
        </p:spPr>
      </p:pic>
      <p:pic>
        <p:nvPicPr>
          <p:cNvPr id="1020" name="Group 34" descr=""/>
          <p:cNvPicPr/>
          <p:nvPr/>
        </p:nvPicPr>
        <p:blipFill>
          <a:blip r:embed="rId5"/>
          <a:stretch/>
        </p:blipFill>
        <p:spPr>
          <a:xfrm>
            <a:off x="4584600" y="5778360"/>
            <a:ext cx="2670120" cy="946440"/>
          </a:xfrm>
          <a:prstGeom prst="rect">
            <a:avLst/>
          </a:prstGeom>
          <a:ln w="0">
            <a:noFill/>
          </a:ln>
        </p:spPr>
      </p:pic>
      <p:pic>
        <p:nvPicPr>
          <p:cNvPr id="1021" name="Group 37" descr=""/>
          <p:cNvPicPr/>
          <p:nvPr/>
        </p:nvPicPr>
        <p:blipFill>
          <a:blip r:embed="rId6"/>
          <a:stretch/>
        </p:blipFill>
        <p:spPr>
          <a:xfrm>
            <a:off x="6315120" y="1633680"/>
            <a:ext cx="2663640" cy="944280"/>
          </a:xfrm>
          <a:prstGeom prst="rect">
            <a:avLst/>
          </a:prstGeom>
          <a:ln w="0">
            <a:noFill/>
          </a:ln>
        </p:spPr>
      </p:pic>
      <p:sp>
        <p:nvSpPr>
          <p:cNvPr id="1022" name="Striped Right Arrow 3"/>
          <p:cNvSpPr/>
          <p:nvPr/>
        </p:nvSpPr>
        <p:spPr>
          <a:xfrm>
            <a:off x="2895480" y="6059520"/>
            <a:ext cx="1600200" cy="380880"/>
          </a:xfrm>
          <a:custGeom>
            <a:avLst/>
            <a:gdLst/>
            <a:ahLst/>
            <a:rect l="l" t="t" r="r" b="b"/>
            <a:pathLst>
              <a:path w="1600200" h="381000">
                <a:moveTo>
                  <a:pt x="0" y="95250"/>
                </a:moveTo>
                <a:lnTo>
                  <a:pt x="11906" y="95250"/>
                </a:lnTo>
                <a:lnTo>
                  <a:pt x="11906" y="285750"/>
                </a:lnTo>
                <a:lnTo>
                  <a:pt x="0" y="285750"/>
                </a:lnTo>
                <a:lnTo>
                  <a:pt x="0" y="95250"/>
                </a:lnTo>
                <a:close/>
                <a:moveTo>
                  <a:pt x="23813" y="95250"/>
                </a:moveTo>
                <a:lnTo>
                  <a:pt x="47625" y="95250"/>
                </a:lnTo>
                <a:lnTo>
                  <a:pt x="47625" y="285750"/>
                </a:lnTo>
                <a:lnTo>
                  <a:pt x="23813" y="285750"/>
                </a:lnTo>
                <a:lnTo>
                  <a:pt x="23813" y="95250"/>
                </a:lnTo>
                <a:close/>
                <a:moveTo>
                  <a:pt x="59531" y="95250"/>
                </a:moveTo>
                <a:lnTo>
                  <a:pt x="1409700" y="95250"/>
                </a:lnTo>
                <a:lnTo>
                  <a:pt x="1409700" y="0"/>
                </a:lnTo>
                <a:lnTo>
                  <a:pt x="1600200" y="190500"/>
                </a:lnTo>
                <a:lnTo>
                  <a:pt x="1409700" y="381000"/>
                </a:lnTo>
                <a:lnTo>
                  <a:pt x="1409700" y="285750"/>
                </a:lnTo>
                <a:lnTo>
                  <a:pt x="59531" y="285750"/>
                </a:lnTo>
                <a:lnTo>
                  <a:pt x="59531" y="9525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triped Right Arrow 40"/>
          <p:cNvSpPr/>
          <p:nvPr/>
        </p:nvSpPr>
        <p:spPr>
          <a:xfrm rot="14026200">
            <a:off x="4408200" y="5111280"/>
            <a:ext cx="1370160" cy="160200"/>
          </a:xfrm>
          <a:custGeom>
            <a:avLst/>
            <a:gdLst/>
            <a:ahLst/>
            <a:rect l="l" t="t" r="r" b="b"/>
            <a:pathLst>
              <a:path w="1370012" h="160338">
                <a:moveTo>
                  <a:pt x="0" y="40085"/>
                </a:moveTo>
                <a:lnTo>
                  <a:pt x="5011" y="40085"/>
                </a:lnTo>
                <a:lnTo>
                  <a:pt x="5011" y="120254"/>
                </a:lnTo>
                <a:lnTo>
                  <a:pt x="0" y="120254"/>
                </a:lnTo>
                <a:lnTo>
                  <a:pt x="0" y="40085"/>
                </a:lnTo>
                <a:close/>
                <a:moveTo>
                  <a:pt x="10021" y="40085"/>
                </a:moveTo>
                <a:lnTo>
                  <a:pt x="20042" y="40085"/>
                </a:lnTo>
                <a:lnTo>
                  <a:pt x="20042" y="120254"/>
                </a:lnTo>
                <a:lnTo>
                  <a:pt x="10021" y="120254"/>
                </a:lnTo>
                <a:lnTo>
                  <a:pt x="10021" y="40085"/>
                </a:lnTo>
                <a:close/>
                <a:moveTo>
                  <a:pt x="25053" y="40085"/>
                </a:moveTo>
                <a:lnTo>
                  <a:pt x="1289843" y="40085"/>
                </a:lnTo>
                <a:lnTo>
                  <a:pt x="1289843" y="0"/>
                </a:lnTo>
                <a:lnTo>
                  <a:pt x="1370012" y="80169"/>
                </a:lnTo>
                <a:lnTo>
                  <a:pt x="1289843" y="160338"/>
                </a:lnTo>
                <a:lnTo>
                  <a:pt x="1289843" y="120254"/>
                </a:lnTo>
                <a:lnTo>
                  <a:pt x="25053" y="120254"/>
                </a:lnTo>
                <a:lnTo>
                  <a:pt x="25053" y="40085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triped Right Arrow 41"/>
          <p:cNvSpPr/>
          <p:nvPr/>
        </p:nvSpPr>
        <p:spPr>
          <a:xfrm rot="18195600">
            <a:off x="6334920" y="5108400"/>
            <a:ext cx="1368720" cy="158760"/>
          </a:xfrm>
          <a:custGeom>
            <a:avLst/>
            <a:gdLst/>
            <a:ahLst/>
            <a:rect l="l" t="t" r="r" b="b"/>
            <a:pathLst>
              <a:path w="1368425" h="158750">
                <a:moveTo>
                  <a:pt x="0" y="39688"/>
                </a:moveTo>
                <a:lnTo>
                  <a:pt x="4961" y="39688"/>
                </a:lnTo>
                <a:lnTo>
                  <a:pt x="4961" y="119063"/>
                </a:lnTo>
                <a:lnTo>
                  <a:pt x="0" y="119063"/>
                </a:lnTo>
                <a:lnTo>
                  <a:pt x="0" y="39688"/>
                </a:lnTo>
                <a:close/>
                <a:moveTo>
                  <a:pt x="9922" y="39688"/>
                </a:moveTo>
                <a:lnTo>
                  <a:pt x="19844" y="39688"/>
                </a:lnTo>
                <a:lnTo>
                  <a:pt x="19844" y="119063"/>
                </a:lnTo>
                <a:lnTo>
                  <a:pt x="9922" y="119063"/>
                </a:lnTo>
                <a:lnTo>
                  <a:pt x="9922" y="39688"/>
                </a:lnTo>
                <a:close/>
                <a:moveTo>
                  <a:pt x="24805" y="39688"/>
                </a:moveTo>
                <a:lnTo>
                  <a:pt x="1289050" y="39688"/>
                </a:lnTo>
                <a:lnTo>
                  <a:pt x="1289050" y="0"/>
                </a:lnTo>
                <a:lnTo>
                  <a:pt x="1368425" y="79375"/>
                </a:lnTo>
                <a:lnTo>
                  <a:pt x="1289050" y="158750"/>
                </a:lnTo>
                <a:lnTo>
                  <a:pt x="1289050" y="119063"/>
                </a:lnTo>
                <a:lnTo>
                  <a:pt x="24805" y="119063"/>
                </a:lnTo>
                <a:lnTo>
                  <a:pt x="24805" y="39688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triped Right Arrow 42"/>
          <p:cNvSpPr/>
          <p:nvPr/>
        </p:nvSpPr>
        <p:spPr>
          <a:xfrm rot="15835200">
            <a:off x="3625560" y="3024000"/>
            <a:ext cx="1055520" cy="118800"/>
          </a:xfrm>
          <a:custGeom>
            <a:avLst/>
            <a:gdLst/>
            <a:ahLst/>
            <a:rect l="l" t="t" r="r" b="b"/>
            <a:pathLst>
              <a:path w="1055688" h="119062">
                <a:moveTo>
                  <a:pt x="0" y="29766"/>
                </a:moveTo>
                <a:lnTo>
                  <a:pt x="3721" y="29766"/>
                </a:lnTo>
                <a:lnTo>
                  <a:pt x="3721" y="89297"/>
                </a:lnTo>
                <a:lnTo>
                  <a:pt x="0" y="89297"/>
                </a:lnTo>
                <a:lnTo>
                  <a:pt x="0" y="29766"/>
                </a:lnTo>
                <a:close/>
                <a:moveTo>
                  <a:pt x="7441" y="29766"/>
                </a:moveTo>
                <a:lnTo>
                  <a:pt x="14883" y="29766"/>
                </a:lnTo>
                <a:lnTo>
                  <a:pt x="14883" y="89297"/>
                </a:lnTo>
                <a:lnTo>
                  <a:pt x="7441" y="89297"/>
                </a:lnTo>
                <a:lnTo>
                  <a:pt x="7441" y="29766"/>
                </a:lnTo>
                <a:close/>
                <a:moveTo>
                  <a:pt x="18603" y="29766"/>
                </a:moveTo>
                <a:lnTo>
                  <a:pt x="996157" y="29766"/>
                </a:lnTo>
                <a:lnTo>
                  <a:pt x="996157" y="0"/>
                </a:lnTo>
                <a:lnTo>
                  <a:pt x="1055688" y="59531"/>
                </a:lnTo>
                <a:lnTo>
                  <a:pt x="996157" y="119062"/>
                </a:lnTo>
                <a:lnTo>
                  <a:pt x="996157" y="89297"/>
                </a:lnTo>
                <a:lnTo>
                  <a:pt x="18603" y="89297"/>
                </a:lnTo>
                <a:lnTo>
                  <a:pt x="18603" y="2976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triped Right Arrow 43"/>
          <p:cNvSpPr/>
          <p:nvPr/>
        </p:nvSpPr>
        <p:spPr>
          <a:xfrm flipV="1" rot="19268400">
            <a:off x="5421240" y="3068640"/>
            <a:ext cx="1577520" cy="104760"/>
          </a:xfrm>
          <a:custGeom>
            <a:avLst/>
            <a:gdLst/>
            <a:ahLst/>
            <a:rect l="l" t="t" r="r" b="b"/>
            <a:pathLst>
              <a:path w="1577975" h="104775">
                <a:moveTo>
                  <a:pt x="0" y="26194"/>
                </a:moveTo>
                <a:lnTo>
                  <a:pt x="3274" y="26194"/>
                </a:lnTo>
                <a:lnTo>
                  <a:pt x="3274" y="78581"/>
                </a:lnTo>
                <a:lnTo>
                  <a:pt x="0" y="78581"/>
                </a:lnTo>
                <a:lnTo>
                  <a:pt x="0" y="26194"/>
                </a:lnTo>
                <a:close/>
                <a:moveTo>
                  <a:pt x="6548" y="26194"/>
                </a:moveTo>
                <a:lnTo>
                  <a:pt x="13097" y="26194"/>
                </a:lnTo>
                <a:lnTo>
                  <a:pt x="13097" y="78581"/>
                </a:lnTo>
                <a:lnTo>
                  <a:pt x="6548" y="78581"/>
                </a:lnTo>
                <a:lnTo>
                  <a:pt x="6548" y="26194"/>
                </a:lnTo>
                <a:close/>
                <a:moveTo>
                  <a:pt x="16371" y="26194"/>
                </a:moveTo>
                <a:lnTo>
                  <a:pt x="1525588" y="26194"/>
                </a:lnTo>
                <a:lnTo>
                  <a:pt x="1525588" y="0"/>
                </a:lnTo>
                <a:lnTo>
                  <a:pt x="1577975" y="52388"/>
                </a:lnTo>
                <a:lnTo>
                  <a:pt x="1525588" y="104775"/>
                </a:lnTo>
                <a:lnTo>
                  <a:pt x="1525588" y="78581"/>
                </a:lnTo>
                <a:lnTo>
                  <a:pt x="16371" y="78581"/>
                </a:lnTo>
                <a:lnTo>
                  <a:pt x="16371" y="26194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: BP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4632480" y="1006560"/>
          <a:ext cx="4511520" cy="1598400"/>
        </p:xfrm>
        <a:graphic>
          <a:graphicData uri="http://schemas.openxmlformats.org/drawingml/2006/table">
            <a:tbl>
              <a:tblPr/>
              <a:tblGrid>
                <a:gridCol w="4511520"/>
              </a:tblGrid>
              <a:tr h="46980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RY POINT AF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58800">
                <a:tc>
                  <a:txBody>
                    <a:bodyPr rIns="7308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SINESS PLAN FOR AFLASAFE COMMERCIALISATION IN ZAMB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6980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rst Working Draft- JANUARY 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1" name=""/>
          <p:cNvGraphicFramePr/>
          <p:nvPr/>
        </p:nvGraphicFramePr>
        <p:xfrm>
          <a:off x="42840" y="1295280"/>
          <a:ext cx="2190600" cy="5521320"/>
        </p:xfrm>
        <a:graphic>
          <a:graphicData uri="http://schemas.openxmlformats.org/drawingml/2006/table">
            <a:tbl>
              <a:tblPr/>
              <a:tblGrid>
                <a:gridCol w="2190600"/>
              </a:tblGrid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I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SAID-Zamb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F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A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787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astern Province Farmers Cooperatives union (EPFC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MSE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ES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B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hare Africa Zamb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 Against Malnutrition (PA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787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ain Traders Association of Zambia (GTAZ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FIT 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E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2" name=""/>
          <p:cNvGraphicFramePr/>
          <p:nvPr/>
        </p:nvGraphicFramePr>
        <p:xfrm>
          <a:off x="2316240" y="3137040"/>
          <a:ext cx="2495520" cy="3644640"/>
        </p:xfrm>
        <a:graphic>
          <a:graphicData uri="http://schemas.openxmlformats.org/drawingml/2006/table">
            <a:tbl>
              <a:tblPr/>
              <a:tblGrid>
                <a:gridCol w="2495520"/>
              </a:tblGrid>
              <a:tr h="84132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mallholder Agri Business Promotion Programme (SAP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120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Department of Marketing and Agri-busi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196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052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illage headman &amp; Farmers in 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016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tete District Women’s Assoc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3" name=""/>
          <p:cNvGraphicFramePr/>
          <p:nvPr/>
        </p:nvGraphicFramePr>
        <p:xfrm>
          <a:off x="4876920" y="4191120"/>
          <a:ext cx="4267080" cy="256068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Petau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84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Petau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Ny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4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Ny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Kab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4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Chib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Chib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sp>
        <p:nvSpPr>
          <p:cNvPr id="1034" name="Rectangle 7"/>
          <p:cNvSpPr/>
          <p:nvPr/>
        </p:nvSpPr>
        <p:spPr>
          <a:xfrm>
            <a:off x="5369040" y="3359160"/>
            <a:ext cx="3698640" cy="50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takeholder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: BP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15"/>
          <p:cNvSpPr/>
          <p:nvPr/>
        </p:nvSpPr>
        <p:spPr>
          <a:xfrm>
            <a:off x="4343400" y="853920"/>
            <a:ext cx="46958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Potential aflasafe manufac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Share-Africa Zamb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ZAMS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companies expressed need for seed money to jump start the manufacturing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530, 000$ for aflasafe pl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15"/>
          <p:cNvSpPr/>
          <p:nvPr/>
        </p:nvSpPr>
        <p:spPr>
          <a:xfrm>
            <a:off x="4295880" y="4302000"/>
            <a:ext cx="4695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Potential distribution channe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Lead firms: Organizations operating M/GN value ch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Seed &amp; input supp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GOs &amp; development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15"/>
          <p:cNvSpPr/>
          <p:nvPr/>
        </p:nvSpPr>
        <p:spPr>
          <a:xfrm>
            <a:off x="27000" y="1509840"/>
            <a:ext cx="4162320" cy="461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Market &amp;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60% of farmers willing to pay for such a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Market: Local consumers, processors, Govt school feeding programs, regional tra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GOs &amp; development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5. Trade assess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2"/>
          <p:cNvSpPr/>
          <p:nvPr/>
        </p:nvSpPr>
        <p:spPr>
          <a:xfrm>
            <a:off x="1066680" y="1703520"/>
            <a:ext cx="6782040" cy="5031720"/>
          </a:xfrm>
          <a:prstGeom prst="rect">
            <a:avLst/>
          </a:prstGeom>
          <a:noFill/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n Assessment Report of Trade Performance of Key Agricultural Value Chains in Zambia from 2013 to 201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epared and submitted b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Gregory Chans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pril, 201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OFIT plus USAID 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lot #18944 | Off Lubansheshi Road Olympia Park | Lusak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Zamb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ZM1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15" descr=""/>
          <p:cNvPicPr/>
          <p:nvPr/>
        </p:nvPicPr>
        <p:blipFill>
          <a:blip r:embed="rId2"/>
          <a:stretch/>
        </p:blipFill>
        <p:spPr>
          <a:xfrm>
            <a:off x="7337520" y="990720"/>
            <a:ext cx="1806480" cy="63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6. Awareness raising &amp; Capacity build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Picture 44" descr=""/>
          <p:cNvPicPr/>
          <p:nvPr/>
        </p:nvPicPr>
        <p:blipFill>
          <a:blip r:embed="rId2"/>
          <a:stretch/>
        </p:blipFill>
        <p:spPr>
          <a:xfrm>
            <a:off x="76320" y="4648320"/>
            <a:ext cx="3759120" cy="2114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5" descr=""/>
          <p:cNvPicPr/>
          <p:nvPr/>
        </p:nvPicPr>
        <p:blipFill>
          <a:blip r:embed="rId3"/>
          <a:stretch/>
        </p:blipFill>
        <p:spPr>
          <a:xfrm>
            <a:off x="6553080" y="4686480"/>
            <a:ext cx="2514600" cy="207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3" name=""/>
          <p:cNvGraphicFramePr/>
          <p:nvPr/>
        </p:nvGraphicFramePr>
        <p:xfrm>
          <a:off x="76320" y="1600200"/>
          <a:ext cx="8915400" cy="2641680"/>
        </p:xfrm>
        <a:graphic>
          <a:graphicData uri="http://schemas.openxmlformats.org/drawingml/2006/table">
            <a:tbl>
              <a:tblPr/>
              <a:tblGrid>
                <a:gridCol w="1523880"/>
                <a:gridCol w="762120"/>
                <a:gridCol w="990360"/>
                <a:gridCol w="1371600"/>
                <a:gridCol w="685800"/>
                <a:gridCol w="990720"/>
                <a:gridCol w="762120"/>
                <a:gridCol w="1096920"/>
                <a:gridCol w="731880"/>
              </a:tblGrid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she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sung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e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r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ead far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EOs/ CE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4" name="Picture 46" descr=""/>
          <p:cNvPicPr/>
          <p:nvPr/>
        </p:nvPicPr>
        <p:blipFill>
          <a:blip r:embed="rId4"/>
          <a:stretch/>
        </p:blipFill>
        <p:spPr>
          <a:xfrm>
            <a:off x="4343400" y="4581360"/>
            <a:ext cx="1676520" cy="22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56" name="Rectangle 7"/>
          <p:cNvSpPr/>
          <p:nvPr/>
        </p:nvSpPr>
        <p:spPr>
          <a:xfrm>
            <a:off x="-457200" y="836640"/>
            <a:ext cx="952488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Dry spell experienced in Western &amp; Southern provinces negatively affected aflasafe deployment in pre-selected field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oor road networks: inaccessible fallen trees/ logs and thickets prevented access to fields in the fores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irds were a problem in forest areas cropped to maize &amp; groundnut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743200" y="19224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  <a:ea typeface="Tahoma"/>
              </a:rPr>
              <a:t>Challenges &amp; research gap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76320" y="4081320"/>
            <a:ext cx="4800600" cy="27003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2" descr=""/>
          <p:cNvPicPr/>
          <p:nvPr/>
        </p:nvPicPr>
        <p:blipFill>
          <a:blip r:embed="rId3"/>
          <a:stretch/>
        </p:blipFill>
        <p:spPr>
          <a:xfrm>
            <a:off x="6626160" y="4081320"/>
            <a:ext cx="246708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61" name="Rectangle 7"/>
          <p:cNvSpPr/>
          <p:nvPr/>
        </p:nvSpPr>
        <p:spPr>
          <a:xfrm>
            <a:off x="-457200" y="835200"/>
            <a:ext cx="952488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usiness plan development: A new consultant to be hired to finalize business plan developmen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registration: Continue with the product registration proces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Data: Test aflasafe product region I &amp; III AEZ to gather 2</a:t>
            </a:r>
            <a:r>
              <a:rPr b="0" lang="en-GB" sz="23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nd</a:t>
            </a: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 year efficacy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77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  <a:ea typeface="Tahoma"/>
              </a:rPr>
              <a:t>Gaps &amp; outlook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76320" y="4402080"/>
            <a:ext cx="4228920" cy="23796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2" descr=""/>
          <p:cNvPicPr/>
          <p:nvPr/>
        </p:nvPicPr>
        <p:blipFill>
          <a:blip r:embed="rId3"/>
          <a:stretch/>
        </p:blipFill>
        <p:spPr>
          <a:xfrm>
            <a:off x="6934320" y="4417920"/>
            <a:ext cx="2158920" cy="23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666880" y="45720"/>
            <a:ext cx="6477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cknowled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7" name="Picture 6" descr=""/>
          <p:cNvPicPr/>
          <p:nvPr/>
        </p:nvPicPr>
        <p:blipFill>
          <a:blip r:embed="rId2"/>
          <a:stretch/>
        </p:blipFill>
        <p:spPr>
          <a:xfrm>
            <a:off x="152280" y="5365800"/>
            <a:ext cx="2514600" cy="16444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P1040794"/>
          <p:cNvPicPr/>
          <p:nvPr/>
        </p:nvPicPr>
        <p:blipFill>
          <a:blip r:embed="rId3"/>
          <a:stretch/>
        </p:blipFill>
        <p:spPr>
          <a:xfrm>
            <a:off x="4781520" y="914400"/>
            <a:ext cx="4406760" cy="5867280"/>
          </a:xfrm>
          <a:prstGeom prst="rect">
            <a:avLst/>
          </a:prstGeom>
          <a:ln w="0">
            <a:noFill/>
          </a:ln>
        </p:spPr>
      </p:pic>
      <p:sp>
        <p:nvSpPr>
          <p:cNvPr id="10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5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Picture 9" descr=""/>
          <p:cNvPicPr/>
          <p:nvPr/>
        </p:nvPicPr>
        <p:blipFill>
          <a:blip r:embed="rId4"/>
          <a:stretch/>
        </p:blipFill>
        <p:spPr>
          <a:xfrm>
            <a:off x="23240880" y="30403800"/>
            <a:ext cx="4724640" cy="16542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2" descr=""/>
          <p:cNvPicPr/>
          <p:nvPr/>
        </p:nvPicPr>
        <p:blipFill>
          <a:blip r:embed="rId5"/>
          <a:stretch/>
        </p:blipFill>
        <p:spPr>
          <a:xfrm>
            <a:off x="76320" y="2666880"/>
            <a:ext cx="2471760" cy="865440"/>
          </a:xfrm>
          <a:prstGeom prst="rect">
            <a:avLst/>
          </a:prstGeom>
          <a:ln w="0">
            <a:noFill/>
          </a:ln>
        </p:spPr>
      </p:pic>
      <p:pic>
        <p:nvPicPr>
          <p:cNvPr id="1073" name="Grafik 7" descr=""/>
          <p:cNvPicPr/>
          <p:nvPr/>
        </p:nvPicPr>
        <p:blipFill>
          <a:blip r:embed="rId6"/>
          <a:stretch/>
        </p:blipFill>
        <p:spPr>
          <a:xfrm>
            <a:off x="34920" y="3638520"/>
            <a:ext cx="2239920" cy="933480"/>
          </a:xfrm>
          <a:prstGeom prst="rect">
            <a:avLst/>
          </a:prstGeom>
          <a:ln w="0">
            <a:noFill/>
          </a:ln>
        </p:spPr>
      </p:pic>
      <p:sp>
        <p:nvSpPr>
          <p:cNvPr id="1074" name="AutoShape 14"/>
          <p:cNvSpPr/>
          <p:nvPr/>
        </p:nvSpPr>
        <p:spPr>
          <a:xfrm>
            <a:off x="155520" y="-1881360"/>
            <a:ext cx="33717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15" descr=""/>
          <p:cNvPicPr/>
          <p:nvPr/>
        </p:nvPicPr>
        <p:blipFill>
          <a:blip r:embed="rId7"/>
          <a:stretch/>
        </p:blipFill>
        <p:spPr>
          <a:xfrm>
            <a:off x="0" y="838080"/>
            <a:ext cx="1514520" cy="17640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4" descr="Macintosh HD:Users:alys.yng:Dropbox:Research:Zambia:AA GNIAA - INGENEAS:Communication Tools:Logos - INGENAES:ingenaesLogos2.png"/>
          <p:cNvPicPr/>
          <p:nvPr/>
        </p:nvPicPr>
        <p:blipFill>
          <a:blip r:embed="rId8"/>
          <a:stretch/>
        </p:blipFill>
        <p:spPr>
          <a:xfrm>
            <a:off x="2362320" y="1949400"/>
            <a:ext cx="2122200" cy="7160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6" descr="Macintosh HD:Users:alys.yng:Desktop:Screen Shot 2016-05-01 at 5.46.06 AM.png"/>
          <p:cNvPicPr/>
          <p:nvPr/>
        </p:nvPicPr>
        <p:blipFill>
          <a:blip r:embed="rId9"/>
          <a:stretch/>
        </p:blipFill>
        <p:spPr>
          <a:xfrm>
            <a:off x="2602080" y="3809880"/>
            <a:ext cx="2122200" cy="538200"/>
          </a:xfrm>
          <a:prstGeom prst="rect">
            <a:avLst/>
          </a:prstGeom>
          <a:ln w="0">
            <a:noFill/>
          </a:ln>
        </p:spPr>
      </p:pic>
      <p:sp>
        <p:nvSpPr>
          <p:cNvPr id="1078" name="Rectangle 17"/>
          <p:cNvSpPr/>
          <p:nvPr/>
        </p:nvSpPr>
        <p:spPr>
          <a:xfrm>
            <a:off x="2286000" y="4729320"/>
            <a:ext cx="23544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 </a:t>
            </a: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Aflasafe te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15" descr=""/>
          <p:cNvPicPr/>
          <p:nvPr/>
        </p:nvPicPr>
        <p:blipFill>
          <a:blip r:embed="rId10"/>
          <a:stretch/>
        </p:blipFill>
        <p:spPr>
          <a:xfrm>
            <a:off x="34920" y="4610160"/>
            <a:ext cx="223992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roject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76320" y="1308240"/>
            <a:ext cx="8991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conduct a trade assessment of key agricultural VCs in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assess the efficacy of two aflasafe biocontrol products in Region I and III agro-ecological zones of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develop a business plan for commercializing aflasafe in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develop a dossier &amp; identify requirements for aflasafe registration &amp; commer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assess the cost benefits of using afla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9601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ff"/>
                </a:solidFill>
                <a:latin typeface="Tahoma"/>
                <a:ea typeface="Tahoma"/>
              </a:rPr>
              <a:t>Aflasafe Technology: Planned activities &amp; Part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traight Connector 12"/>
          <p:cNvSpPr/>
          <p:nvPr/>
        </p:nvSpPr>
        <p:spPr>
          <a:xfrm>
            <a:off x="0" y="988920"/>
            <a:ext cx="914400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1"/>
          <p:cNvSpPr/>
          <p:nvPr/>
        </p:nvSpPr>
        <p:spPr>
          <a:xfrm>
            <a:off x="12600" y="2757600"/>
            <a:ext cx="1752840" cy="21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Trade assessment +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Cost benefit analy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15"/>
          <p:cNvSpPr/>
          <p:nvPr/>
        </p:nvSpPr>
        <p:spPr>
          <a:xfrm>
            <a:off x="584280" y="1322280"/>
            <a:ext cx="8026200" cy="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Picture 11" descr=""/>
          <p:cNvPicPr/>
          <p:nvPr/>
        </p:nvPicPr>
        <p:blipFill>
          <a:blip r:embed="rId1"/>
          <a:stretch/>
        </p:blipFill>
        <p:spPr>
          <a:xfrm>
            <a:off x="8174160" y="1297080"/>
            <a:ext cx="817560" cy="16034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1" descr=""/>
          <p:cNvPicPr/>
          <p:nvPr/>
        </p:nvPicPr>
        <p:blipFill>
          <a:blip r:embed="rId2"/>
          <a:stretch/>
        </p:blipFill>
        <p:spPr>
          <a:xfrm>
            <a:off x="4419720" y="1309680"/>
            <a:ext cx="817560" cy="16034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1" descr=""/>
          <p:cNvPicPr/>
          <p:nvPr/>
        </p:nvPicPr>
        <p:blipFill>
          <a:blip r:embed="rId3"/>
          <a:stretch/>
        </p:blipFill>
        <p:spPr>
          <a:xfrm>
            <a:off x="2535120" y="1295280"/>
            <a:ext cx="817560" cy="4065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1" descr=""/>
          <p:cNvPicPr/>
          <p:nvPr/>
        </p:nvPicPr>
        <p:blipFill>
          <a:blip r:embed="rId4"/>
          <a:stretch/>
        </p:blipFill>
        <p:spPr>
          <a:xfrm>
            <a:off x="6323040" y="1309680"/>
            <a:ext cx="817560" cy="4122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1" descr=""/>
          <p:cNvPicPr/>
          <p:nvPr/>
        </p:nvPicPr>
        <p:blipFill>
          <a:blip r:embed="rId5"/>
          <a:stretch/>
        </p:blipFill>
        <p:spPr>
          <a:xfrm>
            <a:off x="200160" y="1297080"/>
            <a:ext cx="793440" cy="1603440"/>
          </a:xfrm>
          <a:prstGeom prst="rect">
            <a:avLst/>
          </a:prstGeom>
          <a:ln w="0">
            <a:noFill/>
          </a:ln>
        </p:spPr>
      </p:pic>
      <p:sp>
        <p:nvSpPr>
          <p:cNvPr id="947" name="Rectangle 1"/>
          <p:cNvSpPr/>
          <p:nvPr/>
        </p:nvSpPr>
        <p:spPr>
          <a:xfrm>
            <a:off x="3733920" y="2760840"/>
            <a:ext cx="2179440" cy="1144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value demon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"/>
          <p:cNvSpPr/>
          <p:nvPr/>
        </p:nvSpPr>
        <p:spPr>
          <a:xfrm>
            <a:off x="1952640" y="4800600"/>
            <a:ext cx="2127240" cy="794520"/>
          </a:xfrm>
          <a:prstGeom prst="rect">
            <a:avLst/>
          </a:prstGeom>
          <a:noFill/>
          <a:ln w="38160">
            <a:solidFill>
              <a:srgbClr val="55f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Efficacy trial in AEZs I &amp; II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"/>
          <p:cNvSpPr/>
          <p:nvPr/>
        </p:nvSpPr>
        <p:spPr>
          <a:xfrm>
            <a:off x="5943600" y="5030640"/>
            <a:ext cx="1476360" cy="794520"/>
          </a:xfrm>
          <a:prstGeom prst="rect">
            <a:avLst/>
          </a:prstGeom>
          <a:noFill/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usiness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"/>
          <p:cNvSpPr/>
          <p:nvPr/>
        </p:nvSpPr>
        <p:spPr>
          <a:xfrm>
            <a:off x="7281720" y="2728800"/>
            <a:ext cx="1828800" cy="794520"/>
          </a:xfrm>
          <a:prstGeom prst="rect">
            <a:avLst/>
          </a:prstGeom>
          <a:noFill/>
          <a:ln w="38160">
            <a:solidFill>
              <a:srgbClr val="fc4b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regi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itle 8"/>
          <p:cNvSpPr/>
          <p:nvPr/>
        </p:nvSpPr>
        <p:spPr>
          <a:xfrm>
            <a:off x="0" y="4567320"/>
            <a:ext cx="17096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Profit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Share Africa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itle 8"/>
          <p:cNvSpPr/>
          <p:nvPr/>
        </p:nvSpPr>
        <p:spPr>
          <a:xfrm>
            <a:off x="2098800" y="5715000"/>
            <a:ext cx="1711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NI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US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itle 8"/>
          <p:cNvSpPr/>
          <p:nvPr/>
        </p:nvSpPr>
        <p:spPr>
          <a:xfrm>
            <a:off x="4079880" y="3595680"/>
            <a:ext cx="1711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Profit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Share-Africa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/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itle 8"/>
          <p:cNvSpPr/>
          <p:nvPr/>
        </p:nvSpPr>
        <p:spPr>
          <a:xfrm>
            <a:off x="6051600" y="5869080"/>
            <a:ext cx="13399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itle 8"/>
          <p:cNvSpPr/>
          <p:nvPr/>
        </p:nvSpPr>
        <p:spPr>
          <a:xfrm>
            <a:off x="7467480" y="3519360"/>
            <a:ext cx="171144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NI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1"/>
          <p:cNvSpPr/>
          <p:nvPr/>
        </p:nvSpPr>
        <p:spPr>
          <a:xfrm>
            <a:off x="-76320" y="838080"/>
            <a:ext cx="95252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3333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Efficacy of Aflasafe in Region I &amp; III agro-ecological zo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(60.2 Ha treated (45 females, 57 males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0" name=""/>
          <p:cNvGraphicFramePr/>
          <p:nvPr/>
        </p:nvGraphicFramePr>
        <p:xfrm>
          <a:off x="33480" y="1973160"/>
          <a:ext cx="9067680" cy="2889360"/>
        </p:xfrm>
        <a:graphic>
          <a:graphicData uri="http://schemas.openxmlformats.org/drawingml/2006/table">
            <a:tbl>
              <a:tblPr/>
              <a:tblGrid>
                <a:gridCol w="934920"/>
                <a:gridCol w="1471680"/>
                <a:gridCol w="1444680"/>
                <a:gridCol w="1284120"/>
                <a:gridCol w="1363680"/>
                <a:gridCol w="1390680"/>
                <a:gridCol w="1177920"/>
              </a:tblGrid>
              <a:tr h="457560"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vi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fi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oundnut fi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575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es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shek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outh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zung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e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pic>
        <p:nvPicPr>
          <p:cNvPr id="961" name="Picture 5" descr=""/>
          <p:cNvPicPr/>
          <p:nvPr/>
        </p:nvPicPr>
        <p:blipFill>
          <a:blip r:embed="rId2"/>
          <a:stretch/>
        </p:blipFill>
        <p:spPr>
          <a:xfrm>
            <a:off x="12600" y="4981680"/>
            <a:ext cx="2730600" cy="1888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8" descr=""/>
          <p:cNvPicPr/>
          <p:nvPr/>
        </p:nvPicPr>
        <p:blipFill>
          <a:blip r:embed="rId3"/>
          <a:stretch/>
        </p:blipFill>
        <p:spPr>
          <a:xfrm>
            <a:off x="6019920" y="4924440"/>
            <a:ext cx="3124080" cy="19018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4" descr=""/>
          <p:cNvPicPr/>
          <p:nvPr/>
        </p:nvPicPr>
        <p:blipFill>
          <a:blip r:embed="rId4"/>
          <a:stretch/>
        </p:blipFill>
        <p:spPr>
          <a:xfrm>
            <a:off x="3276720" y="4959360"/>
            <a:ext cx="2271600" cy="189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"/>
          <p:cNvSpPr/>
          <p:nvPr/>
        </p:nvSpPr>
        <p:spPr>
          <a:xfrm>
            <a:off x="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ahoma"/>
                <a:ea typeface="Tahoma"/>
              </a:rPr>
              <a:t>1. Results: aflasafe effic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152280" y="1447920"/>
          <a:ext cx="8839440" cy="5257800"/>
        </p:xfrm>
        <a:graphic>
          <a:graphicData uri="http://schemas.openxmlformats.org/drawingml/2006/table">
            <a:tbl>
              <a:tblPr/>
              <a:tblGrid>
                <a:gridCol w="1952640"/>
                <a:gridCol w="1704960"/>
                <a:gridCol w="1676520"/>
                <a:gridCol w="1676520"/>
                <a:gridCol w="1828800"/>
              </a:tblGrid>
              <a:tr h="9241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flatoxin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maize samples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groundnut samples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Tr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Contr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Tr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Contr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Range (pp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2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14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ndetec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9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7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4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5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-4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1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3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-1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-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 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1"/>
          <p:cNvSpPr/>
          <p:nvPr/>
        </p:nvSpPr>
        <p:spPr>
          <a:xfrm>
            <a:off x="0" y="83808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2. Aflasafe product value demonstration + Cost benefit analysi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63360" y="1905120"/>
          <a:ext cx="9028080" cy="2797200"/>
        </p:xfrm>
        <a:graphic>
          <a:graphicData uri="http://schemas.openxmlformats.org/drawingml/2006/table">
            <a:tbl>
              <a:tblPr/>
              <a:tblGrid>
                <a:gridCol w="882720"/>
                <a:gridCol w="1536840"/>
                <a:gridCol w="1614240"/>
                <a:gridCol w="1920960"/>
                <a:gridCol w="1613160"/>
                <a:gridCol w="1460160"/>
              </a:tblGrid>
              <a:tr h="549000"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v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istri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l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oundnut fiel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54900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ast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tand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nga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pic>
        <p:nvPicPr>
          <p:cNvPr id="974" name="Picture 8" descr=""/>
          <p:cNvPicPr/>
          <p:nvPr/>
        </p:nvPicPr>
        <p:blipFill>
          <a:blip r:embed="rId2"/>
          <a:stretch/>
        </p:blipFill>
        <p:spPr>
          <a:xfrm>
            <a:off x="3368520" y="4829040"/>
            <a:ext cx="1508400" cy="20034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6" descr=""/>
          <p:cNvPicPr/>
          <p:nvPr/>
        </p:nvPicPr>
        <p:blipFill>
          <a:blip r:embed="rId3"/>
          <a:stretch/>
        </p:blipFill>
        <p:spPr>
          <a:xfrm>
            <a:off x="76320" y="4829040"/>
            <a:ext cx="2373120" cy="20131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C:\Users\mwale\Pictures\2016-04-28\013.jpg"/>
          <p:cNvPicPr/>
          <p:nvPr/>
        </p:nvPicPr>
        <p:blipFill>
          <a:blip r:embed="rId4"/>
          <a:stretch/>
        </p:blipFill>
        <p:spPr>
          <a:xfrm>
            <a:off x="5521320" y="4800600"/>
            <a:ext cx="3614760" cy="207504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"/>
          <p:cNvSpPr/>
          <p:nvPr/>
        </p:nvSpPr>
        <p:spPr>
          <a:xfrm>
            <a:off x="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ahoma"/>
                <a:ea typeface="Tahoma"/>
              </a:rPr>
              <a:t>2.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152280" y="1487520"/>
          <a:ext cx="8915400" cy="3419280"/>
        </p:xfrm>
        <a:graphic>
          <a:graphicData uri="http://schemas.openxmlformats.org/drawingml/2006/table">
            <a:tbl>
              <a:tblPr/>
              <a:tblGrid>
                <a:gridCol w="2362320"/>
                <a:gridCol w="2971800"/>
                <a:gridCol w="3581280"/>
              </a:tblGrid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flatoxin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treated groundnut s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untreated groundnut s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Range (pp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0-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0-1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ndetec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-4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-1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-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 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2" name="Rectangle 4"/>
          <p:cNvSpPr/>
          <p:nvPr/>
        </p:nvSpPr>
        <p:spPr>
          <a:xfrm>
            <a:off x="0" y="5083200"/>
            <a:ext cx="91440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Aflatoxin analysis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on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Cost benefit analysis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Profit+ &amp; Share Africa Zambia  undertaking the assess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Picture 9" descr=""/>
          <p:cNvPicPr/>
          <p:nvPr/>
        </p:nvPicPr>
        <p:blipFill>
          <a:blip r:embed="rId2"/>
          <a:stretch/>
        </p:blipFill>
        <p:spPr>
          <a:xfrm>
            <a:off x="76320" y="4172040"/>
            <a:ext cx="4640040" cy="26096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0" descr=""/>
          <p:cNvPicPr/>
          <p:nvPr/>
        </p:nvPicPr>
        <p:blipFill>
          <a:blip r:embed="rId3"/>
          <a:stretch/>
        </p:blipFill>
        <p:spPr>
          <a:xfrm>
            <a:off x="4888080" y="990720"/>
            <a:ext cx="4206600" cy="4114800"/>
          </a:xfrm>
          <a:prstGeom prst="rect">
            <a:avLst/>
          </a:prstGeom>
          <a:ln w="0">
            <a:noFill/>
          </a:ln>
        </p:spPr>
      </p:pic>
      <p:sp>
        <p:nvSpPr>
          <p:cNvPr id="989" name="Rectangle 15"/>
          <p:cNvSpPr/>
          <p:nvPr/>
        </p:nvSpPr>
        <p:spPr>
          <a:xfrm>
            <a:off x="47520" y="1600200"/>
            <a:ext cx="4695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ZEMA Engagement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Field evaluation of aflasa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: Requirements identifi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14"/>
          <p:cNvGrpSpPr/>
          <p:nvPr/>
        </p:nvGrpSpPr>
        <p:grpSpPr>
          <a:xfrm>
            <a:off x="52560" y="4239720"/>
            <a:ext cx="3276360" cy="2598120"/>
            <a:chOff x="52560" y="4239720"/>
            <a:chExt cx="3276360" cy="2598120"/>
          </a:xfrm>
        </p:grpSpPr>
        <p:pic>
          <p:nvPicPr>
            <p:cNvPr id="995" name="Picture 3" descr=""/>
            <p:cNvPicPr/>
            <p:nvPr/>
          </p:nvPicPr>
          <p:blipFill>
            <a:blip r:embed="rId2"/>
            <a:stretch/>
          </p:blipFill>
          <p:spPr>
            <a:xfrm>
              <a:off x="2562840" y="6115680"/>
              <a:ext cx="76176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Rectangle 5"/>
            <p:cNvSpPr/>
            <p:nvPr/>
          </p:nvSpPr>
          <p:spPr>
            <a:xfrm>
              <a:off x="52560" y="4239720"/>
              <a:ext cx="3276360" cy="255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INSTITUTE FOR SCIENTIFIC AND INDUSTRIAL RESEAR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SIONAL ECOTOXICOGY DOSSIER FOR AFLASAFE ZM01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D AFLASAFE ZM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pared 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nry Njapa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ch 20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Rectangle 12"/>
          <p:cNvSpPr/>
          <p:nvPr/>
        </p:nvSpPr>
        <p:spPr>
          <a:xfrm>
            <a:off x="3886200" y="1471680"/>
            <a:ext cx="5181480" cy="375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Efficacy (min 2 seasons; 2 trials /crop; all A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Produc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Physical and chemical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Mode of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"/>
          <p:cNvSpPr/>
          <p:nvPr/>
        </p:nvSpPr>
        <p:spPr>
          <a:xfrm>
            <a:off x="0" y="1371600"/>
            <a:ext cx="337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Form VIII (Main application 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Form X (Label contents application 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odu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 draft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20"/>
          <p:cNvSpPr/>
          <p:nvPr/>
        </p:nvSpPr>
        <p:spPr>
          <a:xfrm>
            <a:off x="3746520" y="5229360"/>
            <a:ext cx="5626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registration from country of 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Safety data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Consent letter from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cotoxicology Dos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triped Right Arrow 22"/>
          <p:cNvSpPr/>
          <p:nvPr/>
        </p:nvSpPr>
        <p:spPr>
          <a:xfrm>
            <a:off x="2666880" y="3200400"/>
            <a:ext cx="1143000" cy="241200"/>
          </a:xfrm>
          <a:custGeom>
            <a:avLst/>
            <a:gdLst/>
            <a:ahLst/>
            <a:rect l="l" t="t" r="r" b="b"/>
            <a:pathLst>
              <a:path w="1143000" h="241300">
                <a:moveTo>
                  <a:pt x="0" y="60325"/>
                </a:moveTo>
                <a:lnTo>
                  <a:pt x="7541" y="60325"/>
                </a:lnTo>
                <a:lnTo>
                  <a:pt x="7541" y="180975"/>
                </a:lnTo>
                <a:lnTo>
                  <a:pt x="0" y="180975"/>
                </a:lnTo>
                <a:lnTo>
                  <a:pt x="0" y="60325"/>
                </a:lnTo>
                <a:close/>
                <a:moveTo>
                  <a:pt x="15081" y="60325"/>
                </a:moveTo>
                <a:lnTo>
                  <a:pt x="30163" y="60325"/>
                </a:lnTo>
                <a:lnTo>
                  <a:pt x="30163" y="180975"/>
                </a:lnTo>
                <a:lnTo>
                  <a:pt x="15081" y="180975"/>
                </a:lnTo>
                <a:lnTo>
                  <a:pt x="15081" y="60325"/>
                </a:lnTo>
                <a:close/>
                <a:moveTo>
                  <a:pt x="37703" y="60325"/>
                </a:moveTo>
                <a:lnTo>
                  <a:pt x="1022350" y="60325"/>
                </a:lnTo>
                <a:lnTo>
                  <a:pt x="1022350" y="0"/>
                </a:lnTo>
                <a:lnTo>
                  <a:pt x="1143000" y="120650"/>
                </a:lnTo>
                <a:lnTo>
                  <a:pt x="1022350" y="241300"/>
                </a:lnTo>
                <a:lnTo>
                  <a:pt x="1022350" y="180975"/>
                </a:lnTo>
                <a:lnTo>
                  <a:pt x="37703" y="180975"/>
                </a:lnTo>
                <a:lnTo>
                  <a:pt x="37703" y="60325"/>
                </a:lnTo>
                <a:close/>
              </a:path>
            </a:pathLst>
          </a:custGeom>
          <a:solidFill>
            <a:srgbClr val="7f7f7f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8:38:10Z</dcterms:created>
  <dc:creator>CRaphael</dc:creator>
  <dc:description/>
  <dc:language>en-US</dc:language>
  <cp:lastModifiedBy>Odhong, Jonathan (IITA)</cp:lastModifiedBy>
  <dcterms:modified xsi:type="dcterms:W3CDTF">2016-09-14T08:33:21Z</dcterms:modified>
  <cp:revision>687</cp:revision>
  <dc:subject/>
  <dc:title>Slide 1</dc:title>
</cp:coreProperties>
</file>