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5D62-BA90-436E-BA77-87A20404F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5C9A-4A48-43C3-9C43-DE3AFCAA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718D-0A36-49C9-AF3B-3B91211C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2272-9E30-427F-A0B4-84FBC558D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08BA-8D9D-4B84-B207-F78FDF070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9F161-384A-47FE-88BE-AC242E10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7E56-95CB-4623-81AC-EC94EAD3F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0E89-F3B7-43DB-8B26-800C80EF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BCEE-71E5-4C14-9AAA-314ACAA6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480D-EAB2-4C72-9E28-BC72EC3D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33EF5-AA19-4A18-969B-20392D16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CD26-0C68-4511-A291-11AF832B5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ACE5-18CB-4594-BF43-C3A88E6C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22407-A1C9-40B3-8A03-B126CFB79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5B38-D5CA-4744-999F-30274ECB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9E13-42EE-40A6-B7DE-B77871CD2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FD6A-4A33-42F6-AC5C-33BA8907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5677-8A5D-47FC-B41A-50D8B07B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24CF-67DF-4DAE-BBC4-233FAB8D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AB9F-E1F0-4B07-8157-A49BA854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DCD-1C87-420B-85E0-5746BFFE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AE56-2B53-46D1-BCA7-9CD803DF1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39D-E7AE-4885-ADD2-4B2F1475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771D-1373-4DB4-B572-58CE8E4D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6C99-6688-4105-95C3-79CAB57DC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539A-1862-4702-A2E7-1EAF307AE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5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nstruction of 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iagnosis/technolog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setting monitoring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evaluation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evaluation design (e.g., reduced sample size with better information on vari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deling on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use, presentation, modeling (IFPRI to prov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 &amp; other analytical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s for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roles and respon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209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TA, IL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143000" y="4648320"/>
            <a:ext cx="6858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llects which data when for which purposes and where are they enter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of Presentation (and the Pla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rica RISING objectives, activities, 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(and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use, presentation,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 ro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 to M&amp;E vision,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E Plan integ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indicator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447920" y="4114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ole is crit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agricultural systems through 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tensification: producing more (agricultural) output from same area of land, wh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ntributions to natural capital and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is &amp; design of technology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farm &amp; on-station trials of new combinations of exist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and/or value chain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d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-based farming systems - Sudano-Sahelian zone of West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p-livestock systems - Ethiopian high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ze-legume-livestock systems - Eastern &amp;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2209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ontributions to natural capital &amp;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66680" y="6019920"/>
            <a:ext cx="6629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ost important questions to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questions, including at which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method for each, including demonstration of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uantitative evaluations includes powe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quired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data collection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analysis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5T18:54:10Z</dcterms:modified>
  <cp:revision>156</cp:revision>
  <dc:subject/>
  <dc:title>PowerPoint Presentation</dc:title>
</cp:coreProperties>
</file>