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342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0A8B-8220-4479-B882-A6F9A2CCE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ECDB-A381-48C2-9EF1-4ADA039EC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3FFF-14CB-4D96-AD2E-766322E76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4F0D-C24B-4F6D-AA05-BC3DBED2B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DB182-6D11-4A33-AF12-E96F0624C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EC429-3EDA-4AEB-9055-88DB2695B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4A476-BA73-4C98-96B2-BEBA6DABA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FB879-4D39-46A7-8D50-26B7A0353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7F82F-95DB-45F4-9176-739D9F4DE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3C09B-E0D2-41E3-83AA-88C0CC577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94B15-6899-4890-8944-F0ABE27A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F75B-586C-4E10-9E0D-9B8B8476B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26201-FC22-4261-B0C8-2E5334C3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ECF5B-5018-4671-BEC5-F4CAD3E40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60194-C9C4-4F3F-B1C0-70BE288CB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EEFE4-EC9D-4FF0-964D-2A5E13E8F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FE66A-9E01-48C7-BE2D-29CBA820A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26BA-7B60-44E4-966C-E939B706D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2D0B-3A20-4340-B62B-C303956A9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2A6B-1613-4501-AE1F-E1F69BF6D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92CD-95D2-4711-9406-B62D23144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F0DA-4BA0-45CC-943D-2CE3C7FA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3956-D44A-4700-A22C-6252E22B6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296F-20FC-4507-B930-A01485BF6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B80B5-CA6F-49BF-B189-76953C64AB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0" y="1066680"/>
            <a:ext cx="9144000" cy="152640"/>
          </a:xfrm>
          <a:prstGeom prst="rect">
            <a:avLst/>
          </a:prstGeom>
          <a:solidFill>
            <a:srgbClr val="c21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1"/>
          <p:cNvSpPr/>
          <p:nvPr/>
        </p:nvSpPr>
        <p:spPr>
          <a:xfrm>
            <a:off x="0" y="1219320"/>
            <a:ext cx="152280" cy="5638680"/>
          </a:xfrm>
          <a:prstGeom prst="rect">
            <a:avLst/>
          </a:prstGeom>
          <a:solidFill>
            <a:srgbClr val="002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20" descr=""/>
          <p:cNvPicPr/>
          <p:nvPr/>
        </p:nvPicPr>
        <p:blipFill>
          <a:blip r:embed="rId2"/>
          <a:srcRect l="0" t="0" r="63470" b="0"/>
          <a:stretch/>
        </p:blipFill>
        <p:spPr>
          <a:xfrm>
            <a:off x="227160" y="228600"/>
            <a:ext cx="2422440" cy="68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152280" y="1752480"/>
            <a:ext cx="8991720" cy="5105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1752480"/>
            <a:ext cx="9144000" cy="152640"/>
          </a:xfrm>
          <a:prstGeom prst="rect">
            <a:avLst/>
          </a:prstGeom>
          <a:solidFill>
            <a:srgbClr val="c21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0" y="1905120"/>
            <a:ext cx="152280" cy="4952880"/>
          </a:xfrm>
          <a:prstGeom prst="rect">
            <a:avLst/>
          </a:prstGeom>
          <a:solidFill>
            <a:srgbClr val="002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2" descr=""/>
          <p:cNvPicPr/>
          <p:nvPr/>
        </p:nvPicPr>
        <p:blipFill>
          <a:blip r:embed="rId2"/>
          <a:srcRect l="0" t="0" r="63466" b="0"/>
          <a:stretch/>
        </p:blipFill>
        <p:spPr>
          <a:xfrm>
            <a:off x="455760" y="455760"/>
            <a:ext cx="3004920" cy="8492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EB740-9B6D-4927-9DE1-557854BD9B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2362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&amp;E Plan for Africa RIS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1371600" y="4114800"/>
            <a:ext cx="64008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ry E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and Evaluation Expert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tember 5,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s Aba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ata colle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nstruction of development dom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site se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diagnosis/technology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line for setting monitoring tar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line for evaluation (if need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for evaluation design (e.g., reduced sample size with better information on varian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modeling on scaling up &amp;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ata use, presentation, modeling (IFPRI to provid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22096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ch data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S &amp; other analytical frame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ions for scaling up &amp;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&amp;E roles and responsibilit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2209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P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TA, IL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"/>
          <p:cNvSpPr/>
          <p:nvPr/>
        </p:nvSpPr>
        <p:spPr>
          <a:xfrm>
            <a:off x="1143000" y="4648320"/>
            <a:ext cx="685800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collects which data when for which purposes and where are they entered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ine of Presentation (and the Pla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frica RISING objectives, activities, expecte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aluation (and Learn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a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a use, presentation,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les and responsi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y ro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ibute to M&amp;E vision,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&amp;E Plan integ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TF indicators and rep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"/>
          <p:cNvSpPr/>
          <p:nvPr/>
        </p:nvSpPr>
        <p:spPr>
          <a:xfrm>
            <a:off x="1447920" y="4114800"/>
            <a:ext cx="5715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role is critica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frica RISING objective, activities, expected resul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440" y="22093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orm agricultural systems through sustainable intens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tainable intensification: producing more (agricultural) output from same area of land, whi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ing negative environmental imp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ing contributions to natural capital and flow of environmental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frica RISING objective, activities, expected resul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440" y="22093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ation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agnosis &amp; design of technology combin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-farm &amp; on-station trials of new combinations of existing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ional and/or value chain improv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s and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eal-based farming systems - Sudano-Sahelian zone of West 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p-livestock systems - Ethiopian highl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ze-legume-livestock systems - Eastern &amp; Southern 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frica RISING objective, activities, expected resul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440" y="2209680"/>
            <a:ext cx="7924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ed key, direct results of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tainable higher pro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d negative environmental imp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contributions to natural capital &amp; flow of environmental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alue chain conduct and performance improved? / Improved market efficiency? / Improved extension effectivene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other results possible: labor use, WUE, poverty, hun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s the “what” of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ful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 -  to see if project is on t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ing – to inform client &amp; other stakeholders of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ID F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s useful to AR for monitoring or evaluation or b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440" y="19051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lps understand “how” &amp; “why” of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termines &amp; attributes imp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Qualitative and/or quantit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m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tes (different leve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dom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usehold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chnologies &amp; combi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lementatio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"/>
          <p:cNvSpPr/>
          <p:nvPr/>
        </p:nvSpPr>
        <p:spPr>
          <a:xfrm>
            <a:off x="1066680" y="6019920"/>
            <a:ext cx="6629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most important questions to answ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800" y="2209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on questions, including at which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on method for each, including demonstration of fea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quantitative evaluations includes power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required for 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for data collection for 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for analysis for 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20:07:42Z</dcterms:created>
  <dc:creator>Design Studio</dc:creator>
  <dc:description/>
  <dc:language>en-US</dc:language>
  <cp:lastModifiedBy>Gary Ender</cp:lastModifiedBy>
  <cp:lastPrinted>2004-09-30T16:41:33Z</cp:lastPrinted>
  <dcterms:modified xsi:type="dcterms:W3CDTF">2012-09-05T18:54:10Z</dcterms:modified>
  <cp:revision>156</cp:revision>
  <dc:subject/>
  <dc:title>PowerPoint Presentation</dc:title>
</cp:coreProperties>
</file>