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4AE7-5EBE-41D7-87CA-B5EEAA8690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AE79-2A38-4C5F-BAEB-13E22EA629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36D58-3D19-43A8-8BD7-524655E3B77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92EE-0B2C-437B-AB6C-325CD1B1A9A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4AB8-7E2C-4CDB-868A-CB532B773B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C2C69-62FA-42F6-8FAF-9D805281A3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F0BF-7787-406E-90C2-FA8B236E68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DB38-3904-4760-82C0-04AC5450440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7A47C-9419-4CA8-8176-E19CC0C303E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C498-90B5-4F06-9948-A972918615E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39DCF-AB1F-4D89-9093-F1B7F0F71E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A1394-0ACE-4226-9A19-06421BDB55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67BB-5F43-4C0D-B5A2-C93A2F802C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4CC7-9222-4280-9F84-C85FB39BCC2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21F9-AF5B-4F61-9868-19A6FD128F5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T 6, Bab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tional co-operation and co-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es, challenges and lessons learned 2013-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Placeholder 2"/>
          <p:cNvSpPr/>
          <p:nvPr/>
        </p:nvSpPr>
        <p:spPr>
          <a:xfrm>
            <a:off x="595440" y="38862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writesh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SM, June 30 – July 2,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Babati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 platform research activities and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2421000"/>
          <a:ext cx="7772400" cy="2936880"/>
        </p:xfrm>
        <a:graphic>
          <a:graphicData uri="http://schemas.openxmlformats.org/drawingml/2006/table">
            <a:tbl>
              <a:tblPr/>
              <a:tblGrid>
                <a:gridCol w="1090440"/>
                <a:gridCol w="1400400"/>
                <a:gridCol w="52815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/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May – Sept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 and Kongwa/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analysis R4D Babati, establishment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M JUMBA, MC work plan 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form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BA in BDC; Evaluation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ward level platfo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trategic level Research for Development Platform (JUMBA) established as an integrated part of Babati District Council annual budget and activity pl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aluation of JUM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keholder inventory and analysis completed as a preparation for establishment of six ward level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Other socio-economic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85640" y="2006640"/>
          <a:ext cx="8407440" cy="4479840"/>
        </p:xfrm>
        <a:graphic>
          <a:graphicData uri="http://schemas.openxmlformats.org/drawingml/2006/table">
            <a:tbl>
              <a:tblPr/>
              <a:tblGrid>
                <a:gridCol w="1179720"/>
                <a:gridCol w="1371600"/>
                <a:gridCol w="5856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gtsson and Klerfelt (2014):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al Intensification and Livelihood Strategies of Female Farmers in Babati District, Tanzania. University of Gothenb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c (iAgri)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work MSc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ozi, S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 and Effectiveness of Approaches for Adoption and Scaling of Integrated Systems Innovations among Smallholder Farmers in Babati, Tanzan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Egerton Univers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ka, M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of ISFM Technology Adoption on Household Poverty in Tanzania: A Case of Smallholder Maize and Pigeon-pea Farmers in Babati Distri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Makerere Un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50Z</dcterms:modified>
  <cp:revision>87</cp:revision>
  <dc:subject/>
  <dc:title>Slide 1</dc:title>
</cp:coreProperties>
</file>