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DF5-DBFD-4BD1-8AF9-0B6E7935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11D9-022D-43A9-887E-74E8B1D9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963-A1C5-416C-B42E-CA21FA68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BCE-0679-40A8-AC53-1D37A821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59BA-D23E-4856-ABDD-1665CC83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37D-05F5-424D-ABA1-CC534BB7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AD8D-D786-4D96-8006-3A0D50D0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C3B-1CC4-4BBA-BA12-22790FAE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E017-4577-49F8-A22A-FF7D8AF7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769-205C-4332-93A7-06B2EE17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682-66D4-431B-8500-E7A21E7A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2BBD-BBDB-4B37-AF99-69CD77E7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3BBF-3035-4955-9EF0-4F5EBC14C30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0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\\nas\DATA\MMU\1Publishing_service\50YEARS_Anniversary\50YEARS_logos\IITA TAA White Big.png"/>
          <p:cNvPicPr/>
          <p:nvPr/>
        </p:nvPicPr>
        <p:blipFill>
          <a:blip r:embed="rId2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1600200" y="3348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152280" y="642960"/>
            <a:ext cx="8839440" cy="59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INTEGRATING NUTRITION INTO VALUE CHAINS B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nual Review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Calibri"/>
              </a:rPr>
              <a:t>Agriculture Produc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9 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920"/>
            <a:ext cx="7010640" cy="4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B-ACTIVITY2:1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533520"/>
          <a:ext cx="8763120" cy="6124320"/>
        </p:xfrm>
        <a:graphic>
          <a:graphicData uri="http://schemas.openxmlformats.org/drawingml/2006/table">
            <a:tbl>
              <a:tblPr/>
              <a:tblGrid>
                <a:gridCol w="5867280"/>
                <a:gridCol w="2895840"/>
              </a:tblGrid>
              <a:tr h="110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 Enabling farmers’ access to improved inputs (seed and inoculum) and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 DADO/Input Suppliers/IITA/AgrD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1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ication and screening of existing farmer group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2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entation sessions for farmer groups on the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 / DADO/INVC BA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3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ing quantities of seed of different crops/varieties 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 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ing Farmer Organiz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10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4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ing and Distribution of seed (agreeing on the payment modaliti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915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B ACTIVITY 2:4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280" y="685800"/>
          <a:ext cx="8363160" cy="5159520"/>
        </p:xfrm>
        <a:graphic>
          <a:graphicData uri="http://schemas.openxmlformats.org/drawingml/2006/table">
            <a:tbl>
              <a:tblPr/>
              <a:tblGrid>
                <a:gridCol w="6172200"/>
                <a:gridCol w="2190960"/>
              </a:tblGrid>
              <a:tr h="86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2.1  Irrigation and water management technologies and practi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289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ation of irrigable cit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290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itization meetings and identification of farmer gro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1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3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staff and farmers on optional irrigation technologies and water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23760"/>
            <a:ext cx="754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UB ACTIVITY 2:3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685800"/>
          <a:ext cx="8286840" cy="5867280"/>
        </p:xfrm>
        <a:graphic>
          <a:graphicData uri="http://schemas.openxmlformats.org/drawingml/2006/table">
            <a:tbl>
              <a:tblPr/>
              <a:tblGrid>
                <a:gridCol w="5791320"/>
                <a:gridCol w="2495520"/>
              </a:tblGrid>
              <a:tr h="1676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3. Post harvest management (Utilization and storage loss reduc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469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1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of field staff and lead farmers on food processing and utiliz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71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2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on optional post harvest handling techniques and minimum stand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3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tion and monitoring of optional post harvest handling techniques and minimum stand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991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TIVITY 2:2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533520"/>
          <a:ext cx="8763120" cy="5970600"/>
        </p:xfrm>
        <a:graphic>
          <a:graphicData uri="http://schemas.openxmlformats.org/drawingml/2006/table">
            <a:tbl>
              <a:tblPr/>
              <a:tblGrid>
                <a:gridCol w="6048360"/>
                <a:gridCol w="2714760"/>
              </a:tblGrid>
              <a:tr h="862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4.  Provision of  extension services to farmer group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1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farmers on Pre-planting activities and monitoring implementation of these activ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2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emonstration of improved technologies (including identification of plots to mount dem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22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3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farmers on GAP (agronomic practices, postharvest practices, utilization, processing and marketing with emphasis on aflatoxin control and reducing storage loss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4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, technology uptake, germination, crop development and incidences of pests and dise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2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5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6 Harvest and postharvest hand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138240"/>
            <a:ext cx="788688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 rot="1893600">
            <a:off x="-252000" y="2801160"/>
            <a:ext cx="9231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 FOR LISTERN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Chisanga, Genschers (IITA)</cp:lastModifiedBy>
  <cp:lastPrinted>2017-06-28T09:09:24Z</cp:lastPrinted>
  <dcterms:modified xsi:type="dcterms:W3CDTF">2017-06-30T07:16:03Z</dcterms:modified>
  <cp:revision>196</cp:revision>
  <dc:subject/>
  <dc:title>Slide 1</dc:title>
</cp:coreProperties>
</file>