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3FE-EA22-4361-A6FD-A4451B9F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99FA-3872-4E00-B381-698B96F2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E5E-7560-4D24-8445-D77F4578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EB14-D16B-48B1-9292-937160C9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1E72-E658-4101-9AED-69C7CA4B0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768-A699-44C2-AB5B-5E2A808B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8795-19F1-4792-BD1D-AF190A88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2DA-2D7C-4C55-A35A-1BED1745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2C1D-7CCE-4B8F-AB92-A9DA170A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0E9F-8E67-4988-BE9C-BC9BA8C7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0E09-4D24-4B3E-8138-DC86AD52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A263-081B-4A88-AEA2-C22FA025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0C7F3-48F4-44D4-8750-2D2811397B8E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0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2" descr="\\nas\DATA\MMU\1Publishing_service\50YEARS_Anniversary\50YEARS_logos\IITA TAA White Big.png"/>
          <p:cNvPicPr/>
          <p:nvPr/>
        </p:nvPicPr>
        <p:blipFill>
          <a:blip r:embed="rId2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itle 1"/>
          <p:cNvSpPr/>
          <p:nvPr/>
        </p:nvSpPr>
        <p:spPr>
          <a:xfrm>
            <a:off x="1600200" y="33480"/>
            <a:ext cx="739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ntent Placeholder 2"/>
          <p:cNvSpPr/>
          <p:nvPr/>
        </p:nvSpPr>
        <p:spPr>
          <a:xfrm>
            <a:off x="152280" y="642960"/>
            <a:ext cx="8839440" cy="59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INTEGRATING NUTRITION INTO VALUE CHAINS B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nual Review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f0"/>
                </a:solidFill>
                <a:latin typeface="Calibri"/>
              </a:rPr>
              <a:t>Agriculture Producti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9 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7920"/>
            <a:ext cx="7010640" cy="44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-ACTIVITY2:1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8600" y="533520"/>
          <a:ext cx="8763120" cy="6124320"/>
        </p:xfrm>
        <a:graphic>
          <a:graphicData uri="http://schemas.openxmlformats.org/drawingml/2006/table">
            <a:tbl>
              <a:tblPr/>
              <a:tblGrid>
                <a:gridCol w="5867280"/>
                <a:gridCol w="2895840"/>
              </a:tblGrid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 Enabling farmers’ access to improved inputs (seed and inoculum) and servic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 DADO/Input Suppliers/IITA/AgrDi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1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cation and screening of existing farmer group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2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ientation sessions for farmer groups on the 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 / DADO/INVC BA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3 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rmining quantities of seed of different crops/varieties requir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 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7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4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ing Farmer Organiz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1.4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ing and Distribution of seed (agreeing on the payment modaliti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69152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B ACTIVITY 2:4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280" y="685800"/>
          <a:ext cx="8363160" cy="5159520"/>
        </p:xfrm>
        <a:graphic>
          <a:graphicData uri="http://schemas.openxmlformats.org/drawingml/2006/table">
            <a:tbl>
              <a:tblPr/>
              <a:tblGrid>
                <a:gridCol w="6172200"/>
                <a:gridCol w="2190960"/>
              </a:tblGrid>
              <a:tr h="863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2.1  Irrigation and water management technologies and practi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289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1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cation of irrigable cit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290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sitization meetings and identification of farmer grou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716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2.3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staff and farmers on optional irrigation technologies and water manag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560" y="23760"/>
            <a:ext cx="75438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UB ACTIVITY 2:3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8600" y="685800"/>
          <a:ext cx="8286840" cy="5867280"/>
        </p:xfrm>
        <a:graphic>
          <a:graphicData uri="http://schemas.openxmlformats.org/drawingml/2006/table">
            <a:tbl>
              <a:tblPr/>
              <a:tblGrid>
                <a:gridCol w="5791320"/>
                <a:gridCol w="2495520"/>
              </a:tblGrid>
              <a:tr h="16765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3. Post harvest management (Utilization and storage loss reductio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46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1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of field staff and lead farmers on food processing and utiliza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1471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2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on optional post harvest handling techniques and minimum 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3.3 </a:t>
                      </a: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lementation and monitoring of optional post harvest handling techniques and minimum standar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991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TIVITY 2:2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8600" y="533520"/>
          <a:ext cx="8763120" cy="5970600"/>
        </p:xfrm>
        <a:graphic>
          <a:graphicData uri="http://schemas.openxmlformats.org/drawingml/2006/table">
            <a:tbl>
              <a:tblPr/>
              <a:tblGrid>
                <a:gridCol w="6048360"/>
                <a:gridCol w="2714760"/>
              </a:tblGrid>
              <a:tr h="862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2.4.  Provision of  extension services to farmer group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1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farmers on Pre-planting activities and monitoring implementation of these activiti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2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Demonstration of improved technologies (including identification of plots to mount dem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22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3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 farmers on GAP (agronomic practices, postharvest practices, utilization, processing and marketing with emphasis on aflatoxin control and reducing storage loss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SST/DADO/INVC/IPs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4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ing, technology uptake, germination, crop development and incidences of pests and disea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/AgriD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482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1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5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PS/DADO/INVC 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</a:t>
                      </a: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y 2.4.6 Harvest and postharvest handl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138240"/>
            <a:ext cx="788688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 rot="1893600">
            <a:off x="-252000" y="2801160"/>
            <a:ext cx="92311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THANK YOU FOR LISTERNING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Chisanga, Genschers (IITA)</cp:lastModifiedBy>
  <cp:lastPrinted>2017-06-28T09:09:24Z</cp:lastPrinted>
  <dcterms:modified xsi:type="dcterms:W3CDTF">2017-06-30T07:16:03Z</dcterms:modified>
  <cp:revision>196</cp:revision>
  <dc:subject/>
  <dc:title>Slide 1</dc:title>
</cp:coreProperties>
</file>