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F23-CDC0-4CD9-88E6-65762B9A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CB1-1524-4CED-87F4-E8456D17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C5C-AD58-42A0-A9E7-35D0A776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6C2-E6AD-4EDC-A7AB-3AC5810D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399-A59D-48F0-BD24-4426E644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0EF-CD26-4CBF-9B30-5EC16A37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C05-063B-4D5A-A51C-9A8440A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095-C01F-4F11-967C-3179A0A9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3B8-3D10-4E15-AE85-8DDADB69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CF4-E344-4582-A568-23C58B9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8DC-8B06-41CE-A777-9F2A7AB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EBA-ADB3-442C-9B76-517F9F4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BDBA-F0A1-489B-AF64-306E0CC7B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1278000" y="722160"/>
            <a:ext cx="6494400" cy="1640160"/>
          </a:xfrm>
          <a:prstGeom prst="rect">
            <a:avLst/>
          </a:prstGeom>
          <a:solidFill>
            <a:srgbClr val="416f4c"/>
          </a:solidFill>
          <a:ln w="38160">
            <a:solidFill>
              <a:srgbClr val="f4a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000" bIns="90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25720"/>
                <a:tab algn="l" pos="7651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ICRAF’S  AFRICA RIS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Subtitle 2"/>
          <p:cNvGrpSpPr/>
          <p:nvPr/>
        </p:nvGrpSpPr>
        <p:grpSpPr>
          <a:xfrm>
            <a:off x="1871640" y="2919240"/>
            <a:ext cx="6010200" cy="1781280"/>
            <a:chOff x="1871640" y="2919240"/>
            <a:chExt cx="6010200" cy="1781280"/>
          </a:xfrm>
        </p:grpSpPr>
        <p:pic>
          <p:nvPicPr>
            <p:cNvPr id="55" name="Subtitle 2" descr=""/>
            <p:cNvPicPr/>
            <p:nvPr/>
          </p:nvPicPr>
          <p:blipFill>
            <a:blip r:embed="rId2"/>
            <a:stretch/>
          </p:blipFill>
          <p:spPr>
            <a:xfrm>
              <a:off x="1871640" y="2919240"/>
              <a:ext cx="6010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81080" y="3029040"/>
              <a:ext cx="5791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Njoloma J. , Mulwafu A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ICRAF Southern Africa Programm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MALAW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048120" y="2125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065240" y="782640"/>
            <a:ext cx="6324480" cy="65556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6f4c"/>
                </a:solidFill>
                <a:latin typeface="Calibri"/>
                <a:ea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57200" y="1600200"/>
            <a:ext cx="74674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y flag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ies potential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t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143000" y="1371600"/>
            <a:ext cx="699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ntral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dza in Linthipe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levation of about 1200 mas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nual rainfall is 700-11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chnology flag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3000" y="1371600"/>
            <a:ext cx="699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 (year one of 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</a:rPr>
              <a:t>Various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Ma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Grain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warf and climbing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Pigeon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ephro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 (year one of fee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eaf fodder feeding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airy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191120" y="2705040"/>
            <a:ext cx="4419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ologies potential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3000" y="13716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iversified far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maiz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ncreased milk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nefic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13716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22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(19 females and 3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90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(38 males and 52 fe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3000" y="137160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rain farmers on biomass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Support farmers with inputs in year 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Train farmers on fodder util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support farmers with inpu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16Z</dcterms:created>
  <dc:creator>Bruce Sosola</dc:creator>
  <dc:description/>
  <dc:language>en-US</dc:language>
  <cp:lastModifiedBy>JNjoloma</cp:lastModifiedBy>
  <dcterms:modified xsi:type="dcterms:W3CDTF">2015-07-14T08:58:28Z</dcterms:modified>
  <cp:revision>79</cp:revision>
  <dc:subject/>
  <dc:title>ICRAF Contribution to Conservation Agriculture Development in Malawi</dc:title>
</cp:coreProperties>
</file>