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BBDA8-5A15-4D7D-94F2-A163406EF1E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3F24-2975-4264-A9D5-AC546589438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97A7-2C37-47C5-A42C-748BE85D81AA}"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0DC5AF-66C0-4A21-9DAF-BE0029B70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11252B-8116-4DB2-8C4E-B7060B0368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BD54C-FE5F-4A0A-9958-4AE7706544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D1AF8-6998-4548-9B70-97CA7F207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884E61-097A-4B4F-B225-300ED879D5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216C1-AC28-4B1D-A757-AD92508154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DAF5DE-37A3-4F42-99B0-6BD61B63B7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F279D-1041-4CE1-9525-3D9092CA4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62154-AAF5-4C1B-9B93-5D772EFB67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D5AACE-CDAD-4FC4-9ED5-DED0AAB22F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E6E57-D32F-44AD-AFAB-AC4E71604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C957A-B35C-489A-B858-401F2C59D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23A256-62DB-41AD-8339-889B6661B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4D25F-758E-491F-B884-4361EE22A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061E88-E5F8-4C10-A14A-1549540D7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289298-3727-4987-A1F9-170C86D891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B7CE4F-A71B-47F3-9C98-493EC2708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31B8809-1F4D-441C-B672-1FE3EE3D59B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61CF7D2-89FE-46E2-BD7A-668FF36111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423B38E-66D4-488E-8134-AF4CDB6F32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77BEA1-BBB1-4AD3-8088-3FC384F184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B3683DB-0A3F-4CEC-93D9-1A278CFB4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32C87-EEB4-4CCE-9B4B-293953E34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6471EE-2F8E-4B41-A0A8-346E1D22C4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482841A-726A-4E80-9A9F-D2D8C9B0C0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C8D452-5AF3-4CCC-AF4A-0E548FD8DC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C2FBAA-4818-4B0F-A8B8-7C104B913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94A6B2D-E3FC-484F-B542-FD5DCC643E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32FB6D74-796E-4C40-BD94-383F06F62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B693928-7841-4FBF-B4D1-6E52EF5ABA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8694AB-FE16-4B12-A3FD-F78D997391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CCCA40B-9EF2-4E76-8EFA-D5525A756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A8BB75F-46BA-4861-945D-ED431A5089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A97CC1-54A8-40E5-ABEF-228C941B2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100DE1D-3D32-431C-9F25-6D43335D76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C59785-EF2B-4428-8059-5B183E34C1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C4B502E-DC38-4676-886C-78A1AC1D21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7F46F58-341E-41AC-8826-6905DBE4B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B0948B5-8D44-427A-AA4A-C71174497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FA64584-DFA0-4707-BD93-6990A31D5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4E69C6-7FD8-420C-8CD7-120B91F9CF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451D78A-D674-48DE-AB4F-146D8886DE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98CEBF3-6CF6-479F-B13E-F56FBD3A5E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0C155D7-B1D4-440B-A3BC-FFD58FCA308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2C5DF-20DA-40FB-BE6A-69868FC3A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A226210-5FBF-40A5-B880-E64D219803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0A78966-F607-44D6-884D-CAEDFB27E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F42C404-74AE-4DF3-9042-EA3811B08A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514EE71-5985-468E-B6D0-056A2373E4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5F512CF-C6F9-4468-BFE1-1A560B1A46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438873C-A2DA-4DA3-87BF-B0A082A209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2C29B37-CA4F-49EA-8A5A-B0A9C22CE0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544312-F4B4-4810-9361-98A54DB36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D18400-E2D2-4FC5-8935-92BB7FCC88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61F3BCF-C3C7-4551-A66A-766A691DAB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9337E2-BC46-49DF-8266-CFD7159FF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803D593-8960-487A-9D38-0C96B5934F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F00471-D4F1-4A4E-82E6-4EC06F15AE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BE08C7-4562-445B-8BA4-BA5053D9E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8E1092-E71C-4DBF-83CE-C7A84D1D3B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7BEDB9-8FB7-4F9E-9301-011DE9434B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BCDE49-AC1E-491B-ABCF-7F73C9662C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9CB2C0-3DE6-4FA5-876F-E35DA577B7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73A1A4-3902-48CC-863C-BFD7BCCB7C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11145-64FF-4584-81D5-0A2C38487B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74394-DCC3-483C-A1E8-D41C17969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74B10-9114-4C80-8BE4-437CFA53EA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9FCD97-168B-4E17-A313-AAA211C272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429D76-3350-4414-B65D-2502D242F44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EB86AD-6964-44DC-8C55-5BB097A2EE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E9110B65-5274-49E0-A57D-60A96C6BD7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6C2EF51-1D54-4330-B595-C6CBE92A4A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503E9B2-4142-4B97-8C1C-1B0222019C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EF6A9C8-A2B9-4526-BD38-8CD8388B2F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5E2CB40-7881-4FEA-90A9-E1BF73CACA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AA3B49D-B957-41EB-84BE-5960FD156C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0A2B592-AF1B-4BF5-8682-63C6C7A839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BC1AD-9C15-4647-86FB-529298ACE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35D8A65-EB3D-426D-AF41-4A8B6DD795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9F67A9-220E-4ABD-A56A-50682FE80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80297FC-5BD6-4C97-AC26-020374B8C0F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59F9D184-5ACE-48FD-A115-E6631979E5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30B84A0-3F9C-4B0F-B81E-03964A379E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0E58CA-F04D-4E2C-9FC0-F4BCE2E390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C0500B-EB75-46F3-8DB5-03B21542EF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97C965-35CA-4377-8D63-3A2BE45AD5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FCD28-2810-488B-8F57-2670F0A95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A577CF6-1C89-42C0-94F5-248C18A101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736FD-68CD-4CB0-B80E-B4792B9BA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321C3D8-CA5E-48CE-ADA1-A7653D9E2E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2FA3E5-B776-42DF-A3BA-84605C4AE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12841B-1ED8-404B-B349-4BD31B52EE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E75AC-F162-4327-8573-7E7316DDD2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6C1005-ADA1-4495-873D-E196682F87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9AD6240-DAED-4F00-B0D0-1C22F0FEAF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4D289F5-3A09-46B7-9B29-96A01BA90BE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57306-CF25-4EE3-AD39-9C2E6F4DB582}"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174FF-A20E-422C-BC18-361CE17CA4E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318BE-67D6-410A-ADD4-71BC6FF022A2}" type="datetime">
              <a:rPr b="0" lang="en-US" sz="2000" spc="-1" strike="noStrike">
                <a:solidFill>
                  <a:srgbClr val="ffffff"/>
                </a:solidFill>
                <a:latin typeface="Times New Roman"/>
              </a:rPr>
              <a:t>07/28/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B789F-5A27-4632-85EF-66A58F97500C}"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5DCF-743D-42CC-9429-B7D7CDD0A9C7}"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6FC85-2129-4FE4-991E-52C0BF9FD091}"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BB9B-D44B-4E8B-B953-1AC8993CE42E}"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015B6-6E5C-4CB7-AFB8-7ED408C2DFA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9128C-D421-4B9B-81C4-FE497A5161B7}"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71B5-ECB8-481B-BB96-077F2B41350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1B9E8-E66F-4ECA-9194-3F622588A5C6}"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C4FD7-CB28-487D-9A9C-AA10DB0D65D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24CD-98C1-4293-93E6-90D97CC516AD}"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6ABA2-6439-4F45-A752-E40E1CB00228}"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47206-E3AE-41AD-BD3B-D0D9A2B2C7DD}"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53338-0674-4286-97B4-9A4708DA06D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DB20-55E6-4552-8E8D-72C553AC54C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BCB9-59EC-430D-B49F-70DF396A750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6B991-F727-4CD4-9677-A099D1C530C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