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0F3B-CED5-4A17-BF45-820C3D7E285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7C5E-F797-4BC5-B82A-6ECFEE4424E2}"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AB73-7735-4815-9802-ACBB2801146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75C09-64F0-485A-B5B8-4D2E5425E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09F8-92B1-414D-9E98-DAC1503D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7DBCE-BD4E-4D1D-A744-94D3F7E15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47119-145C-43E2-9CD6-39AE40D3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E6E5B-C14B-4F68-8559-302D2DC80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CBF97-4179-47D3-9980-D419C22F5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30324-CA18-41CF-B4FD-BBCFCF2A4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89EBB-754B-472D-A1D1-CB0FB505C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9E77B-D74B-45B7-B7DE-9B5817417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9018F-0DA6-4364-BA9C-F05726543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A44B5-C19C-496B-BB68-3545FEF9E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7704-33B7-4644-8478-8AECC0F4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93B31-7F5C-430E-817B-1E82709E9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6FD54-96BC-4393-9842-855DDB913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BE5AE-F6AA-46AD-ADDB-CFF30111F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4E8E4-533C-4922-96CA-96EDD27FB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7D876-6764-497F-9501-EA730838F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5F2281-3548-40CF-8A6E-2564372590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2D2AA4-8926-4C28-99B3-F053E2680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8EBD72-E373-41D9-BF0F-40911E207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DF9EF4-809F-4428-AC92-241FAA118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C5FB9C-312E-413B-BC7B-D6E17F4B3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DB26D-F402-44C4-AA20-C8FD3301E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1A3FBF-5EF2-4DAC-A163-7B4B77CA4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6113B6-9A08-47BB-A642-D865EA285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B5392D-F1FC-4379-AE88-867596C6F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13C1B8-D6FB-4F2D-AF1A-F10A1269A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136F26-6FAD-41F2-9346-65F0DFC3F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033B19-B015-40EB-A608-0330DCA56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2F87463-6D82-4B10-9078-16546B0B18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6D9709-0E51-47D4-8E12-581D4A68F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0ECFA6-AB7F-4142-9D83-2596ADA8A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416361-EDBA-46BF-8E4C-D57611973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72997-A303-4CB7-818F-2441FA26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D3672E-49D9-43F4-9FAA-7B4268026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52F7AC-61A5-4C3F-9989-0A270D446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E2DE7B-D13F-4D8D-8270-CED7ED060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44BED3-DD67-4AA7-8FE8-7B0D8476F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D5119C-057E-4E42-9A82-32D4A0858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CE876C-348C-42A6-84D1-23C5F3518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764F190-BDC3-4BD5-93E5-58EFCB6799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350FA44-2CEC-4E5C-9717-60C400B50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040D44-E073-4DC2-93D7-13176A4E4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98FF95-C830-4FBB-8A2C-F95F3E6333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73702-77FA-43B7-8F50-D13765399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5229B9-C7AA-4E96-905D-25CA5C312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E39593-6631-4872-A9B2-CA32B8064A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E25E4E-401C-4213-AACF-82CDB2A22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3CD4CC-C35E-4E01-8721-9A2581447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C90680-2998-4A4A-A89B-2B82D01F3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83D921-7E5B-4F95-837C-1A460D9CC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067722-085F-4DAB-B5DE-ED0F1079F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F92E22-63D2-4910-8A01-E5C0F7E3C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D7B0B9-AA9E-45F4-BA3E-74A6EE3F08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74E9ACF-57F8-46C8-B8D5-6408779CBC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756B7-D2BA-4A40-B222-B675F3252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B5D227D-1A74-4070-87D0-81CA88B13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2F35E4-32C8-40D9-85CC-A89891652C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9EB32-3794-4B55-A9AE-3E67D8BD0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FFA56-04D2-463B-AA18-B03242D9FE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05D42-042B-49AF-B5E2-2D69F6D77C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44C8D7-3047-4192-B097-3917EE733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92891-08C2-49CA-8467-6581777E2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A26FA-7C61-4210-88B5-9E0A13677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CE893-5624-4B45-A185-12FD8D0C5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DCA74-F9D4-4504-8AD6-2ABC6727B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29C35-7FFA-4F60-BDA5-E2B9C9749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493DF-1239-4C2E-9BF7-1020F9796E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3E97B0-BFD0-4CF6-94B3-E2D0902C58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EDA1A5-4F53-41F2-9CF6-B5135B723A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3D45D74-78E9-4A9C-83A7-4F6C42AFB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E775C49-7E14-4B2A-B8FE-6B4C10A265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154AEA-2B0C-4FD2-BD7D-DAC2AE9977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6041CE-352F-47F9-B662-CB7637FC8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A08C0D-183F-4E85-A7CF-8CCA6F281B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25E2DB-9B83-4E84-9436-C972E0918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95EDFF-BF1C-4540-83E1-FF8589EA3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EFF03-BCFF-45C2-B77B-88D092D3E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48F460-3AC9-41F9-95EC-10C399727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46E67A-5FC9-4F07-B6C0-45B9FC44C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F69799-7FEF-45B9-9F01-07B244787D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D7C7BE6-C874-4F96-83CE-063CD8A808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D0F4156-7EEC-4F4F-B315-7A3C4FF8F6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14CF36-D788-4621-B728-F44FA7C726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1AB97-145C-4C15-8863-A01F63AE1D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33BE6-0FA9-4534-9942-E60B59281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7A2C51-84BA-48DA-AB9B-A32B1F0B85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27F48-3C97-4D34-8956-1C9162A8C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35DA-2C42-4442-A4E5-76E6C32ED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C755D-B6B6-44D0-9E02-5C0E96B946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76CB8-8E2C-4DDC-8EA5-C41E96E69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0B2EF-3527-4C23-BD8C-C288FDAA1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ED264-37E2-4669-804C-5268D921B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1F8E1-626D-4B11-9996-DE4788F8E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60127B-7834-467B-BD01-FCE9B8A6EB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D3AAEA-5916-45A2-97A0-4DC99C0A662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F84B-8041-4C42-AA3F-DAEFDDC4CF39}"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6744-BA48-4340-9F94-E3F004F5AF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F61D-974E-48D0-9E46-2072078B90E6}" type="datetime">
              <a:rPr b="0" lang="en-US" sz="2000" spc="-1" strike="noStrike">
                <a:solidFill>
                  <a:srgbClr val="ffffff"/>
                </a:solidFill>
                <a:latin typeface="Times New Roman"/>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87DC-F29C-45FB-9C85-9D01A1AD8ED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3E15-2757-438E-B063-C0FFFEEF9761}"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E346-7078-47A8-A533-1E6DD61B17E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A0D2-840C-43E1-BB8D-4305B6723311}"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FEE8-D6F9-4A03-8BF7-B598349C49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582B-9F08-47E3-BAD8-4F1AFAA207BD}"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D4B2-205F-46BC-9C3C-BF66C4920C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B4BE-710E-42AA-A8B1-226F1A7786B3}"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6C3F-0058-4416-891C-8AE577EA9A9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57CA-DE4F-4834-8A7C-771779427982}"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D403-AA02-4DE6-A389-959EE6148E0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F348-FBE5-4DCC-9DD3-615E472E99A8}"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44DC-2769-4E7C-B273-211E4B3E7D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F390-D7C2-4202-B8DC-907F923DB3C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C46E-2D69-4FF7-AF57-B20FA73B7EB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E122-D992-4CB7-9FB0-6E155A0C5E0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