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D6CE-9390-4E24-9106-90445F92F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7EA7-CA13-413B-9342-30BE3BBC6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1BF0-A3B5-4D22-BA5C-918DFD94ECA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E6FA-B740-4E18-A8EA-C5BA6BE0B8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A6F6-6CCC-4234-841B-88107C4A5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5239D-BBF5-49B8-9FE1-08F2381708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E5D6-237F-4192-8906-E656A4DB97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769D-9A94-4782-859F-FCDFB96389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2CCB-676A-4235-A4EB-3152EAA73C1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D706-A473-42BC-862C-D895B95C42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8891-6B94-477D-8CEA-297348BBFD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D323-DC91-404E-9A9B-C938704847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EA5C-117C-4973-8185-AFBFA28277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E190-A2AA-4D75-A6B8-2DCC13F360E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D588-599D-4097-8224-775F08C518D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4560" y="1412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bati Distric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earch–for–Development (R4D) Platfo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8000" y="3068280"/>
            <a:ext cx="5158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Jukwaa la Utafiti kwa Maendeleo Wilaya ya Babati (JUMB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" y="411480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Review and Planning Meeting, Mangoch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uly 14-16,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r Hillb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Diagram 3" descr=""/>
          <p:cNvPicPr/>
          <p:nvPr/>
        </p:nvPicPr>
        <p:blipFill>
          <a:blip r:embed="rId1"/>
          <a:stretch/>
        </p:blipFill>
        <p:spPr>
          <a:xfrm>
            <a:off x="1523880" y="1390680"/>
            <a:ext cx="6791400" cy="4930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3780000" y="2568600"/>
            <a:ext cx="2062080" cy="2168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"/>
          <p:cNvPicPr/>
          <p:nvPr/>
        </p:nvPicPr>
        <p:blipFill>
          <a:blip r:embed="rId3"/>
          <a:stretch/>
        </p:blipFill>
        <p:spPr>
          <a:xfrm>
            <a:off x="4869000" y="299736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"/>
          <p:cNvPicPr/>
          <p:nvPr/>
        </p:nvPicPr>
        <p:blipFill>
          <a:blip r:embed="rId4"/>
          <a:stretch/>
        </p:blipFill>
        <p:spPr>
          <a:xfrm>
            <a:off x="5011560" y="335772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"/>
          <p:cNvPicPr/>
          <p:nvPr/>
        </p:nvPicPr>
        <p:blipFill>
          <a:blip r:embed="rId5"/>
          <a:stretch/>
        </p:blipFill>
        <p:spPr>
          <a:xfrm>
            <a:off x="4216320" y="387360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"/>
          <p:cNvPicPr/>
          <p:nvPr/>
        </p:nvPicPr>
        <p:blipFill>
          <a:blip r:embed="rId6"/>
          <a:stretch/>
        </p:blipFill>
        <p:spPr>
          <a:xfrm>
            <a:off x="4437000" y="391176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"/>
          <p:cNvPicPr/>
          <p:nvPr/>
        </p:nvPicPr>
        <p:blipFill>
          <a:blip r:embed="rId7"/>
          <a:stretch/>
        </p:blipFill>
        <p:spPr>
          <a:xfrm>
            <a:off x="4356000" y="4130640"/>
            <a:ext cx="182520" cy="184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"/>
          <p:cNvPicPr/>
          <p:nvPr/>
        </p:nvPicPr>
        <p:blipFill>
          <a:blip r:embed="rId8"/>
          <a:stretch/>
        </p:blipFill>
        <p:spPr>
          <a:xfrm>
            <a:off x="5364000" y="4086360"/>
            <a:ext cx="182880" cy="1839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324000" y="177336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nov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Diagram 3" descr=""/>
          <p:cNvPicPr/>
          <p:nvPr/>
        </p:nvPicPr>
        <p:blipFill>
          <a:blip r:embed="rId1"/>
          <a:stretch/>
        </p:blipFill>
        <p:spPr>
          <a:xfrm>
            <a:off x="1474920" y="1487520"/>
            <a:ext cx="6913440" cy="48211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"/>
          <p:cNvSpPr/>
          <p:nvPr/>
        </p:nvSpPr>
        <p:spPr>
          <a:xfrm>
            <a:off x="250920" y="184464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nabling system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Annual General Meeting, Oct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constitution, leadership, research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anagement retreat, Jan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Work plan 2015-16, communication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Progress in 2014-20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RELIABLE MARKET FOR AGRICULTURAL PRODUCTS FROM BAB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ENABLING ENVIRONMENT FOR EFFICIENT PRODUCTION OF AGRICULTURAL PRODUCTS (LIVESTOCK AND CROP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ACITY BUILDING OF JUM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ING  PLATFORM  CAPAC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RACT YOUTH TO FARMING AS A BUSINESS THROUGH PROVISION OF FEASIBLE INCEN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trainers in farming as a bus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ext + farmers in PHM (scal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formation on farmer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value addition in proc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Develop market strategies for prize stab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proper land use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Activities (examp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044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of ext on GAP (scal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apacity building on QDS maize production (3 wa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Sensitization on artificial insemination (6 wa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Grassroot level platforms in 6 w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ommunication and promotion of JUMBA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Annual meetings for evaluation, reflection and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for 20 youth in chicken and vegetable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links between youth and credit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Activities (cont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Degree of formalization (bureaucrac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Strategic in character – not yet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ion and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Buy-in from NGOs and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onnect to existing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Go to ward/villag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ind balance with research coordination/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Monitoring and  evaluation of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Reflection and challeng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Per Hillbur</cp:lastModifiedBy>
  <cp:lastPrinted>2011-10-06T11:45:23Z</cp:lastPrinted>
  <dcterms:modified xsi:type="dcterms:W3CDTF">2015-07-14T05:38:04Z</dcterms:modified>
  <cp:revision>37</cp:revision>
  <dc:subject/>
  <dc:title>Slide 1</dc:title>
</cp:coreProperties>
</file>