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14.png" ContentType="image/png"/>
  <Override PartName="/ppt/media/image10.png" ContentType="image/png"/>
  <Override PartName="/ppt/media/image6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ftr" idx="7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FA0B-B3C2-42A5-BB28-ABFDBF9577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9C89-9F6E-4A9E-8BA8-8D71A6AC10A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- Meeting Notes (19/04/2013 10:35) -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op modelling of N and P respo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alysis of the data we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assess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itability with a temporal dim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9B8C-0B4B-4558-876B-83527E3190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E3114-2EEC-4AD6-97E3-13F4FDC18E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84721-3D0E-40EA-9923-83C15FA759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C71FE-8219-4386-B378-3BF3E44156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70A6-ED08-4003-A46E-E3E6667D34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123A1-AB9E-4C2C-979A-F536560140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E1EFE-A614-4DB2-9D0C-C0BB21409AF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24536-AADC-4449-8850-DF87D2C3E3E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4E01-4B4A-4562-9A4C-E48EB3AD303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5B692-03DE-4C5F-A921-93C65B718B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EF5D4-2A53-4E5B-920F-958BF17D89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D319-801B-4709-941A-8D81A8D1CF7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1868D-E94C-48B5-B945-10FA51F745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E5F36-DBA8-4E98-8242-A596B143F7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9A094-2AD9-4981-BF9C-DBDFD74D5C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953B-4DC5-43E4-AA6B-45103BB685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E0C60-822E-4CBC-A550-602B17AF89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A83E5-BA49-47B3-BD13-397E2CE600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C7C2-E3EE-4CDD-8B2A-90BE6B47DE9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150A2-31EF-4343-8E40-1587C485DD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A41F-628C-4F51-8936-D8B27857CE2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DFC7-38A1-41C7-984D-8F4C4F7B29A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1AE40-4269-4E42-839E-6198F4145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A13072-5771-443F-88AB-7CDBDC17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27DC9-2341-4F04-A3A2-28A77F009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6556CC-BBC0-4D73-BEC0-1D7A3F80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07D23-DA1E-4FA8-BFE7-25EA5FC1E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2897F-3283-41CD-8918-CC9187CF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101D-EDE4-44BA-871A-AF14B0FB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A3875E-5256-444C-8FD9-6E63817B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EABFE-31C0-498F-A413-E1E129B7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8190F-944D-400C-8887-147378EE39B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E0938C-0C49-455A-A077-37B1D6D1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24C83-F6D0-412A-BEDC-4CF818EA4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5E988-4B9E-4CF5-B0BC-2447437C6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91FC1-15B4-41E8-9CB1-580AE7EA8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AAA5-2173-40B6-87C8-81C07E8B4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08DD-57F5-49AF-BCCF-140F7C0C723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8E98-DF3C-4E5A-AB25-213B0CB931BA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3"/>
          <a:stretch/>
        </p:blipFill>
        <p:spPr>
          <a:xfrm>
            <a:off x="0" y="-76320"/>
            <a:ext cx="9144000" cy="120492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5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CA73-2672-4A82-ACFD-D13A2BD1250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520" y="1523520"/>
            <a:ext cx="85345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10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b050"/>
                </a:solidFill>
                <a:latin typeface="Calibri"/>
              </a:rPr>
              <a:t>From skeptism to realism: unlocking productivity potential under small holder farmers in Babati, Northern Tanzan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600200" y="3809880"/>
            <a:ext cx="5562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Kihara J., Kizito F., Lyimo S.D., Yangole L., Songoyani I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2" descr="C:\Users\user\Desktop\6719132809_d02a581715_s.jpg"/>
          <p:cNvPicPr/>
          <p:nvPr/>
        </p:nvPicPr>
        <p:blipFill>
          <a:blip r:embed="rId2"/>
          <a:stretch/>
        </p:blipFill>
        <p:spPr>
          <a:xfrm>
            <a:off x="0" y="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3716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 perceptions of soil condition relate well with observed produ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soil and water conservation is hig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obtain yield improvements that pay off fertilizer and associated added costs of the improved practi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of some components such as beans still very l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2124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ilure to use specific components of IP is explained and suggestions made, including mechanization suppo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151920" y="1905120"/>
            <a:ext cx="8991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use of fertilizers and poor agr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ivity low below potential for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ze pigeonpea intercropping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 crop performance with good agronomic practices under farmer conditions and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derstand farmer perceptions of production environments and Improved practice of maize/pigeonpea p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earcher controlled trials of fertilizer respo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ilored agronomic surveys with farmers using fertilizers in different seasons (3 target practic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mproved pract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armers pract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71212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 (like IP but no fertiliz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7121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articipatory technology assessments at villag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05320" cy="2628720"/>
          </a:xfrm>
          <a:prstGeom prst="rect">
            <a:avLst/>
          </a:prstGeom>
          <a:ln w="0">
            <a:noFill/>
          </a:ln>
        </p:spPr>
      </p:pic>
      <p:sp>
        <p:nvSpPr>
          <p:cNvPr id="250" name="Slide Number Placeholder 4"/>
          <p:cNvSpPr/>
          <p:nvPr/>
        </p:nvSpPr>
        <p:spPr>
          <a:xfrm>
            <a:off x="8610480" y="6400800"/>
            <a:ext cx="609840" cy="396720"/>
          </a:xfrm>
          <a:prstGeom prst="bracketPair">
            <a:avLst>
              <a:gd name="adj" fmla="val 1794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78D6-2A88-4711-BC96-7A3610CE38F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152280" y="685800"/>
            <a:ext cx="5527800" cy="4014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5257800" y="1143000"/>
            <a:ext cx="3692520" cy="3165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2"/>
          <p:cNvSpPr/>
          <p:nvPr/>
        </p:nvSpPr>
        <p:spPr>
          <a:xfrm>
            <a:off x="6225120" y="106668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erage for ~60 tri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armer x season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Straight Arrow Connector 4"/>
          <p:cNvCxnSpPr/>
          <p:nvPr/>
        </p:nvCxnSpPr>
        <p:spPr>
          <a:xfrm flipV="1">
            <a:off x="762120" y="2590200"/>
            <a:ext cx="358200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56" name="TextBox 7"/>
          <p:cNvSpPr/>
          <p:nvPr/>
        </p:nvSpPr>
        <p:spPr>
          <a:xfrm>
            <a:off x="380880" y="487692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priate plant dens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rtile so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ximity to home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requent manure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574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ottomland fiel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urce: Kihara et al 20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eft Brace 9"/>
          <p:cNvSpPr/>
          <p:nvPr/>
        </p:nvSpPr>
        <p:spPr>
          <a:xfrm>
            <a:off x="1981080" y="5299200"/>
            <a:ext cx="152640" cy="129996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 h 1299960"/>
              <a:gd name="textAreaBottom" fmla="*/ 1296000 h 129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5400" y="10800"/>
                  <a:pt x="0" y="10800"/>
                </a:cubicBezTo>
                <a:cubicBezTo>
                  <a:pt x="54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ight Brace 10"/>
          <p:cNvSpPr/>
          <p:nvPr/>
        </p:nvSpPr>
        <p:spPr>
          <a:xfrm>
            <a:off x="4419720" y="5257800"/>
            <a:ext cx="304560" cy="1341360"/>
          </a:xfrm>
          <a:custGeom>
            <a:avLst/>
            <a:gdLst>
              <a:gd name="textAreaLeft" fmla="*/ 0 w 304560"/>
              <a:gd name="textAreaRight" fmla="*/ 109800 w 304560"/>
              <a:gd name="textAreaTop" fmla="*/ 7920 h 1341360"/>
              <a:gd name="textAreaBottom" fmla="*/ 1333440 h 134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5"/>
                  <a:pt x="10800" y="409"/>
                </a:cubicBezTo>
                <a:lnTo>
                  <a:pt x="10800" y="10391"/>
                </a:lnTo>
                <a:cubicBezTo>
                  <a:pt x="10800" y="10596"/>
                  <a:pt x="16200" y="10800"/>
                  <a:pt x="21600" y="10800"/>
                </a:cubicBezTo>
                <a:cubicBezTo>
                  <a:pt x="16200" y="10800"/>
                  <a:pt x="10800" y="11005"/>
                  <a:pt x="10800" y="11209"/>
                </a:cubicBezTo>
                <a:lnTo>
                  <a:pt x="10800" y="21191"/>
                </a:lnTo>
                <a:cubicBezTo>
                  <a:pt x="10800" y="2139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f0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5"/>
          <p:cNvSpPr/>
          <p:nvPr/>
        </p:nvSpPr>
        <p:spPr>
          <a:xfrm>
            <a:off x="3472560" y="107784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7 farmer fie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rvey 201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8" descr=""/>
          <p:cNvPicPr/>
          <p:nvPr/>
        </p:nvPicPr>
        <p:blipFill>
          <a:blip r:embed="rId1"/>
          <a:stretch/>
        </p:blipFill>
        <p:spPr>
          <a:xfrm>
            <a:off x="2773440" y="2925720"/>
            <a:ext cx="6294240" cy="3780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2" descr=""/>
          <p:cNvPicPr/>
          <p:nvPr/>
        </p:nvPicPr>
        <p:blipFill>
          <a:blip r:embed="rId2"/>
          <a:stretch/>
        </p:blipFill>
        <p:spPr>
          <a:xfrm>
            <a:off x="139680" y="1143000"/>
            <a:ext cx="5651640" cy="33987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13"/>
          <p:cNvSpPr/>
          <p:nvPr/>
        </p:nvSpPr>
        <p:spPr>
          <a:xfrm>
            <a:off x="2182680" y="1446120"/>
            <a:ext cx="310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ields from 76 farmer fields in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3"/>
          <a:stretch/>
        </p:blipFill>
        <p:spPr>
          <a:xfrm>
            <a:off x="55440" y="1206360"/>
            <a:ext cx="5542200" cy="3335400"/>
          </a:xfrm>
          <a:prstGeom prst="rect">
            <a:avLst/>
          </a:prstGeom>
          <a:ln w="0">
            <a:noFill/>
          </a:ln>
        </p:spPr>
      </p:pic>
      <p:sp>
        <p:nvSpPr>
          <p:cNvPr id="264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Where we started. Where are we going?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Straight Arrow Connector 6"/>
          <p:cNvCxnSpPr/>
          <p:nvPr/>
        </p:nvCxnSpPr>
        <p:spPr>
          <a:xfrm flipV="1">
            <a:off x="1294920" y="2513880"/>
            <a:ext cx="3582360" cy="88956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cxnSp>
        <p:nvCxnSpPr>
          <p:cNvPr id="266" name="Straight Arrow Connector 9"/>
          <p:cNvCxnSpPr/>
          <p:nvPr/>
        </p:nvCxnSpPr>
        <p:spPr>
          <a:xfrm flipV="1">
            <a:off x="3733920" y="3962160"/>
            <a:ext cx="4496400" cy="1753200"/>
          </a:xfrm>
          <a:prstGeom prst="straightConnector1">
            <a:avLst/>
          </a:prstGeom>
          <a:ln w="73080">
            <a:solidFill>
              <a:srgbClr val="f07c03"/>
            </a:solidFill>
            <a:miter/>
            <a:tailEnd len="med" type="triangle" w="med"/>
          </a:ln>
        </p:spPr>
      </p:cxnSp>
      <p:sp>
        <p:nvSpPr>
          <p:cNvPr id="267" name="TextBox 14"/>
          <p:cNvSpPr/>
          <p:nvPr/>
        </p:nvSpPr>
        <p:spPr>
          <a:xfrm>
            <a:off x="1015920" y="1274760"/>
            <a:ext cx="93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6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6" descr=""/>
          <p:cNvPicPr/>
          <p:nvPr/>
        </p:nvPicPr>
        <p:blipFill>
          <a:blip r:embed="rId4"/>
          <a:stretch/>
        </p:blipFill>
        <p:spPr>
          <a:xfrm>
            <a:off x="5867280" y="1041480"/>
            <a:ext cx="2900520" cy="246852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7"/>
          <p:cNvSpPr/>
          <p:nvPr/>
        </p:nvSpPr>
        <p:spPr>
          <a:xfrm>
            <a:off x="5791320" y="351000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3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8"/>
          <p:cNvSpPr/>
          <p:nvPr/>
        </p:nvSpPr>
        <p:spPr>
          <a:xfrm>
            <a:off x="6435720" y="950760"/>
            <a:ext cx="955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4 average of 27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19" descr=""/>
          <p:cNvPicPr/>
          <p:nvPr/>
        </p:nvPicPr>
        <p:blipFill>
          <a:blip r:embed="rId5"/>
          <a:stretch/>
        </p:blipFill>
        <p:spPr>
          <a:xfrm>
            <a:off x="0" y="4643280"/>
            <a:ext cx="2898720" cy="16304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ertilizer use by farme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57200" y="1839960"/>
          <a:ext cx="7924680" cy="3341520"/>
        </p:xfrm>
        <a:graphic>
          <a:graphicData uri="http://schemas.openxmlformats.org/drawingml/2006/table">
            <a:tbl>
              <a:tblPr/>
              <a:tblGrid>
                <a:gridCol w="1828800"/>
                <a:gridCol w="1447920"/>
                <a:gridCol w="1371600"/>
                <a:gridCol w="1523880"/>
                <a:gridCol w="175248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ill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pons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aken 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bi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48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o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74" name=""/>
          <p:cNvSpPr txBox="1"/>
          <p:nvPr/>
        </p:nvSpPr>
        <p:spPr>
          <a:xfrm>
            <a:off x="419040" y="51051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high numbers refused to use fertilizers in 20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mand for fertilizers is rapidly rising among farm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4" descr=""/>
          <p:cNvPicPr/>
          <p:nvPr/>
        </p:nvPicPr>
        <p:blipFill>
          <a:blip r:embed="rId1"/>
          <a:stretch/>
        </p:blipFill>
        <p:spPr>
          <a:xfrm>
            <a:off x="61920" y="1805040"/>
            <a:ext cx="9082080" cy="4452840"/>
          </a:xfrm>
          <a:prstGeom prst="rect">
            <a:avLst/>
          </a:prstGeom>
          <a:ln w="0">
            <a:noFill/>
          </a:ln>
        </p:spPr>
      </p:pic>
      <p:sp>
        <p:nvSpPr>
          <p:cNvPr id="276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s with fertilizers across vill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5" descr=""/>
          <p:cNvPicPr/>
          <p:nvPr/>
        </p:nvPicPr>
        <p:blipFill>
          <a:blip r:embed="rId1"/>
          <a:stretch/>
        </p:blipFill>
        <p:spPr>
          <a:xfrm>
            <a:off x="272880" y="1447920"/>
            <a:ext cx="8642520" cy="514800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3"/>
          <p:cNvSpPr/>
          <p:nvPr/>
        </p:nvSpPr>
        <p:spPr>
          <a:xfrm>
            <a:off x="0" y="3333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3926"/>
                </a:solidFill>
                <a:latin typeface="Calibri"/>
              </a:rPr>
              <a:t>Yield change due to improved pract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Landscapes and farmer awarenes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625720" y="1600200"/>
            <a:ext cx="3289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ers perceive erosion and indicate willingness to address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04920" y="1890720"/>
            <a:ext cx="5321160" cy="37479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11:33:49Z</dcterms:created>
  <dc:creator>LeBorgne, Ewen (ILRI)</dc:creator>
  <dc:description/>
  <dc:language>en-US</dc:language>
  <cp:lastModifiedBy>Kihara Job</cp:lastModifiedBy>
  <cp:lastPrinted>2011-10-06T11:45:23Z</cp:lastPrinted>
  <dcterms:modified xsi:type="dcterms:W3CDTF">2016-06-30T08:25:04Z</dcterms:modified>
  <cp:revision>151</cp:revision>
  <dc:subject/>
  <dc:title>PowerPoint Presentation</dc:title>
</cp:coreProperties>
</file>