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wmf" ContentType="image/x-wmf"/>
  <Override PartName="/ppt/media/image15.png" ContentType="image/pn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3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3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C360-41C8-4165-98AD-547459D7B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F43A-04D0-4660-B498-BFA7F41D4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6B3E-0E7D-4259-A054-3939F6850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F26E-7FA1-4539-9A12-D3AC02120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8150-AABA-45B5-BD19-874F4BD4F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F9BE18-68F0-4F79-BF8A-F94BA338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D6D3E4-5353-4BA8-9EC9-237F02F9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0319F9-2DD5-4CB0-B6B3-869D9C4E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13AE7E-FC5A-4752-A157-E4BF0EF9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1B7A9C-B887-4032-B7C3-8F80BB95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F64F24-F341-4E46-AD3F-F2239290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62DF11-29CD-44B6-AB94-D85D24D8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EE6CA3-1D58-4BB9-B466-D9D3E3BE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6B2FE2-7055-405E-A88E-65B85E1A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1DD6D4-E915-488A-A7C0-3977974A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C7255-57E2-444F-AC0D-3A2FAAB0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2895B-6EF8-4AAB-9B0A-E8DBDD3D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98B88B-BC35-464A-BE7F-4DE30071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727CE-5F67-4BA8-AEA0-77DA2644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23B87-5711-42BE-9E06-F7D3B66E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2D64F-217B-4A8D-A10A-5A67BD16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CBEA31-F677-4227-8308-4A9608D5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04F05-6386-43EE-8898-97F8B1C8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6B61D-2E9B-4146-A5DF-5070CC25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4485F8-E685-4CA7-BAD2-672AD3D0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69524-0F7D-4FEC-9005-5A9AB797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64F8CE-39AB-49A2-AC63-FCC497FE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683812-C910-49BB-A36D-763A8E87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7EB9F2-0138-40EF-AB89-298DFE6E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33D864-5247-4B9D-AAFD-05A4F25F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CC42B3-7541-473D-BD66-9ED83CB0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C5ACCA-2D54-4202-ABF2-E87D1657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87FD97-AD1A-410D-8FEC-BD867D44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3D88BC-CC6C-49F8-8DE5-32214064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FC2D58-551A-432B-AC62-0A577B5E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AF777-A7BD-4CBD-99F2-C1FF433F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41C7DB-D329-4755-9490-26F70DB8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3B1990-63BE-488E-A450-CCBB030E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DEFE61-40EE-4122-9DC9-330715AF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FA37FC-4C37-49BE-A098-813626AE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28435D-723C-4801-BEA2-0DD5854D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2B8885-9BC4-4373-8207-1B140ABB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69D89F-C70F-4AF1-997D-755315E4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F87BA6-72D9-4423-AB7B-E0A9A047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7D8165-B7EF-4D62-A0C5-1EAECB2B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2015BF-83B3-48C8-9142-AF457D95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5E0F7-428B-46C9-B4D2-EFAEBF53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66B04C-33CA-4B38-B400-61527182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8A39A5-BCB0-444F-A1DB-3AE69DE7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B964A5-3D2B-4ADF-92FB-3FD2BCCD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20121F-A7C3-42C6-A6D6-F39D7130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BE473C-1D56-4DC3-8C76-1F88A672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B08CD-086D-409A-9933-44022066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88486-BD06-4185-B2BD-BF7C8678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E2F4B-C212-4675-A50B-15F88898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E0F14-96F7-48F4-BBAD-F96004A8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41183-CD5E-4D66-B288-FFB3A293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1ECB2-2853-4EAD-A7BB-018F70DE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A57FE-819A-4DEF-B641-6B280389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77620-28D2-40E0-BABC-E9B61DF2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C6A5F-04DF-44BD-9F0F-BEF11236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AE6DB-9595-46B4-B22E-444C4E88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D0259-8ADB-4331-A7DC-74F5C786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3CA432-2D52-4D1B-8E51-6A0DF637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66214-AAC4-4822-AAAE-21939343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F5511-D24C-452B-AD37-90BB138B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3C594-FF2F-424D-96DC-9BB72AA4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B72D7-224C-41E2-A95E-7FE02A18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A0F10-E31A-4DDC-8E3E-0C949EB2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4155D-7B86-42FD-BAE6-523FB71C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F7533-FE4D-4EA2-91FB-7FF24143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881E3-6405-4993-AD9B-0B2CB881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4C3FC-EDF7-4ABC-9033-9E6BD517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DA49E-960F-458F-98A3-5B9FED5C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DA30B0-EECA-47A2-B8CA-31288FA8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2D0D90-B1A1-484D-B54B-6F20012D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3B2AEE-2A1E-4D4F-AA6A-88EC5C81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5EBCF-70D8-438F-A553-F301FD42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FA835C-929C-4B33-922D-20333FC9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6B4AFA-FE51-426E-B0A8-BE5C300A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FDA77A-EB1B-4757-B3C8-EFB49BB3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CBEA8B-F4E5-4493-8DDA-994242A0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52B87B-400B-4B8C-AA6A-C7B007AE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89DD14-8251-425C-B5A3-3BAD6458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15EDAC-2691-4EB7-BA7E-28998F2A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135B6-FC35-4BA8-B47B-33894A3C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EC715E-93BE-4D5B-8E17-29FC3578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EFC52-15C3-4ADB-B61D-3B337147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794C0-CD01-49AB-B311-64538A2B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43D14D-2704-4501-945E-95013114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FF7DA-333A-4E22-A7F9-24CEAEEA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CB0A3-A964-473A-8B7A-4F2B859D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B456E-F9B6-4BEC-8D78-B7B8BB47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A1EB11-7245-4112-82C4-C8363A7F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2220E4-B908-4875-988C-D3D71029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6FCA36-3F80-40FF-A44B-9C89841B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5A4C7-7295-4DB5-9F7E-E4F4A308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A174B-67FB-45BD-AE76-5E2F1575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AFCD3-3738-42AD-9FBD-2AC6E2D7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0B1589-C616-4B66-9487-E856DBC6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67526C-598A-4B6B-828D-80B18496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0DFC90-3659-4DC8-9AB9-C3742082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4C31EE-4BF5-41D9-8F09-F37CF3D1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75FE75-6BA4-44D0-8F3D-892068F1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5FF56C-7EEF-4DC0-A47C-21B3D7B2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678C3D-F410-478B-AB00-DF51779B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58BD36-F05E-40E5-8D0F-005EC234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50EC5-0B77-43D8-A1F1-E74CE1BA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9334A-2EEE-46F2-99D2-18FB2B74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A65937-754D-469E-B0EB-31275565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E23437-8058-467C-9039-6A8C4F82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366BBE-34D6-4641-8B89-FAE1E859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5D3AC6-C6E2-4E2D-A14B-352ACBBF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400126-E2CB-4C35-AAE6-3E79813D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CC53A0-9F08-4B95-B9D7-D45EBF17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EF20FD-D22C-48C6-8601-1D1F786D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75F230-B246-42F7-8F76-2B7800B7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8FE44A-6174-48C4-B486-68EC64A4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AFE9D9-1525-4486-A6AE-F1E8AA87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D8297B-8F3B-438D-B21F-BB66F1D3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6B9357-23A1-45E9-B58E-F59964D4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84EE98-2FA0-4EAA-B126-5DD1443D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2F6063-4F78-4CA1-A0A2-55ECDD53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335EBE-F18C-41F1-90E6-EFFED508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7A0079-A002-425D-8384-D03C5C22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EAF8FB-8510-410E-9FBC-A335FDF6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B35E4F-9590-494F-8A8D-FBFE78D2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A4DC8E-6E4C-4DC4-923D-22DB6380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197A0F-5CB5-476C-996A-5EBDE87D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5E6F55-640F-4643-9337-40F53D7D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DCDAB5-1D88-4B4A-B094-9B3685AE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79CDA5-8133-4884-BDC3-5DA7BA89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4F4F21-F37A-4673-91F7-7BE23544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D6F990-B42C-4F11-B64F-FB74F252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F7D0EA-62A9-4D94-9174-823626CC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76F16F-630A-4448-82D5-89ECA10A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8C70D0-B553-443C-AED3-32F74086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BE7D-C6FE-45E2-8855-28DDD74B3C5D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9F27-D0E5-4F0D-8C4B-395704F44F4B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B514-24ED-4FF9-AFA8-64E0D81B25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2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3AD5-4461-4516-B275-F97BAFCF1621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2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AE0D-3284-42D3-8EAA-55157B5246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1D88-05DB-4B46-9278-1886386BD1E6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3610-DB1F-493B-B1E8-7F3DE64F99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94E8-BB55-45F6-965D-AE28B9383176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1E98-7C28-4455-A5B2-AE76CC5A9D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0745-79D9-490E-880A-73DF7097124D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B770-CEA5-4035-AF6B-10AE507CD4DF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E32F-1328-4347-9A1B-A371ADEB81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2CB4-501B-4AEC-A2D1-4A21BBE66B90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4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84F0-D017-4417-AEF9-131A136C1F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A80A-90C9-4F21-9C96-1EC15C1F078B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B86D-F8B3-4449-B393-9B33E05CA3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52B6-BC2E-4F5B-81CF-9150FCBCFCD1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F882-9C0D-498E-81FF-2A6AE9840E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C50F-C3DE-4E8C-AE0A-7A7D34BAB555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3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B913-AB0A-45B1-A35D-00FC79A82F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C977-0F3A-4D5E-987F-D6DED0157A86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6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31CC-A5B3-466D-B20D-1FD0B087BC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905120"/>
            <a:ext cx="754380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3232"/>
                </a:solidFill>
                <a:latin typeface="Cambria"/>
              </a:rPr>
              <a:t>Year 1 Overview</a:t>
            </a:r>
            <a:endParaRPr b="0" lang="en-US" sz="48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I. Hoeschle-Zeledon</a:t>
            </a:r>
            <a:br>
              <a:rPr sz="2400"/>
            </a:b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Africa RISING East/Southern Africa Coo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ubtitle 2"/>
          <p:cNvSpPr/>
          <p:nvPr/>
        </p:nvSpPr>
        <p:spPr>
          <a:xfrm>
            <a:off x="3048120" y="1143000"/>
            <a:ext cx="531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earch Review &amp; Planning Meet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frica RIS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-5 October 2012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Communication Strategy and Tools </a:t>
            </a:r>
            <a:r>
              <a:rPr b="0" lang="en-GB" sz="2000" spc="-1" strike="noStrike">
                <a:solidFill>
                  <a:srgbClr val="bfbfbf"/>
                </a:solidFill>
                <a:latin typeface="Cambria"/>
              </a:rPr>
              <a:t>(ILRI leadership)</a:t>
            </a:r>
            <a:br>
              <a:rPr sz="20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	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wiki , website, repositories for docs, images, presentations </a:t>
            </a:r>
            <a:br>
              <a:rPr sz="1800"/>
            </a:br>
            <a:br>
              <a:rPr sz="1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M&amp;E Plan </a:t>
            </a:r>
            <a:r>
              <a:rPr b="0" lang="en-GB" sz="2000" spc="-1" strike="noStrike">
                <a:solidFill>
                  <a:srgbClr val="323232"/>
                </a:solidFill>
                <a:latin typeface="Cambria"/>
              </a:rPr>
              <a:t>(IFPRI leadership)</a:t>
            </a:r>
            <a:br>
              <a:rPr sz="1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Program Logframe</a:t>
            </a:r>
            <a:br>
              <a:rPr sz="2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Program Document</a:t>
            </a:r>
            <a:r>
              <a:rPr b="0" lang="en-GB" sz="2400" spc="-1" strike="noStrike">
                <a:solidFill>
                  <a:srgbClr val="323232"/>
                </a:solidFill>
                <a:latin typeface="Cambria"/>
              </a:rPr>
              <a:t>:  assembly of  all strategic documents</a:t>
            </a:r>
            <a:endParaRPr b="0" lang="en-US" sz="24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6" name="TextBox 3"/>
          <p:cNvSpPr/>
          <p:nvPr/>
        </p:nvSpPr>
        <p:spPr>
          <a:xfrm>
            <a:off x="1066680" y="3657600"/>
            <a:ext cx="469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rpose, objectives , outcom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uiding principles and conceptual framewo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earch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og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&amp;E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munic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nagement structure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600" spc="-1" strike="noStrike">
                <a:solidFill>
                  <a:srgbClr val="323232"/>
                </a:solidFill>
                <a:latin typeface="Cambria"/>
              </a:rPr>
              <a:t>Program Management Structure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553716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828800" y="12189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Project Coordination Committee (PCC)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0" name="TextBox 3"/>
          <p:cNvSpPr/>
          <p:nvPr/>
        </p:nvSpPr>
        <p:spPr>
          <a:xfrm>
            <a:off x="2057400" y="3200400"/>
            <a:ext cx="586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533520" y="937080"/>
            <a:ext cx="7467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des advice and coordination on Project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des science guidance to Project implemen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Guides Project planning and all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dvises on annual Project workplan and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versees coordination between Project components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iaises with IST to oversee M&amp;E; cc PCT on all repor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Keeps PCT informed of activities via the Project Coordin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views and makes suggestions to Project Coordinator 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miannual technical progress reports to USA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lans yearly stakeholder meetings with support from Progra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munications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cisions made by consens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eets annually in personal and virtually as called by the Cha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90560" y="990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ESA PCC Composition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3" name="Rectangle 1"/>
          <p:cNvSpPr/>
          <p:nvPr/>
        </p:nvSpPr>
        <p:spPr>
          <a:xfrm>
            <a:off x="533520" y="1994760"/>
            <a:ext cx="761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hair: IITA Reg. Dir. for 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ct Coordinator, serves as Secretary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ct Chief Scientist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search partners: CGIAR (1, AfricaRice), yearly rot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sub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onal research organizations (1, ASARECA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NARS (1, COSTECH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and others as designa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&amp;E Lead (IFPR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ommunications Lead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AID Activity Mana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14600" y="12189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Science Advisory Group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609480" y="2743200"/>
            <a:ext cx="45720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posed memb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Maggie Gill (DFI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onsolas"/>
              </a:rPr>
              <a:t>Ken Giller (W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onsolas"/>
              </a:rPr>
              <a:t>John Dixon (ACI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runo Gerard (CIMMY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ave Harris (ICRIS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ernard van Lauwe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Reps. from CRS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AID gender specia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R chief scientists (3, ILRI/IIT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AID Activity Manager (J. Glov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37920" y="12189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USAID visit, June 17-22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7" name="TextBox 3"/>
          <p:cNvSpPr/>
          <p:nvPr/>
        </p:nvSpPr>
        <p:spPr>
          <a:xfrm>
            <a:off x="533520" y="2362320"/>
            <a:ext cx="7086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. Glover and E. Witte from DC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et with project staff in Tanz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et with USAID country mission partners, e.g. NAFAKA, SU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 ongo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et better idea of future action si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scuss alignment with MAFSC , USAID mission, other 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Picture 4" descr="C:\Users\IZeledon\Pictures\USAID visit Tanzania June 2012\DSC03480.jpg"/>
          <p:cNvPicPr/>
          <p:nvPr/>
        </p:nvPicPr>
        <p:blipFill>
          <a:blip r:embed="rId1"/>
          <a:stretch/>
        </p:blipFill>
        <p:spPr>
          <a:xfrm>
            <a:off x="4495680" y="4952880"/>
            <a:ext cx="2210040" cy="17956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C:\Users\IZeledon\Pictures\USAID visit Tanzania June 2012\DSC03486.jpg"/>
          <p:cNvPicPr/>
          <p:nvPr/>
        </p:nvPicPr>
        <p:blipFill>
          <a:blip r:embed="rId2"/>
          <a:stretch/>
        </p:blipFill>
        <p:spPr>
          <a:xfrm>
            <a:off x="1600200" y="4876920"/>
            <a:ext cx="246852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Thank you!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228600" y="636264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"/>
          <p:cNvPicPr/>
          <p:nvPr/>
        </p:nvPicPr>
        <p:blipFill>
          <a:blip r:embed="rId2"/>
          <a:stretch/>
        </p:blipFill>
        <p:spPr>
          <a:xfrm>
            <a:off x="990720" y="6324480"/>
            <a:ext cx="369720" cy="3794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C:\Users\Corporate Comms\Downloads\icrisat_logo.jpg"/>
          <p:cNvPicPr/>
          <p:nvPr/>
        </p:nvPicPr>
        <p:blipFill>
          <a:blip r:embed="rId3"/>
          <a:stretch/>
        </p:blipFill>
        <p:spPr>
          <a:xfrm>
            <a:off x="1447920" y="6324480"/>
            <a:ext cx="1143000" cy="362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C:\Users\Corporate Comms\Downloads\AfricaRice logo.png"/>
          <p:cNvPicPr/>
          <p:nvPr/>
        </p:nvPicPr>
        <p:blipFill>
          <a:blip r:embed="rId4"/>
          <a:srcRect l="0" t="0" r="73495" b="19117"/>
          <a:stretch/>
        </p:blipFill>
        <p:spPr>
          <a:xfrm>
            <a:off x="3505320" y="6248520"/>
            <a:ext cx="530280" cy="501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C:\Users\Corporate Comms\Downloads\IFPRI logo (green).jpg"/>
          <p:cNvPicPr/>
          <p:nvPr/>
        </p:nvPicPr>
        <p:blipFill>
          <a:blip r:embed="rId5"/>
          <a:stretch/>
        </p:blipFill>
        <p:spPr>
          <a:xfrm>
            <a:off x="4114800" y="6172200"/>
            <a:ext cx="322200" cy="506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9" descr="C:\Users\Corporate Comms\Downloads\AVRDC logo.jpg"/>
          <p:cNvPicPr/>
          <p:nvPr/>
        </p:nvPicPr>
        <p:blipFill>
          <a:blip r:embed="rId6"/>
          <a:stretch/>
        </p:blipFill>
        <p:spPr>
          <a:xfrm>
            <a:off x="6553080" y="6324480"/>
            <a:ext cx="1600200" cy="3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7" name="Object 6"/>
          <p:cNvGraphicFramePr/>
          <p:nvPr/>
        </p:nvGraphicFramePr>
        <p:xfrm>
          <a:off x="2666880" y="6095880"/>
          <a:ext cx="762120" cy="6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6095880"/>
                    <a:ext cx="7621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9" name="Picture 3" descr="C:\Users\izeledon\Documents\LOGOS\ciat-log.gif"/>
          <p:cNvPicPr/>
          <p:nvPr/>
        </p:nvPicPr>
        <p:blipFill>
          <a:blip r:embed="rId9"/>
          <a:stretch/>
        </p:blipFill>
        <p:spPr>
          <a:xfrm>
            <a:off x="5486400" y="6324480"/>
            <a:ext cx="990720" cy="300240"/>
          </a:xfrm>
          <a:prstGeom prst="rect">
            <a:avLst/>
          </a:prstGeom>
          <a:ln w="0">
            <a:noFill/>
          </a:ln>
        </p:spPr>
      </p:pic>
      <p:pic>
        <p:nvPicPr>
          <p:cNvPr id="620" name="il_fi" descr="http://www.goes.msu.edu/sumernet/logo/ICRAF%20logo.jpg"/>
          <p:cNvPicPr/>
          <p:nvPr/>
        </p:nvPicPr>
        <p:blipFill>
          <a:blip r:embed="rId10"/>
          <a:stretch/>
        </p:blipFill>
        <p:spPr>
          <a:xfrm>
            <a:off x="4495680" y="6172200"/>
            <a:ext cx="8431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62012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The Start</a:t>
            </a:r>
            <a:br>
              <a:rPr sz="3200"/>
            </a:br>
            <a:br>
              <a:rPr sz="32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Oct. 2011: Brain storming meeting in preparation of inception workshop, agreement  on countries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Nov./Dec. 2011: Development of Concept Notes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Feb. 2012: Inception workshop DSM, </a:t>
            </a: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decision on Program approach and name Africa RISING, </a:t>
            </a: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call for jumpstart project proposals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April 2012: Approval of  10 jumpstarts, contracts, fund disbursemen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May 2012: Office set-up and staff recruitment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Continuously:  Strategic  Program/Project documents developed, teams established</a:t>
            </a:r>
            <a:br>
              <a:rPr sz="2400"/>
            </a:br>
            <a:br>
              <a:rPr sz="2400"/>
            </a:br>
            <a:br>
              <a:rPr sz="2800"/>
            </a:br>
            <a:endParaRPr b="0" lang="en-US" sz="20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1295640" cy="12128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"/>
          <p:cNvPicPr/>
          <p:nvPr/>
        </p:nvPicPr>
        <p:blipFill>
          <a:blip r:embed="rId2"/>
          <a:stretch/>
        </p:blipFill>
        <p:spPr>
          <a:xfrm>
            <a:off x="7010280" y="3505320"/>
            <a:ext cx="12956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1278000"/>
            <a:ext cx="762012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Approved jumpstart projects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533520" y="1905120"/>
          <a:ext cx="5181480" cy="4287600"/>
        </p:xfrm>
        <a:graphic>
          <a:graphicData uri="http://schemas.openxmlformats.org/drawingml/2006/table">
            <a:tbl>
              <a:tblPr/>
              <a:tblGrid>
                <a:gridCol w="1066680"/>
                <a:gridCol w="3200400"/>
                <a:gridCol w="914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 Legume Value Chain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4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Post-harvest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RA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rgreen Agri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logue of Crop, Soil, Water Management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cotoxins in Maize and Cassa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4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Systems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RI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Multi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nsification of Farming Syste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rica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d Manag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D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ing Vegetable Value 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,9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578" name="TextBox 3"/>
          <p:cNvSpPr/>
          <p:nvPr/>
        </p:nvSpPr>
        <p:spPr>
          <a:xfrm>
            <a:off x="533520" y="6211800"/>
            <a:ext cx="746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Grant ($120k) to MSU for first 6 months of research on Agroecological Intensification in MAL and TZ through Action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Lessons learnt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0" name="TextBox 2"/>
          <p:cNvSpPr/>
          <p:nvPr/>
        </p:nvSpPr>
        <p:spPr>
          <a:xfrm>
            <a:off x="609480" y="21337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try point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- SI to build on existing policies,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aps identified to fill (technological, capacity, policies, institutions, existing data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pportunit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articipatory approaches towards integration of disciplines, evaluation of bes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bets, land us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ed systems improv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ivate sector involv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artnerships and eng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raction among research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rnal/external commun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licy maker/private sector engag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Logistics and organ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tractual issues, inadequate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97180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Research framework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2" name="TextBox 2"/>
          <p:cNvSpPr/>
          <p:nvPr/>
        </p:nvSpPr>
        <p:spPr>
          <a:xfrm>
            <a:off x="397080" y="2514600"/>
            <a:ext cx="802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neric to be applicable across all three Africa RISING reg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lexible to allow site specific adapt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st a set of hypotheses linked to research outputs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associated development outcom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743200" y="837720"/>
            <a:ext cx="41148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Selection of Action Sites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533520" y="1752480"/>
            <a:ext cx="769608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-location with USAID country mission investments/other 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presentative regarding drivers of intensification to allow for scal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up to areas with similar conditions: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pulation density, market access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agro-ecological cond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 for rigorous M&amp;E to determine impact of 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PRI: stratification/characterization of  target wards and vill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Z: Kiteto, Kongwa, Kilombero, Babati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MAL: Ntcheu, Dedza district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ZAM: Eastern Provi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6400800" y="3048120"/>
            <a:ext cx="1935000" cy="1152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"/>
          <p:cNvPicPr/>
          <p:nvPr/>
        </p:nvPicPr>
        <p:blipFill>
          <a:blip r:embed="rId2"/>
          <a:stretch/>
        </p:blipFill>
        <p:spPr>
          <a:xfrm>
            <a:off x="6553080" y="4952880"/>
            <a:ext cx="18288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Communication Strategy and Tools </a:t>
            </a:r>
            <a:r>
              <a:rPr b="0" lang="en-GB" sz="2000" spc="-1" strike="noStrike">
                <a:solidFill>
                  <a:srgbClr val="323232"/>
                </a:solidFill>
                <a:latin typeface="Cambria"/>
              </a:rPr>
              <a:t>(ILRI leadership)</a:t>
            </a:r>
            <a:br>
              <a:rPr sz="20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Calibri"/>
              </a:rPr>
              <a:t>wiki , website, repositories for docs, images, presentations </a:t>
            </a:r>
            <a:br>
              <a:rPr sz="1800"/>
            </a:br>
            <a:br>
              <a:rPr sz="1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M&amp;E Plan </a:t>
            </a:r>
            <a:r>
              <a:rPr b="0" lang="en-GB" sz="2000" spc="-1" strike="noStrike">
                <a:solidFill>
                  <a:srgbClr val="bfbfbf"/>
                </a:solidFill>
                <a:latin typeface="Cambria"/>
              </a:rPr>
              <a:t>(IFPRI leadership)</a:t>
            </a:r>
            <a:br>
              <a:rPr sz="1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Program Logframe</a:t>
            </a:r>
            <a:br>
              <a:rPr sz="2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Program Document</a:t>
            </a:r>
            <a:r>
              <a:rPr b="0" lang="en-GB" sz="2400" spc="-1" strike="noStrike">
                <a:solidFill>
                  <a:srgbClr val="bfbfbf"/>
                </a:solidFill>
                <a:latin typeface="Cambria"/>
              </a:rPr>
              <a:t>:  assembly of  all strategic documents</a:t>
            </a:r>
            <a:endParaRPr b="0" lang="en-US" sz="24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8" name="TextBox 3"/>
          <p:cNvSpPr/>
          <p:nvPr/>
        </p:nvSpPr>
        <p:spPr>
          <a:xfrm>
            <a:off x="1066680" y="3657600"/>
            <a:ext cx="469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program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purpose, objectives , outcom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guiding principles and conceptual framewo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research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log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M&amp;E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communic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management structure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-2057400" y="214956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7180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Our website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1" name="TextBox 2"/>
          <p:cNvSpPr/>
          <p:nvPr/>
        </p:nvSpPr>
        <p:spPr>
          <a:xfrm>
            <a:off x="1078920" y="41148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alibri"/>
              </a:rPr>
              <a:t>Where to share news, updates and announc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17640" y="1371600"/>
            <a:ext cx="9735840" cy="54738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0920" y="214920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Our wiki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4" name="TextBox 2"/>
          <p:cNvSpPr/>
          <p:nvPr/>
        </p:nvSpPr>
        <p:spPr>
          <a:xfrm>
            <a:off x="3733920" y="55627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alibri"/>
              </a:rPr>
              <a:t>Collaboration space to support planning, sharing early documents, reporting and organizing ev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3:43:14Z</dcterms:created>
  <dc:creator>JTOliver</dc:creator>
  <dc:description/>
  <dc:language>en-US</dc:language>
  <cp:lastModifiedBy>LeBorgne, Ewen (ILRI)</cp:lastModifiedBy>
  <cp:lastPrinted>2011-10-06T11:45:23Z</cp:lastPrinted>
  <dcterms:modified xsi:type="dcterms:W3CDTF">2012-10-05T07:56:03Z</dcterms:modified>
  <cp:revision>829</cp:revision>
  <dc:subject/>
  <dc:title>PowerPoint Presentation</dc:title>
</cp:coreProperties>
</file>