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2.wmf" ContentType="image/x-wmf"/>
  <Override PartName="/ppt/media/image15.png" ContentType="image/png"/>
  <Override PartName="/ppt/media/image3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A2600-7E5C-4A9A-A493-2F78DF06D4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5358-DDB9-4099-8154-85E5A655F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0C2B-46C1-479F-A3A7-374BA68AF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9647-E853-46DC-A73B-71A10BAB45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E76E-DB50-4CAC-8979-B858DF19F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86824-EAD8-4C56-B231-378D9034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D79833-277B-414E-A55F-405F594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90D4F-D088-4DF3-ACB2-28D4A8EC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D46171-F9E0-4DC2-9E8E-6DACA1CE2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F0B364-6403-48CF-84C1-F387A684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A301F8-78D4-4E62-906C-13088130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9E213E-A832-4303-97F3-FA60C75B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F47F37-86BA-4B0E-8923-046378328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6BDDAF-C986-4DAF-AB83-CE516526A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4B06C-D844-44DD-8621-5D3611076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B8A640-36BA-4508-A9C9-969BF52A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EF653F-9C5C-4FDF-9425-29500173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987D3D-2210-4FF1-8AF9-B65434E9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1266DE-0BB2-4599-8F7B-0CA43EEA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03F3FB-D378-4846-B406-31EFF7EA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8D9851-E176-4089-897B-7848C99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1296DF-9185-4FF2-831F-378A084A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41118-D96F-4BFE-9D7A-4CBA222E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830CA-3799-47DB-B340-A87F6821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E85921-E280-47B1-9A6C-D1953F6B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87FDCB-B4F6-4A61-8AC2-1AA5E7265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48D1E-2F10-43DA-A27B-18729901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1CA93D-A970-470B-8ECD-B0759956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5CB5C4-DBF1-40A6-B0C4-5EBA8542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EC0293-FB3D-4324-83C1-34C495B80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DDE5CF-9606-4C9E-B73F-EB7EF494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4AFD8D-D761-43D1-B7C0-F56BCBC2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0115AA3-92C8-470C-BD24-1E26CFDD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D58FFD-3377-4076-9477-EB6EC8F4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550393-A56D-4EE6-BB24-FB70D51F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D1319-6BAA-4F03-A950-08E28A7E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33D767-86B6-4552-BD35-20F28781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9C9FAE-47FA-4D2B-8ABD-1C69CAC0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8FED62-51EB-42D5-87AD-751ED397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F67DCE4-AB18-49BA-BE16-9BC2CE98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AA437D-6BAD-4FC9-931C-2B34F3F4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A13843-23B6-4139-9CA5-B2BC69B6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8AA5A42-0E14-46CD-922E-49017AF7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6777591-18C8-408E-A3F8-12E9279F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B6AD4DD-315F-4B04-A553-44126A05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EC8A813-99EF-494E-A63F-91633AA4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92C5E8-2EBC-4080-BCAD-36BEB0408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26C4473-2259-47CE-AED4-E521FE13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A925F4-807E-48F3-B5D1-EFF7B8C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47F653-E735-465B-A934-4EE1059D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E9D95AB-08AD-4A39-A910-0F663508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24C21E-36C5-4710-A20F-E31A62E9A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A8BA0-78CA-456F-A32E-EDF56153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AD474-45E4-4B9A-AEAC-21995431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A6D5A-3191-4C0A-B39B-00F4E849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837C62-1295-4C44-984A-95724F0A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D7545-2366-4E68-B9BF-D3FE8115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EBBC5-0AB9-4193-A8B4-012BAA01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D7E2D-C9BF-4DE6-AC25-5C7CEE9F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E48B2-2A31-49DB-9A37-A99B1FBF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4916D-5970-495C-88FC-37BF9A7BD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AA01A-402D-4939-9D9F-BB77BE33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DB9516-E096-4410-9426-1AF08964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034B4-B385-48DD-82DB-8BDE42BD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7EDF4-A5C3-437B-AF55-C3109149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5686C-F6DE-42D3-8B68-C84AE838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EF4B5-8FCB-43A9-8D92-7FF3AC10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CEA90-03C0-4235-AD4F-7FD036F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0FF93C-4923-4138-9454-9913E050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25649-CDBA-4BDD-BEB3-9D69223D1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DADBE-EF6B-4D04-A958-BD37A2C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064DB7-D147-4A40-BDC5-351A82CC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B300A-9331-4913-935D-8F8626D2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1F3C28-73F6-4C2A-B144-E69BBB56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0FA656-734B-4D9A-86E7-4F8AC6D6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64A0B-96BE-490A-BD40-8E765F78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191316-2520-4CA0-9C01-4D001FBF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9177D3-3454-4CD8-8324-F20E4188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7A9B1-A2F1-4AEB-ACA9-800C6F7A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04EDC3-912C-4D8B-9BD7-F43E2366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5B393D-1BAB-410D-ACDA-864E636A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4D5F5-1775-4558-A6DB-8C6E80E3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D63E9A-E080-46EE-8DBA-3D21BD4C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376C7F-06F8-4592-8F34-B2A86A45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22F71-1ECD-419D-BA6A-D6E18E7FE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84EE6B-D6BD-4934-8DD8-D2D06FCA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5282AE-334E-4AB0-B94C-E40FC536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ADDDD-2DA3-4C19-A4E2-B286239F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2865AE-E865-40B6-931B-C082CE95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54ACEC-921C-4945-B81C-82692D06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1DEE8-F430-4975-A91B-AB8803D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23A0ED-DCB7-4A92-A67F-060D435E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4C283-E7BB-4C7E-9325-B16459DE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7E9B1-A562-4CE4-99DD-7F9002D9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4F19B-9F4A-4F2A-A3B3-DAEB6637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8B2AC-1168-4A44-BF85-C863CF2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D6E04-21C1-461C-A552-865DAE946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4889DD-9B18-4B70-A16C-0E23ADEDB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5C907-D59C-483D-A096-6C5020CAF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3174E0-EC7C-4893-9C10-A35D625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3BB4E-C109-4EDE-8AC2-38BB70C3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DBA5C4-A5CF-4585-B213-2A1C6E81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20A7BF-B268-4ED5-9848-D7B754D8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D8FEE6-06B1-4C3C-9980-22857000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3AD4D-6ED2-473F-AEAA-C7625BF9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47D3B-F74F-4D49-8D12-CD853325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E65B80-1D90-4157-A434-534BECF0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5F4565-2C9F-4444-B3D5-50F43A6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A4A1D-4355-4627-8C40-E837CC49C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0FA3C-FB04-403C-B096-28DB7D7E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837D3A-615C-47E3-9226-779722D97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68EB18-53F4-455F-B7CA-5E46ACA3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0D7576-9020-4C9C-8462-129C31D9A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52B218-2C60-45DE-B7EC-3C9FC3C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32FE8D-6A10-419C-AE79-DBF5FFFE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AD5CDB-65C5-4C9D-A942-8DC3FBD8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195470-2BBF-4CDA-91E7-DE3F9C89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B07FCA-E7C5-4091-9583-DF6237B7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59167-7440-4FCF-9401-3C40308C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FF766-CC27-46B9-A89A-5F004D3F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50EFBB-4BC3-49EF-893D-5D02EE04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35EF3F-19C9-434C-B5EC-EBC5A1FB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30DEFA-6F20-484A-849C-1D0FA9F6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63CA22-4B17-4C1E-ADA1-7419FD5A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1105DB1-074C-446B-8F95-2824E599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749675A-2672-485C-AC89-6CCBC3D6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667AC3-0184-415E-BFD8-9A82D3EFE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4BE42D-6435-4850-98AE-B5795934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110CC1-4BB3-4FAA-B160-BBFE67A6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6446E4-D070-44E4-8ECD-2DD24441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F47F53-C9A7-4673-AB0D-59F4F1B0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572742-AA7E-4F68-A035-EAEC21DC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0CE933-10D2-402F-B6F6-4D2877F0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52378E-D75C-404C-872C-96F62192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1C4212-D784-45E3-8383-A39E3A06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1B849B-2E52-4E09-9965-0E34781C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F79DDF-2E47-4DA8-A16E-DF1D1002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7F91-3B95-4AC6-9BE8-FAAE6F2C6A5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7CA3-A801-42DA-8EB7-EAA9DE046C4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E074-D389-4F15-87A8-E501CD9556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F03B-EDB5-4778-AF4D-F84F1181762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C9E4-10C8-412C-80FD-562650EC87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710E-8DAA-45BF-9B76-361F0D17ADB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8257-A97F-41E6-B507-6F79EA9CA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6DB96-4FC6-4C88-B8BB-4E7492F8461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1566-0AF8-422B-8193-C8DA3E1B24E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B746-1EC2-4AA0-8BF6-62D2196DC8F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DD85-E5DE-4068-AECF-45A0E82C749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7F75-E165-43C3-8A57-FFB1EF8785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47A-0F3C-4615-8413-E00B148E20DC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2519-F422-48C7-8964-EE0F6D9824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3F5A-E711-44EF-A94C-F43C09FEADB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B446-8115-4EB5-AC3E-C4445E7D6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3A38-4676-42DB-9E9F-445FEAB0754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DD2E-06F5-43E3-A8A0-845F91D4D7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3E84-4893-41E9-8B04-83ED9BC30E9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7BB1-B16D-41D4-88AE-2C66107E2E9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3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4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5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DC46-700C-4951-B3B7-7BB2F5206A6D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47E64-5180-4FA1-821D-730EC790AE9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905120"/>
            <a:ext cx="7543800" cy="213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23232"/>
                </a:solidFill>
                <a:latin typeface="Cambria"/>
              </a:rPr>
              <a:t>Year 1 Overview</a:t>
            </a:r>
            <a:endParaRPr b="0" lang="en-US" sz="48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I. Hoeschle-Zeledon</a:t>
            </a:r>
            <a:br>
              <a:rPr sz="2400"/>
            </a:b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Africa RISING East/Southern Africa Coo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323232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6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3600" spc="-1" strike="noStrike">
                <a:solidFill>
                  <a:srgbClr val="323232"/>
                </a:solidFill>
                <a:latin typeface="Cambria"/>
              </a:rPr>
              <a:t>Program Management Structure</a:t>
            </a:r>
            <a:br>
              <a:rPr sz="3600"/>
            </a:br>
            <a:endParaRPr b="0" lang="en-US" sz="3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914400" y="2438280"/>
            <a:ext cx="5537160" cy="34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6858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Project Coordination Committee (PCC)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0" name="TextBox 3"/>
          <p:cNvSpPr/>
          <p:nvPr/>
        </p:nvSpPr>
        <p:spPr>
          <a:xfrm>
            <a:off x="2057400" y="3200400"/>
            <a:ext cx="5867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33520" y="937080"/>
            <a:ext cx="74674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advice and coordination on Project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vides science guidance to Project implement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Guides Project planning and all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dvises on annual Project workplan and budg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versees coordination between Project components a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artn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iaises with IST to oversee M&amp;E; cc PCT on all repor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eeps PCT informed of activities via the Project Coordin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views and makes suggestions to Project Coordinator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miannual technical progress reports to USAI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lans yearly stakeholder meetings with support from Progra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munications Te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ecisions made by consens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eets annually in personal and virtually as called by the Chai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590560" y="990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ESA PCC Composition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3" name="Rectangle 1"/>
          <p:cNvSpPr/>
          <p:nvPr/>
        </p:nvSpPr>
        <p:spPr>
          <a:xfrm>
            <a:off x="533520" y="1994760"/>
            <a:ext cx="761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hair: IITA Reg. Dir. for E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oordinator, serves as Secretary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ct Chief Scientist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earch partners: CGIAR (1, AfricaRice), yearly rot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sub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onal research organizations (1, ASARECA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NARS (1, COSTECH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and others as designat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M&amp;E Lead (IFPR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ject Communications Lead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AID Activity Mana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14600" y="12189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cience Advisory Group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609480" y="2743200"/>
            <a:ext cx="457200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Calibri"/>
              </a:rPr>
              <a:t>Proposed membe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Maggie Gill (DF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Ken Giller (WU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onsolas"/>
              </a:rPr>
              <a:t>John Dixon (ACI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runo Gerard (CIMMY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Dave Harris (ICRISA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Bernard van Lauwe (IIT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Reps. from CRS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gender specia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AR chief scientists (3, ILRI/IITA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Calibri"/>
              </a:rPr>
              <a:t>USAID Activity Manager (J. Glove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379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USAID visit, June 17-22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7" name="TextBox 3"/>
          <p:cNvSpPr/>
          <p:nvPr/>
        </p:nvSpPr>
        <p:spPr>
          <a:xfrm>
            <a:off x="533520" y="2362320"/>
            <a:ext cx="7086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J. Glover and E. Witte from DC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project staff in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eet with USAID country mission partners, e.g. NAFAKA, SU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 ongoing activ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et better idea of future actio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scuss alignment with MAFSC , USAID mission, 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8" name="Picture 4" descr="C:\Users\IZeledon\Pictures\USAID visit Tanzania June 2012\DSC03480.jpg"/>
          <p:cNvPicPr/>
          <p:nvPr/>
        </p:nvPicPr>
        <p:blipFill>
          <a:blip r:embed="rId1"/>
          <a:stretch/>
        </p:blipFill>
        <p:spPr>
          <a:xfrm>
            <a:off x="4495680" y="4952880"/>
            <a:ext cx="2210040" cy="17956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Users\IZeledon\Pictures\USAID visit Tanzania June 2012\DSC03486.jpg"/>
          <p:cNvPicPr/>
          <p:nvPr/>
        </p:nvPicPr>
        <p:blipFill>
          <a:blip r:embed="rId2"/>
          <a:stretch/>
        </p:blipFill>
        <p:spPr>
          <a:xfrm>
            <a:off x="1600200" y="4876920"/>
            <a:ext cx="24685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611" name="Picture 3" descr=""/>
          <p:cNvPicPr/>
          <p:nvPr/>
        </p:nvPicPr>
        <p:blipFill>
          <a:blip r:embed="rId1"/>
          <a:stretch/>
        </p:blipFill>
        <p:spPr>
          <a:xfrm>
            <a:off x="228600" y="6362640"/>
            <a:ext cx="685800" cy="343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2" descr=""/>
          <p:cNvPicPr/>
          <p:nvPr/>
        </p:nvPicPr>
        <p:blipFill>
          <a:blip r:embed="rId2"/>
          <a:stretch/>
        </p:blipFill>
        <p:spPr>
          <a:xfrm>
            <a:off x="990720" y="6324480"/>
            <a:ext cx="369720" cy="3794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C:\Users\Corporate Comms\Downloads\icrisat_logo.jpg"/>
          <p:cNvPicPr/>
          <p:nvPr/>
        </p:nvPicPr>
        <p:blipFill>
          <a:blip r:embed="rId3"/>
          <a:stretch/>
        </p:blipFill>
        <p:spPr>
          <a:xfrm>
            <a:off x="1447920" y="6324480"/>
            <a:ext cx="1143000" cy="36216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4" descr="C:\Users\Corporate Comms\Downloads\AfricaRice logo.png"/>
          <p:cNvPicPr/>
          <p:nvPr/>
        </p:nvPicPr>
        <p:blipFill>
          <a:blip r:embed="rId4"/>
          <a:srcRect l="0" t="0" r="73495" b="19117"/>
          <a:stretch/>
        </p:blipFill>
        <p:spPr>
          <a:xfrm>
            <a:off x="3505320" y="6248520"/>
            <a:ext cx="530280" cy="5014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5" descr="C:\Users\Corporate Comms\Downloads\IFPRI logo (green).jpg"/>
          <p:cNvPicPr/>
          <p:nvPr/>
        </p:nvPicPr>
        <p:blipFill>
          <a:blip r:embed="rId5"/>
          <a:stretch/>
        </p:blipFill>
        <p:spPr>
          <a:xfrm>
            <a:off x="4114800" y="6172200"/>
            <a:ext cx="322200" cy="5065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9" descr="C:\Users\Corporate Comms\Downloads\AVRDC logo.jpg"/>
          <p:cNvPicPr/>
          <p:nvPr/>
        </p:nvPicPr>
        <p:blipFill>
          <a:blip r:embed="rId6"/>
          <a:stretch/>
        </p:blipFill>
        <p:spPr>
          <a:xfrm>
            <a:off x="6553080" y="6324480"/>
            <a:ext cx="1600200" cy="3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7" name="Object 6"/>
          <p:cNvGraphicFramePr/>
          <p:nvPr/>
        </p:nvGraphicFramePr>
        <p:xfrm>
          <a:off x="2666880" y="6095880"/>
          <a:ext cx="762120" cy="65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8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66880" y="6095880"/>
                    <a:ext cx="7621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19" name="Picture 3" descr="C:\Users\izeledon\Documents\LOGOS\ciat-log.gif"/>
          <p:cNvPicPr/>
          <p:nvPr/>
        </p:nvPicPr>
        <p:blipFill>
          <a:blip r:embed="rId9"/>
          <a:stretch/>
        </p:blipFill>
        <p:spPr>
          <a:xfrm>
            <a:off x="5486400" y="6324480"/>
            <a:ext cx="990720" cy="300240"/>
          </a:xfrm>
          <a:prstGeom prst="rect">
            <a:avLst/>
          </a:prstGeom>
          <a:ln w="0">
            <a:noFill/>
          </a:ln>
        </p:spPr>
      </p:pic>
      <p:pic>
        <p:nvPicPr>
          <p:cNvPr id="620" name="il_fi" descr="http://www.goes.msu.edu/sumernet/logo/ICRAF%20logo.jpg"/>
          <p:cNvPicPr/>
          <p:nvPr/>
        </p:nvPicPr>
        <p:blipFill>
          <a:blip r:embed="rId10"/>
          <a:stretch/>
        </p:blipFill>
        <p:spPr>
          <a:xfrm>
            <a:off x="4495680" y="6172200"/>
            <a:ext cx="84312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620120" cy="54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	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    </a:t>
            </a: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The Start</a:t>
            </a:r>
            <a:br>
              <a:rPr sz="3200"/>
            </a:br>
            <a:br>
              <a:rPr sz="32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Oct. 2011: Brain storming meeting in preparation of inception workshop, agreement  on countri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Nov./Dec. 2011: Development of Concept Notes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Feb. 2012: Inception workshop DSM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decision on Program approach and name Africa RISING, </a:t>
            </a: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all for jumpstart project proposals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April 2012: Approval of  10 jumpstarts, contracts, fund disbursement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May 2012: Office set-up and staff recruitment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323232"/>
                </a:solidFill>
                <a:latin typeface="Calibri"/>
              </a:rPr>
              <a:t>Continuously:  Strategic  Program/Project documents developed, teams established</a:t>
            </a:r>
            <a:br>
              <a:rPr sz="2400"/>
            </a:br>
            <a:br>
              <a:rPr sz="2400"/>
            </a:br>
            <a:br>
              <a:rPr sz="2800"/>
            </a:br>
            <a:endParaRPr b="0" lang="en-US" sz="20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1295640" cy="12128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4" descr=""/>
          <p:cNvPicPr/>
          <p:nvPr/>
        </p:nvPicPr>
        <p:blipFill>
          <a:blip r:embed="rId2"/>
          <a:stretch/>
        </p:blipFill>
        <p:spPr>
          <a:xfrm>
            <a:off x="7010280" y="3505320"/>
            <a:ext cx="12956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1278000"/>
            <a:ext cx="7620120" cy="55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Approved jumpstart project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533520" y="1905120"/>
          <a:ext cx="5181480" cy="4287600"/>
        </p:xfrm>
        <a:graphic>
          <a:graphicData uri="http://schemas.openxmlformats.org/drawingml/2006/table">
            <a:tbl>
              <a:tblPr/>
              <a:tblGrid>
                <a:gridCol w="1066680"/>
                <a:gridCol w="3200400"/>
                <a:gridCol w="914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d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 Legume Value Chain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9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Post-harves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A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ergreen Agri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alogue of Crop, Soil, Water Management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ycotoxins in Maize and Cassa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4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Systems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RIS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Multi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nsification of Farming Syste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9,9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rica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ed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D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ing Vegetable 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4,9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578" name="TextBox 3"/>
          <p:cNvSpPr/>
          <p:nvPr/>
        </p:nvSpPr>
        <p:spPr>
          <a:xfrm>
            <a:off x="533520" y="6211800"/>
            <a:ext cx="746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Grant ($120k) to MSU for first 6 months of research on Agroecological Intensification in MAL and TZ through Action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Lessons learnt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TextBox 2"/>
          <p:cNvSpPr/>
          <p:nvPr/>
        </p:nvSpPr>
        <p:spPr>
          <a:xfrm>
            <a:off x="609480" y="21337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Entry point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- SI to build on existing policies, techn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Gaps identified to fill (technological, capacity, policies, institutions, existing data)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pportuniti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ticipatory approaches towards integration of disciplines, evaluation of bes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bets, land use plann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eed systems improv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artnerships and eng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action among research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ternal/external communic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licy maker/private sector engagemen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Logistics and organiz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ractual issues, inadequate infra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Research framework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TextBox 2"/>
          <p:cNvSpPr/>
          <p:nvPr/>
        </p:nvSpPr>
        <p:spPr>
          <a:xfrm>
            <a:off x="397080" y="2514600"/>
            <a:ext cx="8025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eneric to be applicable across all three Africa RISING regio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lexible to allow site specific adaptati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est a set of hypotheses linked to research outputs and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associated development outcom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743200" y="837720"/>
            <a:ext cx="411480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Selection of Action Sites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533520" y="1752480"/>
            <a:ext cx="769608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-location with USAID country mission investments/other ac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presentative regarding drivers of intensification to allow for scaling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up to areas with similar conditions: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pulation density, market access,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   agro-ecological cond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ovide for rigorous M&amp;E to determine impact of 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PRI: stratification/characterization of  target wards and vill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Z: Kiteto, Kongwa, Kilombero, Babati distri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MAL: Ntcheu, Dedza district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ZAM: Eastern Provi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Picture 4" descr=""/>
          <p:cNvPicPr/>
          <p:nvPr/>
        </p:nvPicPr>
        <p:blipFill>
          <a:blip r:embed="rId1"/>
          <a:stretch/>
        </p:blipFill>
        <p:spPr>
          <a:xfrm>
            <a:off x="6400800" y="3048120"/>
            <a:ext cx="1935000" cy="1152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"/>
          <p:cNvPicPr/>
          <p:nvPr/>
        </p:nvPicPr>
        <p:blipFill>
          <a:blip r:embed="rId2"/>
          <a:stretch/>
        </p:blipFill>
        <p:spPr>
          <a:xfrm>
            <a:off x="6553080" y="4952880"/>
            <a:ext cx="18288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Communication Strategy and Tools </a:t>
            </a:r>
            <a:r>
              <a:rPr b="0" lang="en-GB" sz="2000" spc="-1" strike="noStrike">
                <a:solidFill>
                  <a:srgbClr val="323232"/>
                </a:solidFill>
                <a:latin typeface="Cambria"/>
              </a:rPr>
              <a:t>(ILRI leadership)</a:t>
            </a:r>
            <a:br>
              <a:rPr sz="2000"/>
            </a:br>
            <a:r>
              <a:rPr b="0" lang="en-GB" sz="2800" spc="-1" strike="noStrike">
                <a:solidFill>
                  <a:srgbClr val="323232"/>
                </a:solidFill>
                <a:latin typeface="Cambria"/>
              </a:rPr>
              <a:t>	</a:t>
            </a:r>
            <a:r>
              <a:rPr b="0" lang="en-GB" sz="1800" spc="-1" strike="noStrike">
                <a:solidFill>
                  <a:srgbClr val="323232"/>
                </a:solidFill>
                <a:latin typeface="Calibri"/>
              </a:rPr>
              <a:t>wiki , website, repositories for docs, images, presentations </a:t>
            </a:r>
            <a:br>
              <a:rPr sz="1800"/>
            </a:b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M&amp;E Plan </a:t>
            </a:r>
            <a:r>
              <a:rPr b="0" lang="en-GB" sz="2000" spc="-1" strike="noStrike">
                <a:solidFill>
                  <a:srgbClr val="bfbfbf"/>
                </a:solidFill>
                <a:latin typeface="Cambria"/>
              </a:rPr>
              <a:t>(IFPRI leadership)</a:t>
            </a:r>
            <a:br>
              <a:rPr sz="1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Logframe</a:t>
            </a:r>
            <a:br>
              <a:rPr sz="2800"/>
            </a:br>
            <a:r>
              <a:rPr b="0" lang="en-GB" sz="2800" spc="-1" strike="noStrike">
                <a:solidFill>
                  <a:srgbClr val="bfbfbf"/>
                </a:solidFill>
                <a:latin typeface="Cambria"/>
              </a:rPr>
              <a:t>Program Document</a:t>
            </a:r>
            <a:r>
              <a:rPr b="0" lang="en-GB" sz="2400" spc="-1" strike="noStrike">
                <a:solidFill>
                  <a:srgbClr val="bfbfbf"/>
                </a:solidFill>
                <a:latin typeface="Cambria"/>
              </a:rPr>
              <a:t>:  assembly of  all strategic documents</a:t>
            </a:r>
            <a:endParaRPr b="0" lang="en-US" sz="24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8" name="TextBox 3"/>
          <p:cNvSpPr/>
          <p:nvPr/>
        </p:nvSpPr>
        <p:spPr>
          <a:xfrm>
            <a:off x="1066680" y="3657600"/>
            <a:ext cx="469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rogram con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purpose, objectives , outcomes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guiding principles and conceptual framewor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research desig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log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&amp;E pl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communic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management structure 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bfbfb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Picture 2" descr=""/>
          <p:cNvPicPr/>
          <p:nvPr/>
        </p:nvPicPr>
        <p:blipFill>
          <a:blip r:embed="rId1"/>
          <a:stretch/>
        </p:blipFill>
        <p:spPr>
          <a:xfrm>
            <a:off x="-2057400" y="2149560"/>
            <a:ext cx="13011120" cy="731520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971800" y="11426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ebsite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1" name="TextBox 2"/>
          <p:cNvSpPr/>
          <p:nvPr/>
        </p:nvSpPr>
        <p:spPr>
          <a:xfrm>
            <a:off x="1078920" y="4114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Where to share news, updates and announce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17640" y="1371600"/>
            <a:ext cx="9735840" cy="54738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90920" y="214920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2060"/>
                </a:solidFill>
                <a:latin typeface="Cambria"/>
              </a:rPr>
              <a:t>Our wiki</a:t>
            </a:r>
            <a:endParaRPr b="0" lang="en-US" sz="32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94" name="TextBox 2"/>
          <p:cNvSpPr/>
          <p:nvPr/>
        </p:nvSpPr>
        <p:spPr>
          <a:xfrm>
            <a:off x="3733920" y="556272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Calibri"/>
              </a:rPr>
              <a:t>Collaboration space to support planning, sharing early documents, reporting and organizing event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5T07:56:03Z</dcterms:modified>
  <cp:revision>829</cp:revision>
  <dc:subject/>
  <dc:title>PowerPoint Presentation</dc:title>
</cp:coreProperties>
</file>