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8609B80-553E-472A-A713-F0487F64A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95F3763-6847-44D0-AB7C-ED5FDEDB2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125-23FB-41F4-BDD8-FA361FF4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DCF-9AB4-4E02-96AD-8CD5EBB0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A0B-7A65-4E5A-9E50-1B261215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38D-0EA6-45C6-9E46-C3686372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7E16-572C-4CEE-A157-0E5A0C91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21A-3A20-4C90-98CB-8B633C28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C5E-31AE-496F-AB41-4CC67901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C5B-B328-4B5B-B312-F51B3A8C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6797-58F7-4E18-8692-95381B16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9D0-3E2F-4B2C-99C5-8FD0D6B1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4D9-FB85-4E01-84C5-D87206CB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703-CDAC-4113-A275-FDE67E9E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8F95-5BDB-4F02-B7EB-84B221AE033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301A-5037-4D39-955B-53DADEAC3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6093-1341-4390-8962-8C4ECC94A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Africa  RISING in the Ethiopian Highland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4FBB-3082-4EC1-B75C-15FD1F349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nuary 2012: Project desig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2012: Quick Win project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– September 2012: Quick Win projects ope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012: Project review and plannin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rojec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1932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Feeds” – ILRI / ICARDA / EIAR / O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Water” – IWMI / ILRI / Addis Ababa, Bahir Dar, Arba Minch Univers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Trees” – ICRAF / ILRI / EIAR / Mekel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Pulses” – ICARDA / EIAR / ORARI / Farm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Design – CIMMYT / IL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C4A9-248D-4C27-8380-12609A20E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"/>
          <p:cNvGrpSpPr/>
          <p:nvPr/>
        </p:nvGrpSpPr>
        <p:grpSpPr>
          <a:xfrm>
            <a:off x="2495520" y="1504080"/>
            <a:ext cx="5202000" cy="5155200"/>
            <a:chOff x="2495520" y="1504080"/>
            <a:chExt cx="5202000" cy="5155200"/>
          </a:xfrm>
        </p:grpSpPr>
        <p:grpSp>
          <p:nvGrpSpPr>
            <p:cNvPr id="62" name="Group 44"/>
            <p:cNvGrpSpPr/>
            <p:nvPr/>
          </p:nvGrpSpPr>
          <p:grpSpPr>
            <a:xfrm>
              <a:off x="2495520" y="1504080"/>
              <a:ext cx="5202000" cy="5155200"/>
              <a:chOff x="2495520" y="1504080"/>
              <a:chExt cx="5202000" cy="5155200"/>
            </a:xfrm>
          </p:grpSpPr>
          <p:grpSp>
            <p:nvGrpSpPr>
              <p:cNvPr id="63" name="Group 46"/>
              <p:cNvGrpSpPr/>
              <p:nvPr/>
            </p:nvGrpSpPr>
            <p:grpSpPr>
              <a:xfrm>
                <a:off x="2495520" y="1504080"/>
                <a:ext cx="5202000" cy="5155200"/>
                <a:chOff x="2495520" y="1504080"/>
                <a:chExt cx="5202000" cy="5155200"/>
              </a:xfrm>
            </p:grpSpPr>
            <p:sp>
              <p:nvSpPr>
                <p:cNvPr id="64" name="Oval 67"/>
                <p:cNvSpPr/>
                <p:nvPr/>
              </p:nvSpPr>
              <p:spPr>
                <a:xfrm>
                  <a:off x="2674800" y="1697040"/>
                  <a:ext cx="4826160" cy="4753080"/>
                </a:xfrm>
                <a:prstGeom prst="ellipse">
                  <a:avLst/>
                </a:prstGeom>
                <a:solidFill>
                  <a:srgbClr val="8eb4e3"/>
                </a:solidFill>
                <a:ln w="10800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Isosceles Triangle 68"/>
                <p:cNvSpPr/>
                <p:nvPr/>
              </p:nvSpPr>
              <p:spPr>
                <a:xfrm>
                  <a:off x="2495520" y="3886200"/>
                  <a:ext cx="360360" cy="37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Isosceles Triangle 69"/>
                <p:cNvSpPr/>
                <p:nvPr/>
              </p:nvSpPr>
              <p:spPr>
                <a:xfrm rot="2239800">
                  <a:off x="3178080" y="2231640"/>
                  <a:ext cx="3585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Isosceles Triangle 70"/>
                <p:cNvSpPr/>
                <p:nvPr/>
              </p:nvSpPr>
              <p:spPr>
                <a:xfrm rot="5659200">
                  <a:off x="5014080" y="150984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Isosceles Triangle 71"/>
                <p:cNvSpPr/>
                <p:nvPr/>
              </p:nvSpPr>
              <p:spPr>
                <a:xfrm rot="12623400">
                  <a:off x="7040160" y="511128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Isosceles Triangle 72"/>
                <p:cNvSpPr/>
                <p:nvPr/>
              </p:nvSpPr>
              <p:spPr>
                <a:xfrm rot="7923600">
                  <a:off x="6603480" y="228096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Isosceles Triangle 73"/>
                <p:cNvSpPr/>
                <p:nvPr/>
              </p:nvSpPr>
              <p:spPr>
                <a:xfrm rot="18501600">
                  <a:off x="3242880" y="553860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Isosceles Triangle 74"/>
                <p:cNvSpPr/>
                <p:nvPr/>
              </p:nvSpPr>
              <p:spPr>
                <a:xfrm rot="13861800">
                  <a:off x="6027480" y="600192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Isosceles Triangle 75"/>
                <p:cNvSpPr/>
                <p:nvPr/>
              </p:nvSpPr>
              <p:spPr>
                <a:xfrm rot="16801200">
                  <a:off x="4813200" y="626076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Isosceles Triangle 76"/>
                <p:cNvSpPr/>
                <p:nvPr/>
              </p:nvSpPr>
              <p:spPr>
                <a:xfrm rot="10461600">
                  <a:off x="7319520" y="386820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TextBox 47"/>
              <p:cNvSpPr/>
              <p:nvPr/>
            </p:nvSpPr>
            <p:spPr>
              <a:xfrm rot="15177000">
                <a:off x="2502720" y="4564080"/>
                <a:ext cx="116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ite sele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Box 48"/>
              <p:cNvSpPr/>
              <p:nvPr/>
            </p:nvSpPr>
            <p:spPr>
              <a:xfrm rot="15543000">
                <a:off x="2585160" y="4059720"/>
                <a:ext cx="154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Characteris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TextBox 49"/>
              <p:cNvSpPr/>
              <p:nvPr/>
            </p:nvSpPr>
            <p:spPr>
              <a:xfrm rot="17272200">
                <a:off x="2543400" y="315684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ypolog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Box 50"/>
              <p:cNvSpPr/>
              <p:nvPr/>
            </p:nvSpPr>
            <p:spPr>
              <a:xfrm rot="18132000">
                <a:off x="3078360" y="299484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roblem 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Box 51"/>
              <p:cNvSpPr/>
              <p:nvPr/>
            </p:nvSpPr>
            <p:spPr>
              <a:xfrm rot="19540200">
                <a:off x="3205080" y="226692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Op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Box 52"/>
              <p:cNvSpPr/>
              <p:nvPr/>
            </p:nvSpPr>
            <p:spPr>
              <a:xfrm rot="20122800">
                <a:off x="3803040" y="236232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Entry poi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Box 53"/>
              <p:cNvSpPr/>
              <p:nvPr/>
            </p:nvSpPr>
            <p:spPr>
              <a:xfrm rot="217200">
                <a:off x="4754520" y="2107800"/>
                <a:ext cx="10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Research tea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Box 54"/>
              <p:cNvSpPr/>
              <p:nvPr/>
            </p:nvSpPr>
            <p:spPr>
              <a:xfrm rot="907200">
                <a:off x="5308200" y="189216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Model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Box 55"/>
              <p:cNvSpPr/>
              <p:nvPr/>
            </p:nvSpPr>
            <p:spPr>
              <a:xfrm rot="1968600">
                <a:off x="5461200" y="2403360"/>
                <a:ext cx="1312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articipatory evalu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TextBox 56"/>
              <p:cNvSpPr/>
              <p:nvPr/>
            </p:nvSpPr>
            <p:spPr>
              <a:xfrm rot="3493800">
                <a:off x="6319080" y="285948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apt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TextBox 57"/>
              <p:cNvSpPr/>
              <p:nvPr/>
            </p:nvSpPr>
            <p:spPr>
              <a:xfrm rot="4278000">
                <a:off x="6038640" y="3435480"/>
                <a:ext cx="12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Combin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Box 58"/>
              <p:cNvSpPr/>
              <p:nvPr/>
            </p:nvSpPr>
            <p:spPr>
              <a:xfrm rot="4933800">
                <a:off x="6460200" y="3499200"/>
                <a:ext cx="1312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Farm-level imp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Box 59"/>
              <p:cNvSpPr/>
              <p:nvPr/>
            </p:nvSpPr>
            <p:spPr>
              <a:xfrm rot="6523200">
                <a:off x="6014880" y="4361400"/>
                <a:ext cx="1311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ustainability / resilie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TextBox 60"/>
              <p:cNvSpPr/>
              <p:nvPr/>
            </p:nvSpPr>
            <p:spPr>
              <a:xfrm rot="6772200">
                <a:off x="6442920" y="4581000"/>
                <a:ext cx="126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DS too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Box 61"/>
              <p:cNvSpPr/>
              <p:nvPr/>
            </p:nvSpPr>
            <p:spPr>
              <a:xfrm rot="8275200">
                <a:off x="5905440" y="5429520"/>
                <a:ext cx="126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Meta analys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Box 62"/>
              <p:cNvSpPr/>
              <p:nvPr/>
            </p:nvSpPr>
            <p:spPr>
              <a:xfrm rot="9102000">
                <a:off x="5336280" y="520992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Forecast replic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TextBox 63"/>
              <p:cNvSpPr/>
              <p:nvPr/>
            </p:nvSpPr>
            <p:spPr>
              <a:xfrm rot="10084200">
                <a:off x="4894200" y="585000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Validate replic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Box 64"/>
              <p:cNvSpPr/>
              <p:nvPr/>
            </p:nvSpPr>
            <p:spPr>
              <a:xfrm rot="11631000">
                <a:off x="4036680" y="548352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caling approach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Box 65"/>
              <p:cNvSpPr/>
              <p:nvPr/>
            </p:nvSpPr>
            <p:spPr>
              <a:xfrm rot="12174000">
                <a:off x="3740760" y="578376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ggregated imp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Box 66"/>
              <p:cNvSpPr/>
              <p:nvPr/>
            </p:nvSpPr>
            <p:spPr>
              <a:xfrm rot="13439400">
                <a:off x="3100680" y="5019480"/>
                <a:ext cx="1385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Implemntation supp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TextBox 45"/>
            <p:cNvSpPr/>
            <p:nvPr/>
          </p:nvSpPr>
          <p:spPr>
            <a:xfrm rot="20589600">
              <a:off x="4019760" y="1876320"/>
              <a:ext cx="108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" name="Chart 122" descr=""/>
          <p:cNvPicPr/>
          <p:nvPr/>
        </p:nvPicPr>
        <p:blipFill>
          <a:blip r:embed="rId1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96" name="Chart 123" descr=""/>
          <p:cNvPicPr/>
          <p:nvPr/>
        </p:nvPicPr>
        <p:blipFill>
          <a:blip r:embed="rId2"/>
          <a:stretch/>
        </p:blipFill>
        <p:spPr>
          <a:xfrm>
            <a:off x="2862360" y="2428920"/>
            <a:ext cx="4411440" cy="3274920"/>
          </a:xfrm>
          <a:prstGeom prst="rect">
            <a:avLst/>
          </a:prstGeom>
          <a:ln w="0">
            <a:noFill/>
          </a:ln>
        </p:spPr>
      </p:pic>
      <p:pic>
        <p:nvPicPr>
          <p:cNvPr id="97" name="Chart 124" descr=""/>
          <p:cNvPicPr/>
          <p:nvPr/>
        </p:nvPicPr>
        <p:blipFill>
          <a:blip r:embed="rId3"/>
          <a:stretch/>
        </p:blipFill>
        <p:spPr>
          <a:xfrm>
            <a:off x="2862360" y="2425680"/>
            <a:ext cx="4411440" cy="3274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33640" y="36000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Proces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C8B4-F0E3-4142-93D9-F8891340D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79"/>
          <p:cNvSpPr/>
          <p:nvPr/>
        </p:nvSpPr>
        <p:spPr>
          <a:xfrm>
            <a:off x="3792600" y="2925720"/>
            <a:ext cx="1239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R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Situation  analysis and programme-wide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80"/>
          <p:cNvSpPr/>
          <p:nvPr/>
        </p:nvSpPr>
        <p:spPr>
          <a:xfrm>
            <a:off x="5173560" y="3103560"/>
            <a:ext cx="123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R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Integrated system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81"/>
          <p:cNvSpPr/>
          <p:nvPr/>
        </p:nvSpPr>
        <p:spPr>
          <a:xfrm>
            <a:off x="4411800" y="4473720"/>
            <a:ext cx="124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R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Scaling and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and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for targeting and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/ documents to support farmer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 level innovation to support peer-to-pe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ving constraints on collaboration and recipr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A404-6186-48BE-BAAC-997B17E0E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ad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pulses into cereal-bas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alising on tree-livest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feed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ional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-stakeholder approaches for strengthening market function / service deliver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-based Policy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F280-11D6-4A2C-9896-D49B3E370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Partnership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BB64-05FB-445F-B97A-3FCEED513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Rese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CGIAR, NARS, Universities, 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velop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GP initiatives, USAID, 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onor initiatives: DfID, ACIAR, EU, I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Partnershi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Strengthen research capacity / sy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Not re-inventing wheels or inventing new wheels with flat t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rounding the research in development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Opportunities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C072-1B15-4E69-91B6-AC7B9D2DF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8T05:07:45Z</dcterms:modified>
  <cp:revision>87</cp:revision>
  <dc:subject/>
  <dc:title>PowerPoint Presentation</dc:title>
</cp:coreProperties>
</file>