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5.wmf" ContentType="image/x-wmf"/>
  <Override PartName="/ppt/media/image14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5.jpeg" ContentType="image/jpeg"/>
  <Override PartName="/ppt/media/image3.png" ContentType="image/pn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6AF2-B87C-4E41-8273-ABCCAFE6C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548D-0FC7-4BDD-9A93-17C5CB338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490680" y="62388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550800" y="5334120"/>
            <a:ext cx="5794560" cy="2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F876E-2A31-4B35-B129-9F847FB20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490680" y="62244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50440" y="5333760"/>
            <a:ext cx="579276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1F23-60FD-4150-8B7D-E80114767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45875-64F0-4A50-A9A1-CA876A83A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4A339-0A3C-410B-8229-3F8215BB8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F5F1-676E-4A13-A7A9-F62014EEA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490680" y="622440"/>
            <a:ext cx="5822640" cy="43671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550440" y="5334120"/>
            <a:ext cx="579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of FTF goal and objectives and indicators for illustration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BE010-0204-4D93-B977-F1C6227AE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6885-58AF-4978-A5DE-EA1397F1E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A364-3548-4F18-BBFC-79829AD05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12E4C-4E8E-4D5F-8E55-0626E7E81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492120" y="623880"/>
            <a:ext cx="5819760" cy="43657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50800" y="5333760"/>
            <a:ext cx="5794560" cy="128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D046-6826-491D-8838-1638A3CC3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9ED3-06B9-41BB-B502-E9A9CC04F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492120" y="623880"/>
            <a:ext cx="5819760" cy="43657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550800" y="5334120"/>
            <a:ext cx="57945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1958-58C0-4CBE-82C1-AB4905A28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C1F2-1145-4AC3-ADEF-894421BEB5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ECE3-5B3F-42AD-BE0E-5E959AAC7A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60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A4DA7-A9B3-4852-9891-4E7B92320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516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9440" y="3769920"/>
            <a:ext cx="269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228DD-B501-49C4-8BA4-FD85E40B91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7415-472C-496E-B2BB-B3B337D7B4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A1AB-9DBE-424E-A682-D44C80807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585A8-C3CE-4472-B8FF-131A69D97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A120-71BC-4264-A768-5C451BD83E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90920" y="228240"/>
            <a:ext cx="6400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1DC5-5EF1-4053-A456-42597A8A5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74873-53BD-4457-BB3D-C57E01CFC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6040" y="376992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8445-2EC5-4B1D-AAD4-7F897E6033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82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D2573-7E14-4087-A20F-5BF0C5FDEF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D804-259A-4FD0-B831-190A7B001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914400"/>
            <a:ext cx="9144000" cy="2700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9" descr=""/>
          <p:cNvPicPr/>
          <p:nvPr/>
        </p:nvPicPr>
        <p:blipFill>
          <a:blip r:embed="rId2"/>
          <a:stretch/>
        </p:blipFill>
        <p:spPr>
          <a:xfrm>
            <a:off x="88920" y="165240"/>
            <a:ext cx="2286000" cy="6444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2438280" y="304920"/>
            <a:ext cx="228600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19.png"/><Relationship Id="rId11" Type="http://schemas.openxmlformats.org/officeDocument/2006/relationships/image" Target="../media/image19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22240" y="2247840"/>
            <a:ext cx="62895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USAID Ethiopia Feed the Future Strategy Overview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Sustainable Intensification Workshop, ILRI Ethiopia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2960"/>
                </a:solidFill>
                <a:latin typeface="Arial"/>
              </a:rPr>
              <a:t>Cullen Hugh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BottomPlaceholder"/>
          <p:cNvSpPr/>
          <p:nvPr/>
        </p:nvSpPr>
        <p:spPr>
          <a:xfrm>
            <a:off x="0" y="3081240"/>
            <a:ext cx="2238480" cy="3778200"/>
          </a:xfrm>
          <a:prstGeom prst="rect">
            <a:avLst/>
          </a:prstGeom>
          <a:solidFill>
            <a:srgbClr val="0065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itleTopPlaceholder"/>
          <p:cNvSpPr/>
          <p:nvPr/>
        </p:nvSpPr>
        <p:spPr>
          <a:xfrm>
            <a:off x="0" y="936720"/>
            <a:ext cx="2238480" cy="2166840"/>
          </a:xfrm>
          <a:prstGeom prst="rect">
            <a:avLst/>
          </a:prstGeom>
          <a:solidFill>
            <a:srgbClr val="91a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0"/>
            <a:ext cx="9140760" cy="6858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cK Document type"/>
          <p:cNvSpPr/>
          <p:nvPr/>
        </p:nvSpPr>
        <p:spPr>
          <a:xfrm>
            <a:off x="2736720" y="5832000"/>
            <a:ext cx="6392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y 30,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Lockup_ETHIOPIA_RGB_LO"/>
          <p:cNvPicPr/>
          <p:nvPr/>
        </p:nvPicPr>
        <p:blipFill>
          <a:blip r:embed="rId1"/>
          <a:stretch/>
        </p:blipFill>
        <p:spPr>
          <a:xfrm>
            <a:off x="2373480" y="936720"/>
            <a:ext cx="600552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2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E32B-298A-4C24-B302-A99DF8620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1928880" y="1045800"/>
            <a:ext cx="633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FTF nutrition investment – ENGINE Proj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1781280" y="1596960"/>
            <a:ext cx="71215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tion impact a key criteria in prioritizing value chains and PPP with PepsiCO (1,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trition education/behavior change programs (1,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1782720" y="2725560"/>
            <a:ext cx="698976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spcBef>
                <a:spcPts val="601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increasing incomes of vulnerable populations, particularly wo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wasting and micronutrient deficien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601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rdinate PSNP activities with those of the National Nutrition Progra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3"/>
          <p:cNvSpPr/>
          <p:nvPr/>
        </p:nvSpPr>
        <p:spPr>
          <a:xfrm>
            <a:off x="1852560" y="2630520"/>
            <a:ext cx="6337440" cy="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1751040" y="1403280"/>
            <a:ext cx="671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4680" y="228240"/>
            <a:ext cx="43070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ing Nutr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21"/>
          <p:cNvGrpSpPr/>
          <p:nvPr/>
        </p:nvGrpSpPr>
        <p:grpSpPr>
          <a:xfrm>
            <a:off x="131760" y="1300320"/>
            <a:ext cx="1469880" cy="1199520"/>
            <a:chOff x="131760" y="1300320"/>
            <a:chExt cx="1469880" cy="1199520"/>
          </a:xfrm>
        </p:grpSpPr>
        <p:sp>
          <p:nvSpPr>
            <p:cNvPr id="171" name="Rectangle 22"/>
            <p:cNvSpPr/>
            <p:nvPr/>
          </p:nvSpPr>
          <p:spPr>
            <a:xfrm>
              <a:off x="131760" y="1390320"/>
              <a:ext cx="1469880" cy="110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-led Food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24"/>
            <p:cNvSpPr/>
            <p:nvPr/>
          </p:nvSpPr>
          <p:spPr>
            <a:xfrm flipH="1">
              <a:off x="140400" y="1300320"/>
              <a:ext cx="312840" cy="2901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5"/>
          <p:cNvGrpSpPr/>
          <p:nvPr/>
        </p:nvGrpSpPr>
        <p:grpSpPr>
          <a:xfrm>
            <a:off x="140760" y="3083040"/>
            <a:ext cx="1476720" cy="1109520"/>
            <a:chOff x="140760" y="3083040"/>
            <a:chExt cx="1476720" cy="1109520"/>
          </a:xfrm>
        </p:grpSpPr>
        <p:sp>
          <p:nvSpPr>
            <p:cNvPr id="174" name="Rectangle 26"/>
            <p:cNvSpPr/>
            <p:nvPr/>
          </p:nvSpPr>
          <p:spPr>
            <a:xfrm>
              <a:off x="147600" y="3083040"/>
              <a:ext cx="1469880" cy="1109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inking the Vulnerab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8"/>
            <p:cNvSpPr/>
            <p:nvPr/>
          </p:nvSpPr>
          <p:spPr>
            <a:xfrm flipH="1">
              <a:off x="140400" y="3083040"/>
              <a:ext cx="312840" cy="2901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7"/>
          <p:cNvGrpSpPr/>
          <p:nvPr/>
        </p:nvGrpSpPr>
        <p:grpSpPr>
          <a:xfrm>
            <a:off x="147600" y="4508640"/>
            <a:ext cx="8775720" cy="2674800"/>
            <a:chOff x="147600" y="4508640"/>
            <a:chExt cx="8775720" cy="2674800"/>
          </a:xfrm>
        </p:grpSpPr>
        <p:sp>
          <p:nvSpPr>
            <p:cNvPr id="177" name="Text Box 33"/>
            <p:cNvSpPr/>
            <p:nvPr/>
          </p:nvSpPr>
          <p:spPr>
            <a:xfrm>
              <a:off x="1692360" y="4517640"/>
              <a:ext cx="7230960" cy="266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31840" indent="-231840">
                <a:spcBef>
                  <a:spcPts val="601"/>
                </a:spcBef>
                <a:buSzPct val="102837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duct nutrition assessments to improve nutrition impact, analyses to understand impact and cost-effectiveness of various value chain interventions on child malnutr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rengthening capacity of nutrition practitioner/policy mak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spcBef>
                  <a:spcPts val="601"/>
                </a:spcBef>
                <a:buSzPct val="102837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31840" indent="-2318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26"/>
            <p:cNvGrpSpPr/>
            <p:nvPr/>
          </p:nvGrpSpPr>
          <p:grpSpPr>
            <a:xfrm>
              <a:off x="147600" y="4508640"/>
              <a:ext cx="8078760" cy="1473480"/>
              <a:chOff x="147600" y="4508640"/>
              <a:chExt cx="8078760" cy="1473480"/>
            </a:xfrm>
          </p:grpSpPr>
          <p:grpSp>
            <p:nvGrpSpPr>
              <p:cNvPr id="179" name="Group 29"/>
              <p:cNvGrpSpPr/>
              <p:nvPr/>
            </p:nvGrpSpPr>
            <p:grpSpPr>
              <a:xfrm>
                <a:off x="147600" y="4768560"/>
                <a:ext cx="1469880" cy="1213560"/>
                <a:chOff x="147600" y="4768560"/>
                <a:chExt cx="1469880" cy="1213560"/>
              </a:xfrm>
            </p:grpSpPr>
            <p:sp>
              <p:nvSpPr>
                <p:cNvPr id="180" name="Rectangle 30"/>
                <p:cNvSpPr/>
                <p:nvPr/>
              </p:nvSpPr>
              <p:spPr>
                <a:xfrm>
                  <a:off x="147600" y="4872960"/>
                  <a:ext cx="1469880" cy="11091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bbe0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37160" rIns="46800" tIns="46800" bIns="46800" anchor="ctr">
                  <a:noAutofit/>
                </a:bodyPr>
                <a:p>
                  <a:pPr>
                    <a:spcBef>
                      <a:spcPts val="400"/>
                    </a:spcBef>
                    <a:tabLst>
                      <a:tab algn="l" pos="0"/>
                      <a:tab algn="l" pos="895320"/>
                      <a:tab algn="l" pos="1790640"/>
                      <a:tab algn="l" pos="2685960"/>
                      <a:tab algn="l" pos="3581280"/>
                      <a:tab algn="l" pos="4476600"/>
                      <a:tab algn="l" pos="5372280"/>
                      <a:tab algn="l" pos="6267600"/>
                      <a:tab algn="l" pos="7162920"/>
                      <a:tab algn="l" pos="8058240"/>
                      <a:tab algn="l" pos="8953560"/>
                      <a:tab algn="l" pos="9848880"/>
                      <a:tab algn="l" pos="107442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Policy and Capacity Enabler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Oval 32"/>
                <p:cNvSpPr/>
                <p:nvPr/>
              </p:nvSpPr>
              <p:spPr>
                <a:xfrm flipH="1">
                  <a:off x="170640" y="4768560"/>
                  <a:ext cx="312840" cy="290160"/>
                </a:xfrm>
                <a:prstGeom prst="ellipse">
                  <a:avLst/>
                </a:prstGeom>
                <a:solidFill>
                  <a:srgbClr val="333399"/>
                </a:soli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ctr" anchorCtr="1">
                  <a:noAutofit/>
                </a:bodyPr>
                <a:p>
                  <a:pPr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34"/>
              <p:cNvSpPr/>
              <p:nvPr/>
            </p:nvSpPr>
            <p:spPr>
              <a:xfrm>
                <a:off x="1889280" y="4508640"/>
                <a:ext cx="6337080" cy="0"/>
              </a:xfrm>
              <a:prstGeom prst="line">
                <a:avLst/>
              </a:prstGeom>
              <a:ln w="9360">
                <a:solidFill>
                  <a:srgbClr val="0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5FE1-774E-4F46-8857-C3DF6A4A5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560160" y="4729320"/>
            <a:ext cx="78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is is a non-exhaustive list that excludes other USAID EG&amp;T, ALT, OFDA and USDA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at contribute to the Ethiopia FTF Strategy less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1"/>
          <p:cNvSpPr/>
          <p:nvPr/>
        </p:nvSpPr>
        <p:spPr>
          <a:xfrm>
            <a:off x="1236960" y="1146240"/>
            <a:ext cx="60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“Push” and who is “Pull”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539640" y="1684440"/>
            <a:ext cx="94950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6A18-9C81-44C2-B7BF-44FFDDC29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"/>
          <p:cNvSpPr/>
          <p:nvPr/>
        </p:nvSpPr>
        <p:spPr>
          <a:xfrm>
            <a:off x="334080" y="6289560"/>
            <a:ext cx="789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This is a non-exhaustive list that excludes other USAID EG&amp;T, ALT, OFDA and USDA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at contribute to the Ethiopia FTF Strategy less direct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"/>
          <p:cNvPicPr/>
          <p:nvPr/>
        </p:nvPicPr>
        <p:blipFill>
          <a:blip r:embed="rId1"/>
          <a:stretch/>
        </p:blipFill>
        <p:spPr>
          <a:xfrm>
            <a:off x="1057320" y="1060560"/>
            <a:ext cx="735156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EE6F-C511-4176-8403-F6FA0630A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"/>
          <p:cNvPicPr/>
          <p:nvPr/>
        </p:nvPicPr>
        <p:blipFill>
          <a:blip r:embed="rId1"/>
          <a:stretch/>
        </p:blipFill>
        <p:spPr>
          <a:xfrm>
            <a:off x="798480" y="1455840"/>
            <a:ext cx="827892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7FA3-02D6-422B-8925-23FDC174F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1057320" y="1136520"/>
            <a:ext cx="83264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0880" y="11430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C2F60-AEB9-466A-A60C-253387795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2"/>
          <p:cNvSpPr/>
          <p:nvPr/>
        </p:nvSpPr>
        <p:spPr>
          <a:xfrm>
            <a:off x="6781680" y="578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D52F7-86F7-4822-8482-1C00BDBB1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USDA_logo"/>
          <p:cNvPicPr/>
          <p:nvPr/>
        </p:nvPicPr>
        <p:blipFill>
          <a:blip r:embed="rId1"/>
          <a:stretch/>
        </p:blipFill>
        <p:spPr>
          <a:xfrm>
            <a:off x="4408560" y="2638440"/>
            <a:ext cx="1106280" cy="912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US_Department_Logo"/>
          <p:cNvPicPr/>
          <p:nvPr/>
        </p:nvPicPr>
        <p:blipFill>
          <a:blip r:embed="rId2"/>
          <a:stretch/>
        </p:blipFill>
        <p:spPr>
          <a:xfrm>
            <a:off x="2820960" y="2674800"/>
            <a:ext cx="882720" cy="876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DODSeal"/>
          <p:cNvPicPr/>
          <p:nvPr/>
        </p:nvPicPr>
        <p:blipFill>
          <a:blip r:embed="rId3"/>
          <a:stretch/>
        </p:blipFill>
        <p:spPr>
          <a:xfrm>
            <a:off x="7410600" y="2828880"/>
            <a:ext cx="847440" cy="84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peacecorps"/>
          <p:cNvPicPr/>
          <p:nvPr/>
        </p:nvPicPr>
        <p:blipFill>
          <a:blip r:embed="rId4"/>
          <a:stretch/>
        </p:blipFill>
        <p:spPr>
          <a:xfrm>
            <a:off x="6035760" y="2782800"/>
            <a:ext cx="768240" cy="76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USAID: From The American People"/>
          <p:cNvPicPr/>
          <p:nvPr/>
        </p:nvPicPr>
        <p:blipFill>
          <a:blip r:embed="rId5"/>
          <a:srcRect l="14039" t="23094" r="14039" b="23094"/>
          <a:stretch/>
        </p:blipFill>
        <p:spPr>
          <a:xfrm>
            <a:off x="863640" y="2997360"/>
            <a:ext cx="1328760" cy="512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705240" y="1552680"/>
            <a:ext cx="7899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o is in the Ethiopia Feed the Future Tea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 Governm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9"/>
          <p:cNvSpPr/>
          <p:nvPr/>
        </p:nvSpPr>
        <p:spPr>
          <a:xfrm>
            <a:off x="824760" y="3968640"/>
            <a:ext cx="6122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ners and Implementer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vernment of Ethiopia ATA, MOA, M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tional and International Research Institu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contractors/ consulting fir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vate Sector (Public private Partnersh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Rectangle 2"/>
          <p:cNvGrpSpPr/>
          <p:nvPr/>
        </p:nvGrpSpPr>
        <p:grpSpPr>
          <a:xfrm>
            <a:off x="-195120" y="-146160"/>
            <a:ext cx="9534240" cy="1524240"/>
            <a:chOff x="-195120" y="-146160"/>
            <a:chExt cx="9534240" cy="1524240"/>
          </a:xfrm>
        </p:grpSpPr>
        <p:pic>
          <p:nvPicPr>
            <p:cNvPr id="64" name="Rectangle 2" descr=""/>
            <p:cNvPicPr/>
            <p:nvPr/>
          </p:nvPicPr>
          <p:blipFill>
            <a:blip r:embed="rId1"/>
            <a:stretch/>
          </p:blipFill>
          <p:spPr>
            <a:xfrm>
              <a:off x="-195120" y="-146160"/>
              <a:ext cx="95342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0" y="0"/>
              <a:ext cx="91440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866920" y="2282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G&amp;T DO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Diagram 3" descr=""/>
          <p:cNvPicPr/>
          <p:nvPr/>
        </p:nvPicPr>
        <p:blipFill>
          <a:blip r:embed="rId1"/>
          <a:stretch/>
        </p:blipFill>
        <p:spPr>
          <a:xfrm>
            <a:off x="298440" y="1182600"/>
            <a:ext cx="832176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"/>
          <p:cNvPicPr/>
          <p:nvPr/>
        </p:nvPicPr>
        <p:blipFill>
          <a:blip r:embed="rId1"/>
          <a:stretch/>
        </p:blipFill>
        <p:spPr>
          <a:xfrm>
            <a:off x="4952880" y="957240"/>
            <a:ext cx="3988080" cy="2968560"/>
          </a:xfrm>
          <a:prstGeom prst="rect">
            <a:avLst/>
          </a:prstGeom>
          <a:ln w="0">
            <a:noFill/>
          </a:ln>
        </p:spPr>
      </p:pic>
      <p:grpSp>
        <p:nvGrpSpPr>
          <p:cNvPr id="70" name="Group 27"/>
          <p:cNvGrpSpPr/>
          <p:nvPr/>
        </p:nvGrpSpPr>
        <p:grpSpPr>
          <a:xfrm>
            <a:off x="4511520" y="3951360"/>
            <a:ext cx="4451400" cy="2835360"/>
            <a:chOff x="4511520" y="3951360"/>
            <a:chExt cx="4451400" cy="2835360"/>
          </a:xfrm>
        </p:grpSpPr>
        <p:pic>
          <p:nvPicPr>
            <p:cNvPr id="71" name="Picture 2" descr="Herding cattle"/>
            <p:cNvPicPr/>
            <p:nvPr/>
          </p:nvPicPr>
          <p:blipFill>
            <a:blip r:embed="rId2"/>
            <a:stretch/>
          </p:blipFill>
          <p:spPr>
            <a:xfrm>
              <a:off x="4511520" y="3951360"/>
              <a:ext cx="4451400" cy="2835360"/>
            </a:xfrm>
            <a:prstGeom prst="rect">
              <a:avLst/>
            </a:prstGeom>
            <a:ln w="50760">
              <a:solidFill>
                <a:srgbClr val="e68e8e"/>
              </a:solidFill>
              <a:miter/>
            </a:ln>
          </p:spPr>
        </p:pic>
        <p:sp>
          <p:nvSpPr>
            <p:cNvPr id="72" name="Rectangle 3"/>
            <p:cNvSpPr/>
            <p:nvPr/>
          </p:nvSpPr>
          <p:spPr>
            <a:xfrm>
              <a:off x="5430960" y="3976560"/>
              <a:ext cx="285264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“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Pastoral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 Black"/>
                </a:rPr>
                <a:t>   Ethiopia”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4"/>
            <p:cNvSpPr/>
            <p:nvPr/>
          </p:nvSpPr>
          <p:spPr>
            <a:xfrm>
              <a:off x="4648320" y="6059520"/>
              <a:ext cx="325116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large grazing areas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400" spc="-1" strike="noStrike">
                  <a:solidFill>
                    <a:srgbClr val="ffffff"/>
                  </a:solidFill>
                  <a:latin typeface="Arial"/>
                </a:rPr>
                <a:t>irregular climate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Picture 5" descr="DSCN0031"/>
          <p:cNvPicPr/>
          <p:nvPr/>
        </p:nvPicPr>
        <p:blipFill>
          <a:blip r:embed="rId3"/>
          <a:stretch/>
        </p:blipFill>
        <p:spPr>
          <a:xfrm>
            <a:off x="328680" y="3753000"/>
            <a:ext cx="3995640" cy="3011400"/>
          </a:xfrm>
          <a:prstGeom prst="rect">
            <a:avLst/>
          </a:prstGeom>
          <a:ln w="50760">
            <a:solidFill>
              <a:srgbClr val="fde5a1"/>
            </a:solidFill>
            <a:miter/>
          </a:ln>
        </p:spPr>
      </p:pic>
      <p:sp>
        <p:nvSpPr>
          <p:cNvPr id="75" name="Rectangle 6"/>
          <p:cNvSpPr/>
          <p:nvPr/>
        </p:nvSpPr>
        <p:spPr>
          <a:xfrm>
            <a:off x="328680" y="3722760"/>
            <a:ext cx="391140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ungry Ethiopia”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324000" y="3903840"/>
            <a:ext cx="3574800" cy="30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gular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aded soi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landhol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peas_harvesting_at_Chancho_Flowers__usaid_atep_lead_client (01-23-2008)  "/>
          <p:cNvPicPr/>
          <p:nvPr/>
        </p:nvPicPr>
        <p:blipFill>
          <a:blip r:embed="rId4"/>
          <a:stretch/>
        </p:blipFill>
        <p:spPr>
          <a:xfrm>
            <a:off x="187200" y="1022400"/>
            <a:ext cx="4362480" cy="2619360"/>
          </a:xfrm>
          <a:prstGeom prst="rect">
            <a:avLst/>
          </a:prstGeom>
          <a:ln w="50760">
            <a:solidFill>
              <a:srgbClr val="5ead49"/>
            </a:solidFill>
            <a:miter/>
          </a:ln>
        </p:spPr>
      </p:pic>
      <p:sp>
        <p:nvSpPr>
          <p:cNvPr id="78" name="Rectangle 9"/>
          <p:cNvSpPr/>
          <p:nvPr/>
        </p:nvSpPr>
        <p:spPr>
          <a:xfrm>
            <a:off x="0" y="944640"/>
            <a:ext cx="4648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ductive Ethiopia”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85840" y="1509840"/>
            <a:ext cx="4219560" cy="21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larger landhold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predictable cl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ff"/>
                </a:solidFill>
                <a:latin typeface="Arial"/>
              </a:rPr>
              <a:t>fertile so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4800600" y="133200"/>
            <a:ext cx="43434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:                              “Three Ethiopi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 flipH="1" flipV="1">
            <a:off x="4381560" y="1303200"/>
            <a:ext cx="1131840" cy="857520"/>
          </a:xfrm>
          <a:prstGeom prst="line">
            <a:avLst/>
          </a:prstGeom>
          <a:ln w="127080">
            <a:solidFill>
              <a:srgbClr val="5ead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7788240" y="3166920"/>
            <a:ext cx="33480" cy="1008360"/>
          </a:xfrm>
          <a:prstGeom prst="line">
            <a:avLst/>
          </a:prstGeom>
          <a:ln w="127080">
            <a:solidFill>
              <a:srgbClr val="e7898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5"/>
          <p:cNvSpPr/>
          <p:nvPr/>
        </p:nvSpPr>
        <p:spPr>
          <a:xfrm flipH="1">
            <a:off x="4121280" y="3446640"/>
            <a:ext cx="1752480" cy="500040"/>
          </a:xfrm>
          <a:prstGeom prst="line">
            <a:avLst/>
          </a:prstGeom>
          <a:ln w="127080">
            <a:solidFill>
              <a:srgbClr val="fde5a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3809520" y="323856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3142800" y="63817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-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0"/>
          <p:cNvSpPr/>
          <p:nvPr/>
        </p:nvSpPr>
        <p:spPr>
          <a:xfrm>
            <a:off x="7778520" y="63993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-14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6781680" y="6132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6D44-6264-4E2A-ADED-2DE9F63C7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6"/>
          <p:cNvSpPr/>
          <p:nvPr/>
        </p:nvSpPr>
        <p:spPr>
          <a:xfrm>
            <a:off x="1486080" y="1638360"/>
            <a:ext cx="3230280" cy="2897280"/>
          </a:xfrm>
          <a:prstGeom prst="ellipse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3"/>
          <p:cNvSpPr/>
          <p:nvPr/>
        </p:nvSpPr>
        <p:spPr>
          <a:xfrm>
            <a:off x="1663560" y="1623960"/>
            <a:ext cx="2932200" cy="27147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4243320" y="1623960"/>
            <a:ext cx="2932200" cy="27147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2952720" y="3684600"/>
            <a:ext cx="2933640" cy="271296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Oval 7"/>
          <p:cNvGrpSpPr/>
          <p:nvPr/>
        </p:nvGrpSpPr>
        <p:grpSpPr>
          <a:xfrm>
            <a:off x="4237200" y="1657440"/>
            <a:ext cx="2846160" cy="2738520"/>
            <a:chOff x="4237200" y="1657440"/>
            <a:chExt cx="2846160" cy="2738520"/>
          </a:xfrm>
        </p:grpSpPr>
        <p:pic>
          <p:nvPicPr>
            <p:cNvPr id="93" name="Oval 7" descr=""/>
            <p:cNvPicPr/>
            <p:nvPr/>
          </p:nvPicPr>
          <p:blipFill>
            <a:blip r:embed="rId1"/>
            <a:stretch/>
          </p:blipFill>
          <p:spPr>
            <a:xfrm>
              <a:off x="4237200" y="1657440"/>
              <a:ext cx="2846160" cy="273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660920" y="2065320"/>
              <a:ext cx="1996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Oval 8"/>
          <p:cNvSpPr/>
          <p:nvPr/>
        </p:nvSpPr>
        <p:spPr>
          <a:xfrm>
            <a:off x="1765440" y="1649520"/>
            <a:ext cx="2824200" cy="27144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Oval 9"/>
          <p:cNvGrpSpPr/>
          <p:nvPr/>
        </p:nvGrpSpPr>
        <p:grpSpPr>
          <a:xfrm>
            <a:off x="3005280" y="3700440"/>
            <a:ext cx="2846160" cy="2736720"/>
            <a:chOff x="3005280" y="3700440"/>
            <a:chExt cx="2846160" cy="2736720"/>
          </a:xfrm>
        </p:grpSpPr>
        <p:pic>
          <p:nvPicPr>
            <p:cNvPr id="97" name="Oval 9" descr=""/>
            <p:cNvPicPr/>
            <p:nvPr/>
          </p:nvPicPr>
          <p:blipFill>
            <a:blip r:embed="rId3"/>
            <a:stretch/>
          </p:blipFill>
          <p:spPr>
            <a:xfrm>
              <a:off x="3005280" y="3700440"/>
              <a:ext cx="2846160" cy="27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3429000" y="4106880"/>
              <a:ext cx="1996920" cy="19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Freeform 10"/>
          <p:cNvSpPr/>
          <p:nvPr/>
        </p:nvSpPr>
        <p:spPr>
          <a:xfrm>
            <a:off x="4460760" y="3713040"/>
            <a:ext cx="1160640" cy="657360"/>
          </a:xfrm>
          <a:custGeom>
            <a:avLst/>
            <a:gdLst>
              <a:gd name="textAreaLeft" fmla="*/ 0 w 1160640"/>
              <a:gd name="textAreaRight" fmla="*/ 1161000 w 116064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760" h="423">
                <a:moveTo>
                  <a:pt x="0" y="0"/>
                </a:moveTo>
                <a:lnTo>
                  <a:pt x="52" y="0"/>
                </a:lnTo>
                <a:lnTo>
                  <a:pt x="118" y="9"/>
                </a:lnTo>
                <a:lnTo>
                  <a:pt x="186" y="24"/>
                </a:lnTo>
                <a:lnTo>
                  <a:pt x="253" y="42"/>
                </a:lnTo>
                <a:lnTo>
                  <a:pt x="315" y="63"/>
                </a:lnTo>
                <a:lnTo>
                  <a:pt x="388" y="93"/>
                </a:lnTo>
                <a:lnTo>
                  <a:pt x="448" y="126"/>
                </a:lnTo>
                <a:lnTo>
                  <a:pt x="523" y="174"/>
                </a:lnTo>
                <a:lnTo>
                  <a:pt x="577" y="219"/>
                </a:lnTo>
                <a:lnTo>
                  <a:pt x="640" y="279"/>
                </a:lnTo>
                <a:lnTo>
                  <a:pt x="696" y="339"/>
                </a:lnTo>
                <a:lnTo>
                  <a:pt x="760" y="423"/>
                </a:lnTo>
                <a:lnTo>
                  <a:pt x="694" y="420"/>
                </a:lnTo>
                <a:lnTo>
                  <a:pt x="610" y="410"/>
                </a:lnTo>
                <a:lnTo>
                  <a:pt x="532" y="393"/>
                </a:lnTo>
                <a:lnTo>
                  <a:pt x="451" y="366"/>
                </a:lnTo>
                <a:lnTo>
                  <a:pt x="397" y="342"/>
                </a:lnTo>
                <a:lnTo>
                  <a:pt x="330" y="311"/>
                </a:lnTo>
                <a:lnTo>
                  <a:pt x="271" y="275"/>
                </a:lnTo>
                <a:lnTo>
                  <a:pt x="214" y="237"/>
                </a:lnTo>
                <a:lnTo>
                  <a:pt x="163" y="192"/>
                </a:lnTo>
                <a:lnTo>
                  <a:pt x="112" y="147"/>
                </a:lnTo>
                <a:lnTo>
                  <a:pt x="79" y="111"/>
                </a:lnTo>
                <a:lnTo>
                  <a:pt x="43" y="66"/>
                </a:lnTo>
                <a:lnTo>
                  <a:pt x="21" y="30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3240000" y="3713040"/>
            <a:ext cx="1144800" cy="650880"/>
          </a:xfrm>
          <a:custGeom>
            <a:avLst/>
            <a:gdLst>
              <a:gd name="textAreaLeft" fmla="*/ 0 w 1144800"/>
              <a:gd name="textAreaRight" fmla="*/ 1145160 w 11448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750" h="420">
                <a:moveTo>
                  <a:pt x="750" y="0"/>
                </a:moveTo>
                <a:lnTo>
                  <a:pt x="736" y="23"/>
                </a:lnTo>
                <a:lnTo>
                  <a:pt x="714" y="54"/>
                </a:lnTo>
                <a:lnTo>
                  <a:pt x="687" y="90"/>
                </a:lnTo>
                <a:lnTo>
                  <a:pt x="660" y="120"/>
                </a:lnTo>
                <a:lnTo>
                  <a:pt x="639" y="146"/>
                </a:lnTo>
                <a:lnTo>
                  <a:pt x="612" y="168"/>
                </a:lnTo>
                <a:lnTo>
                  <a:pt x="573" y="206"/>
                </a:lnTo>
                <a:lnTo>
                  <a:pt x="537" y="234"/>
                </a:lnTo>
                <a:lnTo>
                  <a:pt x="496" y="264"/>
                </a:lnTo>
                <a:lnTo>
                  <a:pt x="451" y="293"/>
                </a:lnTo>
                <a:lnTo>
                  <a:pt x="409" y="317"/>
                </a:lnTo>
                <a:lnTo>
                  <a:pt x="366" y="336"/>
                </a:lnTo>
                <a:lnTo>
                  <a:pt x="316" y="357"/>
                </a:lnTo>
                <a:lnTo>
                  <a:pt x="268" y="374"/>
                </a:lnTo>
                <a:lnTo>
                  <a:pt x="210" y="392"/>
                </a:lnTo>
                <a:lnTo>
                  <a:pt x="148" y="405"/>
                </a:lnTo>
                <a:lnTo>
                  <a:pt x="93" y="414"/>
                </a:lnTo>
                <a:lnTo>
                  <a:pt x="43" y="419"/>
                </a:lnTo>
                <a:lnTo>
                  <a:pt x="0" y="420"/>
                </a:lnTo>
                <a:lnTo>
                  <a:pt x="21" y="386"/>
                </a:lnTo>
                <a:lnTo>
                  <a:pt x="40" y="357"/>
                </a:lnTo>
                <a:lnTo>
                  <a:pt x="64" y="329"/>
                </a:lnTo>
                <a:lnTo>
                  <a:pt x="93" y="294"/>
                </a:lnTo>
                <a:lnTo>
                  <a:pt x="123" y="263"/>
                </a:lnTo>
                <a:lnTo>
                  <a:pt x="159" y="231"/>
                </a:lnTo>
                <a:lnTo>
                  <a:pt x="196" y="198"/>
                </a:lnTo>
                <a:lnTo>
                  <a:pt x="235" y="168"/>
                </a:lnTo>
                <a:lnTo>
                  <a:pt x="265" y="149"/>
                </a:lnTo>
                <a:lnTo>
                  <a:pt x="300" y="126"/>
                </a:lnTo>
                <a:lnTo>
                  <a:pt x="345" y="104"/>
                </a:lnTo>
                <a:lnTo>
                  <a:pt x="387" y="83"/>
                </a:lnTo>
                <a:lnTo>
                  <a:pt x="429" y="66"/>
                </a:lnTo>
                <a:lnTo>
                  <a:pt x="469" y="51"/>
                </a:lnTo>
                <a:lnTo>
                  <a:pt x="505" y="39"/>
                </a:lnTo>
                <a:lnTo>
                  <a:pt x="544" y="27"/>
                </a:lnTo>
                <a:lnTo>
                  <a:pt x="583" y="18"/>
                </a:lnTo>
                <a:lnTo>
                  <a:pt x="630" y="11"/>
                </a:lnTo>
                <a:lnTo>
                  <a:pt x="679" y="3"/>
                </a:lnTo>
                <a:lnTo>
                  <a:pt x="733" y="0"/>
                </a:lnTo>
                <a:lnTo>
                  <a:pt x="75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2"/>
          <p:cNvSpPr/>
          <p:nvPr/>
        </p:nvSpPr>
        <p:spPr>
          <a:xfrm rot="18013800">
            <a:off x="3890160" y="2688120"/>
            <a:ext cx="1073160" cy="639720"/>
          </a:xfrm>
          <a:custGeom>
            <a:avLst/>
            <a:gdLst>
              <a:gd name="textAreaLeft" fmla="*/ 0 w 1073160"/>
              <a:gd name="textAreaRight" fmla="*/ 1073520 w 10731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750" h="420">
                <a:moveTo>
                  <a:pt x="750" y="0"/>
                </a:moveTo>
                <a:lnTo>
                  <a:pt x="736" y="23"/>
                </a:lnTo>
                <a:lnTo>
                  <a:pt x="714" y="54"/>
                </a:lnTo>
                <a:lnTo>
                  <a:pt x="687" y="90"/>
                </a:lnTo>
                <a:lnTo>
                  <a:pt x="660" y="120"/>
                </a:lnTo>
                <a:lnTo>
                  <a:pt x="639" y="146"/>
                </a:lnTo>
                <a:lnTo>
                  <a:pt x="612" y="168"/>
                </a:lnTo>
                <a:lnTo>
                  <a:pt x="573" y="206"/>
                </a:lnTo>
                <a:lnTo>
                  <a:pt x="537" y="234"/>
                </a:lnTo>
                <a:lnTo>
                  <a:pt x="496" y="264"/>
                </a:lnTo>
                <a:lnTo>
                  <a:pt x="451" y="293"/>
                </a:lnTo>
                <a:lnTo>
                  <a:pt x="409" y="317"/>
                </a:lnTo>
                <a:lnTo>
                  <a:pt x="366" y="336"/>
                </a:lnTo>
                <a:lnTo>
                  <a:pt x="316" y="357"/>
                </a:lnTo>
                <a:lnTo>
                  <a:pt x="268" y="374"/>
                </a:lnTo>
                <a:lnTo>
                  <a:pt x="210" y="392"/>
                </a:lnTo>
                <a:lnTo>
                  <a:pt x="148" y="405"/>
                </a:lnTo>
                <a:lnTo>
                  <a:pt x="93" y="414"/>
                </a:lnTo>
                <a:lnTo>
                  <a:pt x="43" y="419"/>
                </a:lnTo>
                <a:lnTo>
                  <a:pt x="0" y="420"/>
                </a:lnTo>
                <a:lnTo>
                  <a:pt x="21" y="386"/>
                </a:lnTo>
                <a:lnTo>
                  <a:pt x="40" y="357"/>
                </a:lnTo>
                <a:lnTo>
                  <a:pt x="64" y="329"/>
                </a:lnTo>
                <a:lnTo>
                  <a:pt x="93" y="294"/>
                </a:lnTo>
                <a:lnTo>
                  <a:pt x="123" y="263"/>
                </a:lnTo>
                <a:lnTo>
                  <a:pt x="159" y="231"/>
                </a:lnTo>
                <a:lnTo>
                  <a:pt x="196" y="198"/>
                </a:lnTo>
                <a:lnTo>
                  <a:pt x="235" y="168"/>
                </a:lnTo>
                <a:lnTo>
                  <a:pt x="265" y="149"/>
                </a:lnTo>
                <a:lnTo>
                  <a:pt x="300" y="126"/>
                </a:lnTo>
                <a:lnTo>
                  <a:pt x="345" y="104"/>
                </a:lnTo>
                <a:lnTo>
                  <a:pt x="387" y="83"/>
                </a:lnTo>
                <a:lnTo>
                  <a:pt x="429" y="66"/>
                </a:lnTo>
                <a:lnTo>
                  <a:pt x="469" y="51"/>
                </a:lnTo>
                <a:lnTo>
                  <a:pt x="505" y="39"/>
                </a:lnTo>
                <a:lnTo>
                  <a:pt x="544" y="27"/>
                </a:lnTo>
                <a:lnTo>
                  <a:pt x="583" y="18"/>
                </a:lnTo>
                <a:lnTo>
                  <a:pt x="630" y="11"/>
                </a:lnTo>
                <a:lnTo>
                  <a:pt x="679" y="3"/>
                </a:lnTo>
                <a:lnTo>
                  <a:pt x="733" y="0"/>
                </a:lnTo>
                <a:lnTo>
                  <a:pt x="750" y="0"/>
                </a:lnTo>
                <a:close/>
              </a:path>
            </a:pathLst>
          </a:custGeom>
          <a:solidFill>
            <a:srgbClr val="333399"/>
          </a:solidFill>
          <a:ln cap="rnd"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3"/>
          <p:cNvSpPr/>
          <p:nvPr/>
        </p:nvSpPr>
        <p:spPr>
          <a:xfrm>
            <a:off x="1765440" y="1649520"/>
            <a:ext cx="2824200" cy="27144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4"/>
          <p:cNvSpPr/>
          <p:nvPr/>
        </p:nvSpPr>
        <p:spPr>
          <a:xfrm>
            <a:off x="4246560" y="1666800"/>
            <a:ext cx="2825640" cy="27162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5"/>
          <p:cNvSpPr/>
          <p:nvPr/>
        </p:nvSpPr>
        <p:spPr>
          <a:xfrm>
            <a:off x="3016080" y="3710160"/>
            <a:ext cx="2824200" cy="271440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7"/>
          <p:cNvSpPr/>
          <p:nvPr/>
        </p:nvSpPr>
        <p:spPr>
          <a:xfrm>
            <a:off x="3016080" y="3710160"/>
            <a:ext cx="2824200" cy="2714400"/>
          </a:xfrm>
          <a:prstGeom prst="ellipse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8"/>
          <p:cNvSpPr/>
          <p:nvPr/>
        </p:nvSpPr>
        <p:spPr>
          <a:xfrm>
            <a:off x="4246560" y="1666800"/>
            <a:ext cx="2825640" cy="2716200"/>
          </a:xfrm>
          <a:prstGeom prst="ellipse">
            <a:avLst/>
          </a:prstGeom>
          <a:solidFill>
            <a:srgbClr val="ffffff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1922400" y="2931840"/>
            <a:ext cx="23907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ricultu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4537080" y="2417040"/>
            <a:ext cx="23511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tainable livelihoods for chronically vulne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3271680" y="4658760"/>
            <a:ext cx="23101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y development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3"/>
          <p:cNvSpPr/>
          <p:nvPr/>
        </p:nvSpPr>
        <p:spPr>
          <a:xfrm>
            <a:off x="457200" y="87480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AID/Ethiopia strategy has three interlinke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ocus Area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at drive food security and nutrition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1"/>
          <p:cNvSpPr/>
          <p:nvPr/>
        </p:nvSpPr>
        <p:spPr>
          <a:xfrm>
            <a:off x="7172280" y="2401920"/>
            <a:ext cx="1470240" cy="11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468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king the Vulne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5"/>
          <p:cNvSpPr/>
          <p:nvPr/>
        </p:nvSpPr>
        <p:spPr>
          <a:xfrm>
            <a:off x="5915160" y="4819680"/>
            <a:ext cx="1469880" cy="1109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7160" rIns="468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icy and Capacity Enab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155520" y="2017800"/>
            <a:ext cx="1581120" cy="1390680"/>
            <a:chOff x="155520" y="2017800"/>
            <a:chExt cx="1581120" cy="1390680"/>
          </a:xfrm>
        </p:grpSpPr>
        <p:sp>
          <p:nvSpPr>
            <p:cNvPr id="114" name="Rectangle 10"/>
            <p:cNvSpPr/>
            <p:nvPr/>
          </p:nvSpPr>
          <p:spPr>
            <a:xfrm>
              <a:off x="184320" y="2275920"/>
              <a:ext cx="1470240" cy="1110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46800" tIns="46800" bIns="46800" anchor="ctr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895320"/>
                  <a:tab algn="l" pos="1790640"/>
                  <a:tab algn="l" pos="2685960"/>
                  <a:tab algn="l" pos="3581280"/>
                  <a:tab algn="l" pos="4476600"/>
                  <a:tab algn="l" pos="5372280"/>
                  <a:tab algn="l" pos="6267600"/>
                  <a:tab algn="l" pos="7162920"/>
                  <a:tab algn="l" pos="8058240"/>
                  <a:tab algn="l" pos="8953560"/>
                  <a:tab algn="l" pos="9848880"/>
                  <a:tab algn="l" pos="107442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rowth-led Food Secur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 flipH="1">
              <a:off x="155520" y="2017800"/>
              <a:ext cx="1581120" cy="414360"/>
            </a:xfrm>
            <a:prstGeom prst="ellipse">
              <a:avLst/>
            </a:prstGeom>
            <a:solidFill>
              <a:srgbClr val="333399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COMPONENT 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1"/>
            <p:cNvSpPr/>
            <p:nvPr/>
          </p:nvSpPr>
          <p:spPr>
            <a:xfrm>
              <a:off x="1073520" y="3133800"/>
              <a:ext cx="582480" cy="27468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8080" rIns="28080" tIns="28080" bIns="2808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60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Rectangle 32"/>
          <p:cNvSpPr/>
          <p:nvPr/>
        </p:nvSpPr>
        <p:spPr>
          <a:xfrm>
            <a:off x="8058240" y="3249720"/>
            <a:ext cx="588960" cy="274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6821640" y="5670720"/>
            <a:ext cx="588960" cy="274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8080" rIns="28080" tIns="28080" bIns="2808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89000" y="3424320"/>
            <a:ext cx="166032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01"/>
              </a:spcBef>
              <a:buSzPct val="102837"/>
              <a:buBlip>
                <a:blip r:embed="rId4"/>
              </a:buBlip>
              <a:tabLst>
                <a:tab algn="r" pos="706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vulnerable productive Ethiopia to market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2"/>
          <p:cNvSpPr/>
          <p:nvPr/>
        </p:nvSpPr>
        <p:spPr>
          <a:xfrm flipH="1">
            <a:off x="7047720" y="2048040"/>
            <a:ext cx="1884600" cy="41400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2"/>
          <p:cNvSpPr/>
          <p:nvPr/>
        </p:nvSpPr>
        <p:spPr>
          <a:xfrm flipH="1">
            <a:off x="5705640" y="4456080"/>
            <a:ext cx="1884240" cy="41436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OMPONENT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DSCN0031"/>
          <p:cNvPicPr/>
          <p:nvPr/>
        </p:nvPicPr>
        <p:blipFill>
          <a:blip r:embed="rId5"/>
          <a:stretch/>
        </p:blipFill>
        <p:spPr>
          <a:xfrm>
            <a:off x="1765440" y="6058080"/>
            <a:ext cx="4884480" cy="731520"/>
          </a:xfrm>
          <a:prstGeom prst="rect">
            <a:avLst/>
          </a:prstGeom>
          <a:ln w="50760">
            <a:solidFill>
              <a:srgbClr val="fde5a1"/>
            </a:solidFill>
            <a:miter/>
          </a:ln>
        </p:spPr>
      </p:pic>
      <p:sp>
        <p:nvSpPr>
          <p:cNvPr id="123" name="Rectangle 21"/>
          <p:cNvSpPr/>
          <p:nvPr/>
        </p:nvSpPr>
        <p:spPr>
          <a:xfrm>
            <a:off x="1549440" y="6113880"/>
            <a:ext cx="535608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ss Cutt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trition, Climate Change Govern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7116840" y="3576600"/>
            <a:ext cx="166032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69920" indent="-169920">
              <a:spcBef>
                <a:spcPts val="601"/>
              </a:spcBef>
              <a:buSzPct val="102837"/>
              <a:buBlip>
                <a:blip r:embed="rId6"/>
              </a:buBlip>
              <a:tabLst>
                <a:tab algn="r" pos="706896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vulnerable populations into “Productive Ethiop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1"/>
          <p:cNvSpPr/>
          <p:nvPr/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65F3-1C91-41C6-A6F8-5CCE7BDA2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434880" y="1363680"/>
            <a:ext cx="7997760" cy="58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gricultural Growth Program (AG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agricultural productivity and market access for key crop and livestock products in the productive highlands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83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 in Productive Ethiop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1-15)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320 m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World Bank; USG; Canadian International Development Agency [CIDA]; Spain; Netherlands; Finland; UNDP; Global Agriculture and Food Security Program [GAFSP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) Sustainable Land Management Program (SLM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  to improve the livelihood of land users while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estoring ecosystem functions and ensuring sustainable land management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2-16), $150 m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orld Bank; USG; Finland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) Productive Safety Net Program (PSN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GoE’s overall umbrella Food Security Program (FSP).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300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in Hungry Ethiopia plus parts of Pastoral Ethiopia. 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2010-14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), $1.8 billion progra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SG, World Bank, CIDA, Swiss International Development Agency, Irish Agency for International Development [Irish AID], United Kingdom Department for International Development [DfID], Denmark, EU and World Food Program [WFP]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) Household Asset Building Program (HABP)-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to graduate 80 percent of PSNP beneficiaries by 2014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Geographic Area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300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woredas in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Hungry Ethiopia plus parts of Pastoral Ethiopia.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ive years (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010-14),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$648 mill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onors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World Bank, Irish AID, DfID, CIDA and US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latform Programs in Other Key Areas: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tional Nutrition Strategy (NNS) and Climate Resilient Green Economy Strategy (CRG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-39600" y="1003320"/>
            <a:ext cx="933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ADP POLICY AND INVESTMENT FRAMEWORK PRIORITY INVESTMENTS – GOE PLATFORM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2"/>
          <p:cNvSpPr/>
          <p:nvPr/>
        </p:nvSpPr>
        <p:spPr>
          <a:xfrm>
            <a:off x="6781680" y="59151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82BF-DEB6-4723-8BE3-1F57ED555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554040" y="2384280"/>
            <a:ext cx="3863520" cy="869760"/>
            <a:chOff x="554040" y="2384280"/>
            <a:chExt cx="3863520" cy="869760"/>
          </a:xfrm>
        </p:grpSpPr>
        <p:sp>
          <p:nvSpPr>
            <p:cNvPr id="130" name="Freeform 3"/>
            <p:cNvSpPr/>
            <p:nvPr/>
          </p:nvSpPr>
          <p:spPr>
            <a:xfrm>
              <a:off x="3533040" y="2385000"/>
              <a:ext cx="882360" cy="72684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533" h="796">
                  <a:moveTo>
                    <a:pt x="533" y="0"/>
                  </a:moveTo>
                  <a:lnTo>
                    <a:pt x="533" y="694"/>
                  </a:lnTo>
                  <a:lnTo>
                    <a:pt x="59" y="796"/>
                  </a:lnTo>
                  <a:lnTo>
                    <a:pt x="0" y="76"/>
                  </a:lnTo>
                  <a:lnTo>
                    <a:pt x="533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2088000" y="2457720"/>
              <a:ext cx="1574640" cy="796320"/>
            </a:xfrm>
            <a:custGeom>
              <a:avLst/>
              <a:gdLst>
                <a:gd name="textAreaLeft" fmla="*/ 0 w 1574640"/>
                <a:gd name="textAreaRight" fmla="*/ 1575000 w 1574640"/>
                <a:gd name="textAreaTop" fmla="*/ 0 h 796320"/>
                <a:gd name="textAreaBottom" fmla="*/ 796680 h 796320"/>
              </a:gdLst>
              <a:ahLst/>
              <a:rect l="textAreaLeft" t="textAreaTop" r="textAreaRight" b="textAreaBottom"/>
              <a:pathLst>
                <a:path w="712" h="626">
                  <a:moveTo>
                    <a:pt x="712" y="0"/>
                  </a:moveTo>
                  <a:lnTo>
                    <a:pt x="712" y="516"/>
                  </a:lnTo>
                  <a:lnTo>
                    <a:pt x="0" y="626"/>
                  </a:lnTo>
                  <a:lnTo>
                    <a:pt x="483" y="33"/>
                  </a:lnTo>
                  <a:lnTo>
                    <a:pt x="712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5"/>
            <p:cNvSpPr/>
            <p:nvPr/>
          </p:nvSpPr>
          <p:spPr>
            <a:xfrm>
              <a:off x="554040" y="2447280"/>
              <a:ext cx="3147840" cy="803880"/>
            </a:xfrm>
            <a:custGeom>
              <a:avLst/>
              <a:gdLst>
                <a:gd name="textAreaLeft" fmla="*/ 0 w 3147840"/>
                <a:gd name="textAreaRight" fmla="*/ 3148200 w 3147840"/>
                <a:gd name="textAreaTop" fmla="*/ 0 h 803880"/>
                <a:gd name="textAreaBottom" fmla="*/ 804240 h 803880"/>
              </a:gdLst>
              <a:ahLst/>
              <a:rect l="textAreaLeft" t="textAreaTop" r="textAreaRight" b="textAreaBottom"/>
              <a:pathLst>
                <a:path w="1423" h="644">
                  <a:moveTo>
                    <a:pt x="0" y="644"/>
                  </a:moveTo>
                  <a:lnTo>
                    <a:pt x="720" y="644"/>
                  </a:lnTo>
                  <a:lnTo>
                    <a:pt x="1423" y="0"/>
                  </a:lnTo>
                  <a:lnTo>
                    <a:pt x="804" y="0"/>
                  </a:lnTo>
                  <a:lnTo>
                    <a:pt x="0" y="6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6"/>
            <p:cNvSpPr/>
            <p:nvPr/>
          </p:nvSpPr>
          <p:spPr>
            <a:xfrm>
              <a:off x="2297520" y="2384280"/>
              <a:ext cx="2120040" cy="76680"/>
            </a:xfrm>
            <a:custGeom>
              <a:avLst/>
              <a:gdLst>
                <a:gd name="textAreaLeft" fmla="*/ 0 w 2120040"/>
                <a:gd name="textAreaRight" fmla="*/ 2120400 w 21200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280" h="84">
                  <a:moveTo>
                    <a:pt x="0" y="68"/>
                  </a:moveTo>
                  <a:lnTo>
                    <a:pt x="525" y="0"/>
                  </a:lnTo>
                  <a:lnTo>
                    <a:pt x="1280" y="0"/>
                  </a:lnTo>
                  <a:lnTo>
                    <a:pt x="805" y="8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7"/>
            <p:cNvSpPr/>
            <p:nvPr/>
          </p:nvSpPr>
          <p:spPr>
            <a:xfrm>
              <a:off x="1523160" y="2510280"/>
              <a:ext cx="1365480" cy="569520"/>
            </a:xfrm>
            <a:custGeom>
              <a:avLst/>
              <a:gdLst>
                <a:gd name="textAreaLeft" fmla="*/ 0 w 1365480"/>
                <a:gd name="textAreaRight" fmla="*/ 1365480 w 1365480"/>
                <a:gd name="textAreaTop" fmla="*/ 0 h 569520"/>
                <a:gd name="textAreaBottom" fmla="*/ 569880 h 569520"/>
              </a:gdLst>
              <a:ahLst/>
              <a:rect l="textAreaLeft" t="textAreaTop" r="textAreaRight" b="textAreaBottom"/>
              <a:pathLst>
                <a:path w="824" h="624">
                  <a:moveTo>
                    <a:pt x="240" y="624"/>
                  </a:moveTo>
                  <a:lnTo>
                    <a:pt x="0" y="624"/>
                  </a:lnTo>
                  <a:lnTo>
                    <a:pt x="560" y="120"/>
                  </a:lnTo>
                  <a:lnTo>
                    <a:pt x="424" y="112"/>
                  </a:lnTo>
                  <a:lnTo>
                    <a:pt x="736" y="0"/>
                  </a:lnTo>
                  <a:lnTo>
                    <a:pt x="824" y="176"/>
                  </a:lnTo>
                  <a:lnTo>
                    <a:pt x="720" y="152"/>
                  </a:lnTo>
                  <a:lnTo>
                    <a:pt x="240" y="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8"/>
            <p:cNvGrpSpPr/>
            <p:nvPr/>
          </p:nvGrpSpPr>
          <p:grpSpPr>
            <a:xfrm>
              <a:off x="1304280" y="2841480"/>
              <a:ext cx="682560" cy="392400"/>
              <a:chOff x="1304280" y="2841480"/>
              <a:chExt cx="682560" cy="392400"/>
            </a:xfrm>
          </p:grpSpPr>
          <p:sp>
            <p:nvSpPr>
              <p:cNvPr id="136" name="Oval 9"/>
              <p:cNvSpPr/>
              <p:nvPr/>
            </p:nvSpPr>
            <p:spPr>
              <a:xfrm>
                <a:off x="1304280" y="2859840"/>
                <a:ext cx="682560" cy="37404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10"/>
              <p:cNvSpPr/>
              <p:nvPr/>
            </p:nvSpPr>
            <p:spPr>
              <a:xfrm rot="20286600">
                <a:off x="1362600" y="2910960"/>
                <a:ext cx="389520" cy="75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WordArt 11"/>
              <p:cNvSpPr txBox="1"/>
              <p:nvPr/>
            </p:nvSpPr>
            <p:spPr>
              <a:xfrm>
                <a:off x="1436400" y="2994480"/>
                <a:ext cx="417960" cy="1044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PUSH</a:t>
                </a:r>
                <a:endParaRPr b="0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39" name="Rectangle 12"/>
          <p:cNvSpPr/>
          <p:nvPr/>
        </p:nvSpPr>
        <p:spPr>
          <a:xfrm>
            <a:off x="184320" y="1824120"/>
            <a:ext cx="8781840" cy="4494240"/>
          </a:xfrm>
          <a:prstGeom prst="rect">
            <a:avLst/>
          </a:prstGeom>
          <a:noFill/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4575240" y="1809720"/>
            <a:ext cx="0" cy="4492800"/>
          </a:xfrm>
          <a:prstGeom prst="line">
            <a:avLst/>
          </a:prstGeom>
          <a:ln w="1908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"/>
          <p:cNvGrpSpPr/>
          <p:nvPr/>
        </p:nvGrpSpPr>
        <p:grpSpPr>
          <a:xfrm>
            <a:off x="4762080" y="2368440"/>
            <a:ext cx="3866760" cy="868320"/>
            <a:chOff x="4762080" y="2368440"/>
            <a:chExt cx="3866760" cy="868320"/>
          </a:xfrm>
        </p:grpSpPr>
        <p:sp>
          <p:nvSpPr>
            <p:cNvPr id="142" name="Freeform 15"/>
            <p:cNvSpPr/>
            <p:nvPr/>
          </p:nvSpPr>
          <p:spPr>
            <a:xfrm flipH="1">
              <a:off x="4764240" y="2369160"/>
              <a:ext cx="882720" cy="726120"/>
            </a:xfrm>
            <a:custGeom>
              <a:avLst/>
              <a:gdLst>
                <a:gd name="textAreaLeft" fmla="*/ 360 w 882720"/>
                <a:gd name="textAreaRight" fmla="*/ 883440 w 882720"/>
                <a:gd name="textAreaTop" fmla="*/ 0 h 726120"/>
                <a:gd name="textAreaBottom" fmla="*/ 726120 h 726120"/>
              </a:gdLst>
              <a:ahLst/>
              <a:rect l="textAreaLeft" t="textAreaTop" r="textAreaRight" b="textAreaBottom"/>
              <a:pathLst>
                <a:path w="533" h="796">
                  <a:moveTo>
                    <a:pt x="533" y="0"/>
                  </a:moveTo>
                  <a:lnTo>
                    <a:pt x="533" y="694"/>
                  </a:lnTo>
                  <a:lnTo>
                    <a:pt x="59" y="796"/>
                  </a:lnTo>
                  <a:lnTo>
                    <a:pt x="0" y="76"/>
                  </a:lnTo>
                  <a:lnTo>
                    <a:pt x="533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 flipH="1">
              <a:off x="5517360" y="2441880"/>
              <a:ext cx="1576080" cy="794880"/>
            </a:xfrm>
            <a:custGeom>
              <a:avLst/>
              <a:gdLst>
                <a:gd name="textAreaLeft" fmla="*/ 360 w 1576080"/>
                <a:gd name="textAreaRight" fmla="*/ 1576800 w 1576080"/>
                <a:gd name="textAreaTop" fmla="*/ 0 h 794880"/>
                <a:gd name="textAreaBottom" fmla="*/ 795240 h 794880"/>
              </a:gdLst>
              <a:ahLst/>
              <a:rect l="textAreaLeft" t="textAreaTop" r="textAreaRight" b="textAreaBottom"/>
              <a:pathLst>
                <a:path w="712" h="626">
                  <a:moveTo>
                    <a:pt x="712" y="0"/>
                  </a:moveTo>
                  <a:lnTo>
                    <a:pt x="712" y="516"/>
                  </a:lnTo>
                  <a:lnTo>
                    <a:pt x="0" y="626"/>
                  </a:lnTo>
                  <a:lnTo>
                    <a:pt x="483" y="33"/>
                  </a:lnTo>
                  <a:lnTo>
                    <a:pt x="712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99cc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 flipH="1">
              <a:off x="5477400" y="2431440"/>
              <a:ext cx="3151080" cy="801000"/>
            </a:xfrm>
            <a:custGeom>
              <a:avLst/>
              <a:gdLst>
                <a:gd name="textAreaLeft" fmla="*/ -360 w 3151080"/>
                <a:gd name="textAreaRight" fmla="*/ 3151080 w 3151080"/>
                <a:gd name="textAreaTop" fmla="*/ 0 h 801000"/>
                <a:gd name="textAreaBottom" fmla="*/ 801360 h 801000"/>
              </a:gdLst>
              <a:ahLst/>
              <a:rect l="textAreaLeft" t="textAreaTop" r="textAreaRight" b="textAreaBottom"/>
              <a:pathLst>
                <a:path w="1423" h="644">
                  <a:moveTo>
                    <a:pt x="0" y="644"/>
                  </a:moveTo>
                  <a:lnTo>
                    <a:pt x="720" y="644"/>
                  </a:lnTo>
                  <a:lnTo>
                    <a:pt x="1423" y="0"/>
                  </a:lnTo>
                  <a:lnTo>
                    <a:pt x="804" y="0"/>
                  </a:lnTo>
                  <a:lnTo>
                    <a:pt x="0" y="64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 flipH="1">
              <a:off x="4761720" y="2368440"/>
              <a:ext cx="2122920" cy="76320"/>
            </a:xfrm>
            <a:custGeom>
              <a:avLst/>
              <a:gdLst>
                <a:gd name="textAreaLeft" fmla="*/ -360 w 2122920"/>
                <a:gd name="textAreaRight" fmla="*/ 2122920 w 2122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280" h="84">
                  <a:moveTo>
                    <a:pt x="0" y="68"/>
                  </a:moveTo>
                  <a:lnTo>
                    <a:pt x="525" y="0"/>
                  </a:lnTo>
                  <a:lnTo>
                    <a:pt x="1280" y="0"/>
                  </a:lnTo>
                  <a:lnTo>
                    <a:pt x="805" y="8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 flipH="1" rot="10800000">
              <a:off x="6354720" y="2606400"/>
              <a:ext cx="1364040" cy="568800"/>
            </a:xfrm>
            <a:custGeom>
              <a:avLst/>
              <a:gdLst>
                <a:gd name="textAreaLeft" fmla="*/ -360 w 1364040"/>
                <a:gd name="textAreaRight" fmla="*/ 1364040 w 1364040"/>
                <a:gd name="textAreaTop" fmla="*/ 0 h 568800"/>
                <a:gd name="textAreaBottom" fmla="*/ 569160 h 568800"/>
              </a:gdLst>
              <a:ahLst/>
              <a:rect l="textAreaLeft" t="textAreaTop" r="textAreaRight" b="textAreaBottom"/>
              <a:pathLst>
                <a:path w="824" h="624">
                  <a:moveTo>
                    <a:pt x="240" y="624"/>
                  </a:moveTo>
                  <a:lnTo>
                    <a:pt x="0" y="624"/>
                  </a:lnTo>
                  <a:lnTo>
                    <a:pt x="560" y="120"/>
                  </a:lnTo>
                  <a:lnTo>
                    <a:pt x="424" y="112"/>
                  </a:lnTo>
                  <a:lnTo>
                    <a:pt x="736" y="0"/>
                  </a:lnTo>
                  <a:lnTo>
                    <a:pt x="824" y="176"/>
                  </a:lnTo>
                  <a:lnTo>
                    <a:pt x="720" y="152"/>
                  </a:lnTo>
                  <a:lnTo>
                    <a:pt x="240" y="624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20"/>
            <p:cNvGrpSpPr/>
            <p:nvPr/>
          </p:nvGrpSpPr>
          <p:grpSpPr>
            <a:xfrm>
              <a:off x="6219720" y="2409120"/>
              <a:ext cx="654120" cy="375840"/>
              <a:chOff x="6219720" y="2409120"/>
              <a:chExt cx="654120" cy="375840"/>
            </a:xfrm>
          </p:grpSpPr>
          <p:sp>
            <p:nvSpPr>
              <p:cNvPr id="148" name="Oval 21"/>
              <p:cNvSpPr/>
              <p:nvPr/>
            </p:nvSpPr>
            <p:spPr>
              <a:xfrm flipH="1">
                <a:off x="6219360" y="2427480"/>
                <a:ext cx="654120" cy="357480"/>
              </a:xfrm>
              <a:prstGeom prst="ellipse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Oval 22"/>
              <p:cNvSpPr/>
              <p:nvPr/>
            </p:nvSpPr>
            <p:spPr>
              <a:xfrm flipH="1" rot="1313400">
                <a:off x="6443640" y="2476080"/>
                <a:ext cx="373320" cy="71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33480"/>
                    <a:tab algn="l" pos="1866960"/>
                    <a:tab algn="l" pos="2800440"/>
                    <a:tab algn="l" pos="3733920"/>
                    <a:tab algn="l" pos="4667400"/>
                    <a:tab algn="l" pos="5600880"/>
                    <a:tab algn="l" pos="6534000"/>
                    <a:tab algn="l" pos="7467480"/>
                    <a:tab algn="l" pos="8400960"/>
                    <a:tab algn="l" pos="9334440"/>
                    <a:tab algn="l" pos="1026792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WordArt 23"/>
              <p:cNvSpPr txBox="1"/>
              <p:nvPr/>
            </p:nvSpPr>
            <p:spPr>
              <a:xfrm>
                <a:off x="6346800" y="2556360"/>
                <a:ext cx="400680" cy="99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1" strike="noStrike">
                    <a:ln w="0">
                      <a:noFill/>
                    </a:ln>
                    <a:solidFill>
                      <a:srgbClr val="ffffff"/>
                    </a:solidFill>
                    <a:latin typeface="Arial Black"/>
                  </a:rPr>
                  <a:t>PULL</a:t>
                </a:r>
                <a:endParaRPr b="0" lang="en-US" sz="12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  <a:ea typeface="Arial Black"/>
                </a:endParaRPr>
              </a:p>
            </p:txBody>
          </p:sp>
        </p:grpSp>
      </p:grpSp>
      <p:sp>
        <p:nvSpPr>
          <p:cNvPr id="151" name="Rectangle 24"/>
          <p:cNvSpPr/>
          <p:nvPr/>
        </p:nvSpPr>
        <p:spPr>
          <a:xfrm>
            <a:off x="260280" y="3398760"/>
            <a:ext cx="414972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spcBef>
                <a:spcPts val="176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SH”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assets for chronically vulnerable HHs to graduate into value chain efforts.  Activiti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ccess to financial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Asset transfers (on cred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Livelihood and NRM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5"/>
          <p:cNvSpPr/>
          <p:nvPr/>
        </p:nvSpPr>
        <p:spPr>
          <a:xfrm>
            <a:off x="4667400" y="3427560"/>
            <a:ext cx="414972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spcBef>
                <a:spcPts val="176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ULL” Mod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bring chronically vulnerable HHs with built assets into value chains so that they can build sustainable livelihoods.  Activiti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Contracts with private sector players to source from/employ vulnerable HH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-168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941400" y="6327720"/>
            <a:ext cx="279072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metric: # HHs gradu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5006880" y="6327720"/>
            <a:ext cx="3248280" cy="30708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ccess metric: # HHs linked to grow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1558800" y="1066680"/>
            <a:ext cx="6072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h and Pull”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5"/>
          <p:cNvGrpSpPr/>
          <p:nvPr/>
        </p:nvGrpSpPr>
        <p:grpSpPr>
          <a:xfrm>
            <a:off x="184320" y="1819440"/>
            <a:ext cx="8781840" cy="537840"/>
            <a:chOff x="184320" y="1819440"/>
            <a:chExt cx="8781840" cy="537840"/>
          </a:xfrm>
        </p:grpSpPr>
        <p:sp>
          <p:nvSpPr>
            <p:cNvPr id="157" name="Rectangle 71"/>
            <p:cNvSpPr/>
            <p:nvPr/>
          </p:nvSpPr>
          <p:spPr>
            <a:xfrm>
              <a:off x="184320" y="1819440"/>
              <a:ext cx="8781840" cy="5378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0099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240" rIns="93240" tIns="46800" bIns="46800" anchor="ctr">
              <a:noAutofit/>
            </a:bodyPr>
            <a:p>
              <a:pPr algn="ctr">
                <a:tabLst>
                  <a:tab algn="l" pos="0"/>
                  <a:tab algn="l" pos="933480"/>
                  <a:tab algn="l" pos="1866960"/>
                  <a:tab algn="l" pos="2800440"/>
                  <a:tab algn="l" pos="3733920"/>
                  <a:tab algn="l" pos="4667400"/>
                  <a:tab algn="l" pos="5600880"/>
                  <a:tab algn="l" pos="6534000"/>
                  <a:tab algn="l" pos="7467480"/>
                  <a:tab algn="l" pos="8400960"/>
                  <a:tab algn="l" pos="9334440"/>
                  <a:tab algn="l" pos="102679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72"/>
            <p:cNvSpPr/>
            <p:nvPr/>
          </p:nvSpPr>
          <p:spPr>
            <a:xfrm>
              <a:off x="3738600" y="1879200"/>
              <a:ext cx="18018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 accumulation/ Food 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73"/>
            <p:cNvSpPr/>
            <p:nvPr/>
          </p:nvSpPr>
          <p:spPr>
            <a:xfrm>
              <a:off x="6732720" y="1879200"/>
              <a:ext cx="2195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able livelihood through market integr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4"/>
            <p:cNvSpPr/>
            <p:nvPr/>
          </p:nvSpPr>
          <p:spPr>
            <a:xfrm>
              <a:off x="312840" y="1863360"/>
              <a:ext cx="1830240" cy="47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 depletion/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od insecur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GRAD-PRIME-AGP Overlap"/>
          <p:cNvPicPr/>
          <p:nvPr/>
        </p:nvPicPr>
        <p:blipFill>
          <a:blip r:embed="rId1"/>
          <a:stretch/>
        </p:blipFill>
        <p:spPr>
          <a:xfrm>
            <a:off x="533520" y="852480"/>
            <a:ext cx="7924680" cy="5888160"/>
          </a:xfrm>
          <a:prstGeom prst="rect">
            <a:avLst/>
          </a:prstGeom>
          <a:ln w="25560">
            <a:solidFill>
              <a:srgbClr val="002060"/>
            </a:solidFill>
            <a:miter/>
          </a:ln>
        </p:spPr>
      </p:pic>
      <p:sp>
        <p:nvSpPr>
          <p:cNvPr id="162" name="Rectangle 1"/>
          <p:cNvSpPr/>
          <p:nvPr/>
        </p:nvSpPr>
        <p:spPr>
          <a:xfrm>
            <a:off x="5638680" y="928800"/>
            <a:ext cx="2514600" cy="411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9T15:09:43Z</dcterms:created>
  <dc:creator>USAID</dc:creator>
  <dc:description/>
  <dc:language>en-US</dc:language>
  <cp:lastModifiedBy>PBallantyne</cp:lastModifiedBy>
  <cp:lastPrinted>2012-01-30T09:10:54Z</cp:lastPrinted>
  <dcterms:modified xsi:type="dcterms:W3CDTF">2012-01-30T13:01:13Z</dcterms:modified>
  <cp:revision>67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Title">
    <vt:lpwstr>Slide 1</vt:lpwstr>
  </property>
  <property fmtid="{D5CDD505-2E9C-101B-9397-08002B2CF9AE}" pid="6" name="docid">
    <vt:lpwstr/>
  </property>
</Properties>
</file>