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848-EFE8-441F-9195-7B8F3B6B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095-D67E-44DB-A62D-0188C86D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330-5D23-400E-B523-DEDB8299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FDD-1264-4DD5-B2FB-D3D4758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B105-9243-40EB-ABB9-E5848A44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F2F-DE81-4FA9-9AB9-AB7E1CCB0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574-7A90-40D6-BB7F-1358D853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D9C-CF63-4DB2-8950-E248F51E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5EE-F41A-41DC-9FA6-6C1DC56D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3A4-E45D-43D4-93DC-4DE031E3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8F5-A2EF-4541-B3D6-071DF0D3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7F0-55FD-4689-B473-8376DD3B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A991-EB17-48BA-A3B2-60B05DBBB77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C36B-EB67-4CA4-8766-8B3C091D1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C14F-4824-4613-A756-DF95701AB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Criteria for Research Activitie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47CE-0C27-491D-9F2F-A8757596E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Framework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1905120" y="1488960"/>
            <a:ext cx="710856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4"/>
          <p:cNvGrpSpPr/>
          <p:nvPr/>
        </p:nvGrpSpPr>
        <p:grpSpPr>
          <a:xfrm>
            <a:off x="2495520" y="1504080"/>
            <a:ext cx="5202360" cy="5154480"/>
            <a:chOff x="2495520" y="1504080"/>
            <a:chExt cx="5202360" cy="5154480"/>
          </a:xfrm>
        </p:grpSpPr>
        <p:grpSp>
          <p:nvGrpSpPr>
            <p:cNvPr id="52" name="Group 46"/>
            <p:cNvGrpSpPr/>
            <p:nvPr/>
          </p:nvGrpSpPr>
          <p:grpSpPr>
            <a:xfrm>
              <a:off x="2495520" y="1504080"/>
              <a:ext cx="5202360" cy="5154480"/>
              <a:chOff x="2495520" y="1504080"/>
              <a:chExt cx="5202360" cy="5154480"/>
            </a:xfrm>
          </p:grpSpPr>
          <p:sp>
            <p:nvSpPr>
              <p:cNvPr id="53" name="Oval 67"/>
              <p:cNvSpPr/>
              <p:nvPr/>
            </p:nvSpPr>
            <p:spPr>
              <a:xfrm>
                <a:off x="2675520" y="1697760"/>
                <a:ext cx="4824720" cy="4751640"/>
              </a:xfrm>
              <a:prstGeom prst="ellipse">
                <a:avLst/>
              </a:prstGeom>
              <a:solidFill>
                <a:srgbClr val="8eb4e3"/>
              </a:solidFill>
              <a:ln w="10800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Isosceles Triangle 68"/>
              <p:cNvSpPr/>
              <p:nvPr/>
            </p:nvSpPr>
            <p:spPr>
              <a:xfrm>
                <a:off x="2495520" y="388548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Isosceles Triangle 69"/>
              <p:cNvSpPr/>
              <p:nvPr/>
            </p:nvSpPr>
            <p:spPr>
              <a:xfrm rot="2239800">
                <a:off x="3177360" y="223200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Isosceles Triangle 70"/>
              <p:cNvSpPr/>
              <p:nvPr/>
            </p:nvSpPr>
            <p:spPr>
              <a:xfrm rot="5659200">
                <a:off x="5014800" y="15094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Isosceles Triangle 71"/>
              <p:cNvSpPr/>
              <p:nvPr/>
            </p:nvSpPr>
            <p:spPr>
              <a:xfrm rot="12623400">
                <a:off x="7040880" y="511164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Isosceles Triangle 72"/>
              <p:cNvSpPr/>
              <p:nvPr/>
            </p:nvSpPr>
            <p:spPr>
              <a:xfrm rot="7923600">
                <a:off x="6603840" y="22809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Isosceles Triangle 73"/>
              <p:cNvSpPr/>
              <p:nvPr/>
            </p:nvSpPr>
            <p:spPr>
              <a:xfrm rot="18501600">
                <a:off x="3243240" y="553824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Isosceles Triangle 74"/>
              <p:cNvSpPr/>
              <p:nvPr/>
            </p:nvSpPr>
            <p:spPr>
              <a:xfrm rot="13861800">
                <a:off x="6027120" y="600228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Isosceles Triangle 75"/>
              <p:cNvSpPr/>
              <p:nvPr/>
            </p:nvSpPr>
            <p:spPr>
              <a:xfrm rot="16801200">
                <a:off x="4813560" y="6260760"/>
                <a:ext cx="35964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Isosceles Triangle 76"/>
              <p:cNvSpPr/>
              <p:nvPr/>
            </p:nvSpPr>
            <p:spPr>
              <a:xfrm rot="10461600">
                <a:off x="7320240" y="3868560"/>
                <a:ext cx="360000" cy="375840"/>
              </a:xfrm>
              <a:prstGeom prst="triangle">
                <a:avLst>
                  <a:gd name="adj" fmla="val 50000"/>
                </a:avLst>
              </a:prstGeom>
              <a:solidFill>
                <a:srgbClr val="17375e"/>
              </a:solidFill>
              <a:ln w="25560">
                <a:solidFill>
                  <a:srgbClr val="17375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TextBox 47"/>
            <p:cNvSpPr/>
            <p:nvPr/>
          </p:nvSpPr>
          <p:spPr>
            <a:xfrm rot="15177000">
              <a:off x="2502720" y="4564440"/>
              <a:ext cx="116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ite se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Box 48"/>
            <p:cNvSpPr/>
            <p:nvPr/>
          </p:nvSpPr>
          <p:spPr>
            <a:xfrm rot="15543000">
              <a:off x="2585520" y="4058640"/>
              <a:ext cx="154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haracteris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Box 49"/>
            <p:cNvSpPr/>
            <p:nvPr/>
          </p:nvSpPr>
          <p:spPr>
            <a:xfrm rot="17272200">
              <a:off x="2542680" y="3156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Typolo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Box 50"/>
            <p:cNvSpPr/>
            <p:nvPr/>
          </p:nvSpPr>
          <p:spPr>
            <a:xfrm rot="18132000">
              <a:off x="3078000" y="299412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roblem 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Box 51"/>
            <p:cNvSpPr/>
            <p:nvPr/>
          </p:nvSpPr>
          <p:spPr>
            <a:xfrm rot="19540200">
              <a:off x="3204720" y="2265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Box 52"/>
            <p:cNvSpPr/>
            <p:nvPr/>
          </p:nvSpPr>
          <p:spPr>
            <a:xfrm rot="20122800">
              <a:off x="3802680" y="236196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Entry poi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Box 53"/>
            <p:cNvSpPr/>
            <p:nvPr/>
          </p:nvSpPr>
          <p:spPr>
            <a:xfrm rot="217200">
              <a:off x="4754520" y="2107080"/>
              <a:ext cx="1087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Research te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Box 54"/>
            <p:cNvSpPr/>
            <p:nvPr/>
          </p:nvSpPr>
          <p:spPr>
            <a:xfrm rot="907200">
              <a:off x="5308560" y="18914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Box 55"/>
            <p:cNvSpPr/>
            <p:nvPr/>
          </p:nvSpPr>
          <p:spPr>
            <a:xfrm rot="1968600">
              <a:off x="5461560" y="2403360"/>
              <a:ext cx="1312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Participatory eval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Box 56"/>
            <p:cNvSpPr/>
            <p:nvPr/>
          </p:nvSpPr>
          <p:spPr>
            <a:xfrm rot="3493800">
              <a:off x="6318720" y="2859840"/>
              <a:ext cx="1087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dap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Box 57"/>
            <p:cNvSpPr/>
            <p:nvPr/>
          </p:nvSpPr>
          <p:spPr>
            <a:xfrm rot="4278000">
              <a:off x="6037560" y="343548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Combin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Box 58"/>
            <p:cNvSpPr/>
            <p:nvPr/>
          </p:nvSpPr>
          <p:spPr>
            <a:xfrm rot="4933800">
              <a:off x="6459840" y="349992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arm-level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Box 59"/>
            <p:cNvSpPr/>
            <p:nvPr/>
          </p:nvSpPr>
          <p:spPr>
            <a:xfrm rot="6523200">
              <a:off x="6014880" y="4361040"/>
              <a:ext cx="1311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ustainability / resilie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Box 60"/>
            <p:cNvSpPr/>
            <p:nvPr/>
          </p:nvSpPr>
          <p:spPr>
            <a:xfrm rot="6772200">
              <a:off x="6442920" y="4580640"/>
              <a:ext cx="126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DS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Box 61"/>
            <p:cNvSpPr/>
            <p:nvPr/>
          </p:nvSpPr>
          <p:spPr>
            <a:xfrm rot="8275200">
              <a:off x="5904720" y="5430240"/>
              <a:ext cx="126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Meta analy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Box 62"/>
            <p:cNvSpPr/>
            <p:nvPr/>
          </p:nvSpPr>
          <p:spPr>
            <a:xfrm rot="9102000">
              <a:off x="5336640" y="52099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Forecast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Box 63"/>
            <p:cNvSpPr/>
            <p:nvPr/>
          </p:nvSpPr>
          <p:spPr>
            <a:xfrm rot="10084200">
              <a:off x="4893480" y="585072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Validate replic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Box 64"/>
            <p:cNvSpPr/>
            <p:nvPr/>
          </p:nvSpPr>
          <p:spPr>
            <a:xfrm rot="11631000">
              <a:off x="4036320" y="548316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Scaling approa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Box 65"/>
            <p:cNvSpPr/>
            <p:nvPr/>
          </p:nvSpPr>
          <p:spPr>
            <a:xfrm rot="12174000">
              <a:off x="3741480" y="5783400"/>
              <a:ext cx="12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Aggregated impa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Box 66"/>
            <p:cNvSpPr/>
            <p:nvPr/>
          </p:nvSpPr>
          <p:spPr>
            <a:xfrm rot="13439400">
              <a:off x="3100320" y="5020200"/>
              <a:ext cx="138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Implemntat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4" name="Chart 123" descr=""/>
          <p:cNvPicPr/>
          <p:nvPr/>
        </p:nvPicPr>
        <p:blipFill>
          <a:blip r:embed="rId2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85" name="Chart 124" descr=""/>
          <p:cNvPicPr/>
          <p:nvPr/>
        </p:nvPicPr>
        <p:blipFill>
          <a:blip r:embed="rId3"/>
          <a:stretch/>
        </p:blipFill>
        <p:spPr>
          <a:xfrm>
            <a:off x="2913120" y="2476440"/>
            <a:ext cx="4309920" cy="31734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DF787-2EA4-4365-9DE7-EA843FC7A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45"/>
          <p:cNvSpPr/>
          <p:nvPr/>
        </p:nvSpPr>
        <p:spPr>
          <a:xfrm rot="20589600">
            <a:off x="-503280" y="66816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79"/>
          <p:cNvSpPr/>
          <p:nvPr/>
        </p:nvSpPr>
        <p:spPr>
          <a:xfrm>
            <a:off x="3780000" y="30751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80"/>
          <p:cNvSpPr/>
          <p:nvPr/>
        </p:nvSpPr>
        <p:spPr>
          <a:xfrm>
            <a:off x="5032440" y="311940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imes New Roman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65D5-F0F1-44D1-99C4-E90989971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C800-7820-4362-8D29-CD566B55C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36:27Z</dcterms:modified>
  <cp:revision>83</cp:revision>
  <dc:subject/>
  <dc:title>PowerPoint Presentation</dc:title>
</cp:coreProperties>
</file>