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6973-AA1B-46F6-8F9D-8D8B49011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AAE7C-DFF9-4E00-9F1A-31623394E1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6673-1B8A-446D-AABF-E19AE4E8E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0132-909B-49DD-900D-8B2B691D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DA9B-DE87-4E7F-8CF1-23DF909D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C8FC-B0C4-4681-9F07-93E6C35C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D37C-AAF4-43F8-B3D0-EA74E87C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29E-1EC9-40AF-88D5-FF0777D30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DEDD-C211-406E-986D-9685834C6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E440-07D9-4D2D-9B9F-21754CDF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AF6B-1107-4A7C-B710-80DDE0AC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A8A5-9F54-4F86-94E3-DF63E404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1E96-C50C-432C-9ACF-9A2BD5BC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B3D6-9E76-4F53-B37E-0B582925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CF55D-2AB0-41DC-AA66-2F5F6E643F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Project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Target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ID FtF  investments in the Zone of Influen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ving at least 47,000 households with access to the technologies to diversify and increase their food supply and income sources, and improve the quality of degrading smallholder cropland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panding the area under improved rice production technologies by at least 58,000 h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ing yields of both maize and rice by 50% per unit area as a result of  these technologies being adopt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approach: Maiz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47" name="Content Placeholder 3" descr=""/>
          <p:cNvPicPr/>
          <p:nvPr/>
        </p:nvPicPr>
        <p:blipFill>
          <a:blip r:embed="rId1"/>
          <a:stretch/>
        </p:blipFill>
        <p:spPr>
          <a:xfrm>
            <a:off x="914400" y="1908000"/>
            <a:ext cx="6480000" cy="43167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4"/>
          <p:cNvSpPr/>
          <p:nvPr/>
        </p:nvSpPr>
        <p:spPr>
          <a:xfrm>
            <a:off x="2057400" y="6222960"/>
            <a:ext cx="4495680" cy="40644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IITA (2014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Oval 2"/>
          <p:cNvSpPr/>
          <p:nvPr/>
        </p:nvSpPr>
        <p:spPr>
          <a:xfrm>
            <a:off x="6781680" y="3048120"/>
            <a:ext cx="2133720" cy="2133360"/>
          </a:xfrm>
          <a:prstGeom prst="ellipse">
            <a:avLst/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5 x 25 = Yr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625 x 15 = Yr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375 x 5 = Yr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368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Global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come and Output/impact levels - 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ustom (management indicato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lection and approval process by the USAID mission in Qr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to six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wi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nual targ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of standardized forms for better reporting and monitor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Project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228600" y="1752480"/>
          <a:ext cx="8686800" cy="4846680"/>
        </p:xfrm>
        <a:graphic>
          <a:graphicData uri="http://schemas.openxmlformats.org/drawingml/2006/table">
            <a:tbl>
              <a:tblPr/>
              <a:tblGrid>
                <a:gridCol w="3352680"/>
                <a:gridCol w="838440"/>
                <a:gridCol w="1447560"/>
                <a:gridCol w="144792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farmers and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rice hectares under improved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individuals who have received USG supported short-term agricultural sector productivity or food security train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FtF Project indicators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52280" y="1576440"/>
          <a:ext cx="8686800" cy="5029200"/>
        </p:xfrm>
        <a:graphic>
          <a:graphicData uri="http://schemas.openxmlformats.org/drawingml/2006/table">
            <a:tbl>
              <a:tblPr/>
              <a:tblGrid>
                <a:gridCol w="3353040"/>
                <a:gridCol w="838080"/>
                <a:gridCol w="1447920"/>
                <a:gridCol w="144756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food security private enterprises (for profit), producers organizations, water users associations, women's groups, trade and business associations, and community-based organizations (CBOs) receiving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5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rural households benefiting directly from USG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umber of beneficiaries with home gardens or alternate crops as a proxy for access to nutritious foods and in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Calibri"/>
              </a:rPr>
              <a:t>Project Custom (Management)indicators</a:t>
            </a:r>
            <a:endParaRPr b="0" lang="en-US" sz="2800" spc="-1" strike="noStrike">
              <a:solidFill>
                <a:srgbClr val="323232"/>
              </a:solidFill>
              <a:latin typeface="Calibri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52280" y="1576440"/>
          <a:ext cx="8686800" cy="4191120"/>
        </p:xfrm>
        <a:graphic>
          <a:graphicData uri="http://schemas.openxmlformats.org/drawingml/2006/table">
            <a:tbl>
              <a:tblPr/>
              <a:tblGrid>
                <a:gridCol w="3353040"/>
                <a:gridCol w="838080"/>
                <a:gridCol w="1447920"/>
                <a:gridCol w="1447560"/>
                <a:gridCol w="914400"/>
                <a:gridCol w="685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Y 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mother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9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aby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3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grand baby demonstration gardens establish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4.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spillover households using improved technologies from the proj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08T16:22:07Z</dcterms:modified>
  <cp:revision>26</cp:revision>
  <dc:subject/>
  <dc:title>PowerPoint Presentation</dc:title>
</cp:coreProperties>
</file>