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BA015-158A-4CA7-8ACE-498DA38159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B493-82F4-4D47-AD3C-F27FDD150B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A508-8BA8-4BF5-9534-3A513B880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28FA-2D2E-47E7-914B-8364B5B13DC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8408-045B-43D9-AC9C-BD9FB6C828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36B8-8A0D-420F-BB86-21AB1A334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7A2C-4FEF-4236-A87D-5F31E868C4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5DE0A-A714-4623-9847-43142BB038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A2FD-02D0-4C67-B5D5-CB7A6A28A6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884DA-766A-49FC-9B02-5168685348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BC51-17F1-42AD-A877-8E628FFE9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924A-1589-41EA-AD7C-252B577309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2971-F755-440B-9565-5802D6640E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5912-C058-4658-9FD6-864F2097FF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6467-BF1E-4CE6-B646-B371E7EA7C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68E1-35DD-461B-ACA4-86B26D25F9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888B-71E8-4F99-9508-D9A15A68F2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FEAD-2D57-4005-8966-2821B138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DF37-A4DF-40DE-8C4F-C2A870CF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28A4-6844-4C19-9FBE-69C78C3F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AFBF-42DF-49F1-807C-A7572B2BD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9C54-DEF6-4AD3-9291-FDC01B975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3F14-477E-43D0-9CC2-5FEB45E5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1AE8-0351-4F0B-A780-383CDF4D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1793-05B6-46A4-BB0C-737933DC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4AD7-0F41-47C7-848D-EA79C01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7FDC-5411-4D9D-8AB0-BEC6F3C1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B32-589F-43A2-A617-56F9C50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5AF2-72CF-4357-ABCB-E9E83D44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FA76-52DC-4175-9D2F-6F212C0EE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454760" y="228600"/>
            <a:ext cx="617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Africa RISING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Research Framework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0" y="954000"/>
            <a:ext cx="91440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1.  Assess scalability of integrated innovations (meta-analysis of option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2. Identify and develop scaling approaches for targeted integrated innov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3. Pilot test scaling approaches from action sites within project are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4. Develop costed templates for scaling by development investo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5. Evaluate aggregated impact of household level interventions at landscape scale and beyon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.6. Evaluate/validate scaling approaches for integrated syste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Humidtropics frontpage image web.png"/>
          <p:cNvPicPr/>
          <p:nvPr/>
        </p:nvPicPr>
        <p:blipFill>
          <a:blip r:embed="rId1"/>
          <a:stretch/>
        </p:blipFill>
        <p:spPr>
          <a:xfrm>
            <a:off x="1295280" y="1676520"/>
            <a:ext cx="7010640" cy="4035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0" name="Rectangle 4"/>
          <p:cNvSpPr/>
          <p:nvPr/>
        </p:nvSpPr>
        <p:spPr>
          <a:xfrm>
            <a:off x="-52560" y="762120"/>
            <a:ext cx="9196560" cy="6094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8000"/>
                </a:solidFill>
                <a:latin typeface="Calibri"/>
              </a:rPr>
              <a:t>Humidtropics</a:t>
            </a:r>
            <a:br>
              <a:rPr sz="4000"/>
            </a:br>
            <a:r>
              <a:rPr b="1" lang="en-US" sz="2500" spc="-1" strike="noStrike">
                <a:solidFill>
                  <a:srgbClr val="ffffff"/>
                </a:solidFill>
                <a:latin typeface="Calibri"/>
              </a:rPr>
              <a:t>CRP1.2 Integrated Systems for the Humid Trop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3048120" y="615636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ww.humidtropics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rcRect l="4005" t="11901" r="2542" b="13870"/>
          <a:stretch/>
        </p:blipFill>
        <p:spPr>
          <a:xfrm>
            <a:off x="0" y="2421000"/>
            <a:ext cx="3833640" cy="442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4" name="TextBox 3"/>
          <p:cNvSpPr/>
          <p:nvPr/>
        </p:nvSpPr>
        <p:spPr>
          <a:xfrm>
            <a:off x="0" y="1295280"/>
            <a:ext cx="3833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Tier 2:  </a:t>
            </a:r>
            <a:r>
              <a:rPr b="1" lang="en-US" sz="1800" spc="-1" strike="noStrike">
                <a:solidFill>
                  <a:srgbClr val="ff9900"/>
                </a:solidFill>
                <a:latin typeface="Arial"/>
                <a:ea typeface="ＭＳ Ｐゴシック"/>
              </a:rPr>
              <a:t>Four sites: 2015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4539" t="7783" r="6183" b="2753"/>
          <a:stretch/>
        </p:blipFill>
        <p:spPr>
          <a:xfrm>
            <a:off x="4648320" y="4059360"/>
            <a:ext cx="2293920" cy="2779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Picture 2" descr=""/>
          <p:cNvPicPr/>
          <p:nvPr/>
        </p:nvPicPr>
        <p:blipFill>
          <a:blip r:embed="rId3"/>
          <a:srcRect l="2761" t="5052" r="4384" b="3446"/>
          <a:stretch/>
        </p:blipFill>
        <p:spPr>
          <a:xfrm>
            <a:off x="4648320" y="533520"/>
            <a:ext cx="4513320" cy="3295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TextBox 1"/>
          <p:cNvSpPr/>
          <p:nvPr/>
        </p:nvSpPr>
        <p:spPr>
          <a:xfrm>
            <a:off x="0" y="685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ier 1: 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Four sites: 2012-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Box 2"/>
          <p:cNvSpPr/>
          <p:nvPr/>
        </p:nvSpPr>
        <p:spPr>
          <a:xfrm>
            <a:off x="0" y="150840"/>
            <a:ext cx="47242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0" y="1882800"/>
            <a:ext cx="382896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ier 3: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Two sites: 2017-20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tion 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reeform 2"/>
          <p:cNvSpPr/>
          <p:nvPr/>
        </p:nvSpPr>
        <p:spPr>
          <a:xfrm>
            <a:off x="490680" y="1050840"/>
            <a:ext cx="8353440" cy="4464000"/>
          </a:xfrm>
          <a:custGeom>
            <a:avLst/>
            <a:gdLst/>
            <a:ahLst/>
            <a:rect l="l" t="t" r="r" b="b"/>
            <a:pathLst>
              <a:path w="3726" h="2873">
                <a:moveTo>
                  <a:pt x="7" y="46"/>
                </a:moveTo>
                <a:cubicBezTo>
                  <a:pt x="3" y="212"/>
                  <a:pt x="0" y="379"/>
                  <a:pt x="7" y="545"/>
                </a:cubicBezTo>
                <a:cubicBezTo>
                  <a:pt x="14" y="711"/>
                  <a:pt x="37" y="915"/>
                  <a:pt x="52" y="1043"/>
                </a:cubicBezTo>
                <a:cubicBezTo>
                  <a:pt x="67" y="1171"/>
                  <a:pt x="60" y="1187"/>
                  <a:pt x="98" y="1316"/>
                </a:cubicBezTo>
                <a:cubicBezTo>
                  <a:pt x="136" y="1445"/>
                  <a:pt x="226" y="1687"/>
                  <a:pt x="279" y="1815"/>
                </a:cubicBezTo>
                <a:cubicBezTo>
                  <a:pt x="332" y="1943"/>
                  <a:pt x="362" y="1996"/>
                  <a:pt x="415" y="2087"/>
                </a:cubicBezTo>
                <a:cubicBezTo>
                  <a:pt x="468" y="2178"/>
                  <a:pt x="537" y="2276"/>
                  <a:pt x="597" y="2359"/>
                </a:cubicBezTo>
                <a:cubicBezTo>
                  <a:pt x="657" y="2442"/>
                  <a:pt x="710" y="2526"/>
                  <a:pt x="778" y="2586"/>
                </a:cubicBezTo>
                <a:cubicBezTo>
                  <a:pt x="846" y="2646"/>
                  <a:pt x="899" y="2677"/>
                  <a:pt x="1005" y="2722"/>
                </a:cubicBezTo>
                <a:cubicBezTo>
                  <a:pt x="1111" y="2767"/>
                  <a:pt x="1254" y="2843"/>
                  <a:pt x="1413" y="2858"/>
                </a:cubicBezTo>
                <a:cubicBezTo>
                  <a:pt x="1572" y="2873"/>
                  <a:pt x="1798" y="2820"/>
                  <a:pt x="1957" y="2812"/>
                </a:cubicBezTo>
                <a:cubicBezTo>
                  <a:pt x="2116" y="2804"/>
                  <a:pt x="2215" y="2850"/>
                  <a:pt x="2366" y="2812"/>
                </a:cubicBezTo>
                <a:cubicBezTo>
                  <a:pt x="2517" y="2774"/>
                  <a:pt x="2744" y="2669"/>
                  <a:pt x="2865" y="2586"/>
                </a:cubicBezTo>
                <a:cubicBezTo>
                  <a:pt x="2986" y="2503"/>
                  <a:pt x="3008" y="2427"/>
                  <a:pt x="3091" y="2314"/>
                </a:cubicBezTo>
                <a:cubicBezTo>
                  <a:pt x="3174" y="2201"/>
                  <a:pt x="3288" y="2049"/>
                  <a:pt x="3364" y="1905"/>
                </a:cubicBezTo>
                <a:cubicBezTo>
                  <a:pt x="3440" y="1761"/>
                  <a:pt x="3500" y="1603"/>
                  <a:pt x="3545" y="1452"/>
                </a:cubicBezTo>
                <a:cubicBezTo>
                  <a:pt x="3590" y="1301"/>
                  <a:pt x="3613" y="1149"/>
                  <a:pt x="3636" y="998"/>
                </a:cubicBezTo>
                <a:cubicBezTo>
                  <a:pt x="3659" y="847"/>
                  <a:pt x="3666" y="711"/>
                  <a:pt x="3681" y="545"/>
                </a:cubicBezTo>
                <a:cubicBezTo>
                  <a:pt x="3696" y="379"/>
                  <a:pt x="3718" y="91"/>
                  <a:pt x="3726" y="0"/>
                </a:cubicBez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40"/>
          <p:cNvSpPr/>
          <p:nvPr/>
        </p:nvSpPr>
        <p:spPr>
          <a:xfrm>
            <a:off x="993600" y="1254240"/>
            <a:ext cx="6193080" cy="4282920"/>
          </a:xfrm>
          <a:custGeom>
            <a:avLst/>
            <a:gdLst/>
            <a:ahLst/>
            <a:rect l="l" t="t" r="r" b="b"/>
            <a:pathLst>
              <a:path w="3901" h="2698">
                <a:moveTo>
                  <a:pt x="0" y="8"/>
                </a:moveTo>
                <a:cubicBezTo>
                  <a:pt x="151" y="4"/>
                  <a:pt x="303" y="0"/>
                  <a:pt x="454" y="53"/>
                </a:cubicBezTo>
                <a:cubicBezTo>
                  <a:pt x="605" y="106"/>
                  <a:pt x="764" y="227"/>
                  <a:pt x="908" y="325"/>
                </a:cubicBezTo>
                <a:cubicBezTo>
                  <a:pt x="1052" y="423"/>
                  <a:pt x="1195" y="507"/>
                  <a:pt x="1316" y="643"/>
                </a:cubicBezTo>
                <a:cubicBezTo>
                  <a:pt x="1437" y="779"/>
                  <a:pt x="1557" y="983"/>
                  <a:pt x="1633" y="1142"/>
                </a:cubicBezTo>
                <a:cubicBezTo>
                  <a:pt x="1709" y="1301"/>
                  <a:pt x="1724" y="1444"/>
                  <a:pt x="1769" y="1595"/>
                </a:cubicBezTo>
                <a:cubicBezTo>
                  <a:pt x="1814" y="1746"/>
                  <a:pt x="1890" y="1921"/>
                  <a:pt x="1905" y="2049"/>
                </a:cubicBezTo>
                <a:cubicBezTo>
                  <a:pt x="1920" y="2177"/>
                  <a:pt x="1845" y="2268"/>
                  <a:pt x="1860" y="2366"/>
                </a:cubicBezTo>
                <a:cubicBezTo>
                  <a:pt x="1875" y="2464"/>
                  <a:pt x="1883" y="2593"/>
                  <a:pt x="1996" y="2638"/>
                </a:cubicBezTo>
                <a:cubicBezTo>
                  <a:pt x="2109" y="2683"/>
                  <a:pt x="2443" y="2698"/>
                  <a:pt x="2541" y="2638"/>
                </a:cubicBezTo>
                <a:cubicBezTo>
                  <a:pt x="2639" y="2578"/>
                  <a:pt x="2571" y="2397"/>
                  <a:pt x="2586" y="2276"/>
                </a:cubicBezTo>
                <a:cubicBezTo>
                  <a:pt x="2601" y="2155"/>
                  <a:pt x="2616" y="2034"/>
                  <a:pt x="2631" y="1913"/>
                </a:cubicBezTo>
                <a:cubicBezTo>
                  <a:pt x="2646" y="1792"/>
                  <a:pt x="2647" y="1678"/>
                  <a:pt x="2677" y="1550"/>
                </a:cubicBezTo>
                <a:cubicBezTo>
                  <a:pt x="2707" y="1422"/>
                  <a:pt x="2753" y="1278"/>
                  <a:pt x="2813" y="1142"/>
                </a:cubicBezTo>
                <a:cubicBezTo>
                  <a:pt x="2873" y="1006"/>
                  <a:pt x="2956" y="854"/>
                  <a:pt x="3039" y="733"/>
                </a:cubicBezTo>
                <a:cubicBezTo>
                  <a:pt x="3122" y="612"/>
                  <a:pt x="3206" y="522"/>
                  <a:pt x="3312" y="416"/>
                </a:cubicBezTo>
                <a:cubicBezTo>
                  <a:pt x="3418" y="310"/>
                  <a:pt x="3577" y="159"/>
                  <a:pt x="3675" y="98"/>
                </a:cubicBezTo>
                <a:cubicBezTo>
                  <a:pt x="3773" y="37"/>
                  <a:pt x="3837" y="45"/>
                  <a:pt x="3901" y="53"/>
                </a:cubicBezTo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549560" y="234648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780120" y="234648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Arc 13"/>
          <p:cNvSpPr/>
          <p:nvPr/>
        </p:nvSpPr>
        <p:spPr>
          <a:xfrm flipH="1" flipV="1">
            <a:off x="489600" y="1409040"/>
            <a:ext cx="3384360" cy="4032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Arc 14"/>
          <p:cNvSpPr/>
          <p:nvPr/>
        </p:nvSpPr>
        <p:spPr>
          <a:xfrm flipV="1">
            <a:off x="5170320" y="1482480"/>
            <a:ext cx="3600720" cy="4032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2004120" y="3570120"/>
            <a:ext cx="123372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Biophysical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institution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socio-economic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6265080" y="3570120"/>
            <a:ext cx="909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Logistical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partner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 Narrow"/>
              </a:rPr>
              <a:t>criter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2001960" y="4506840"/>
            <a:ext cx="129672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Institu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ivestoc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Servic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lic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5891040" y="4506840"/>
            <a:ext cx="1295640" cy="200916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r-cent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oope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xisting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artnershi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Et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19"/>
          <p:cNvSpPr/>
          <p:nvPr/>
        </p:nvSpPr>
        <p:spPr>
          <a:xfrm>
            <a:off x="3370320" y="4290840"/>
            <a:ext cx="237636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S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23"/>
          <p:cNvSpPr/>
          <p:nvPr/>
        </p:nvSpPr>
        <p:spPr>
          <a:xfrm>
            <a:off x="3370320" y="4290840"/>
            <a:ext cx="2376360" cy="216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4"/>
          <p:cNvSpPr/>
          <p:nvPr/>
        </p:nvSpPr>
        <p:spPr>
          <a:xfrm>
            <a:off x="345960" y="1914480"/>
            <a:ext cx="8569440" cy="468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1859040" y="3138480"/>
            <a:ext cx="547200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ction Ar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29"/>
          <p:cNvSpPr/>
          <p:nvPr/>
        </p:nvSpPr>
        <p:spPr>
          <a:xfrm>
            <a:off x="345960" y="1914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ntin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345960" y="906480"/>
            <a:ext cx="8569440" cy="368280"/>
          </a:xfrm>
          <a:prstGeom prst="rect">
            <a:avLst/>
          </a:prstGeom>
          <a:solidFill>
            <a:srgbClr val="80808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P 1.2 Mandat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19040" y="3282840"/>
            <a:ext cx="1366920" cy="239220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LGP-humi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ub-humi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High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opul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densit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Poverty 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NR integri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(SLO-2/4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variab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7477920" y="3282840"/>
            <a:ext cx="1285560" cy="1817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Administrati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&amp;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resen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- On-go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vestm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(defined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1859040" y="3138480"/>
            <a:ext cx="5472000" cy="3384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"/>
          <p:cNvSpPr/>
          <p:nvPr/>
        </p:nvSpPr>
        <p:spPr>
          <a:xfrm flipH="1">
            <a:off x="7331040" y="2274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4"/>
          <p:cNvSpPr/>
          <p:nvPr/>
        </p:nvSpPr>
        <p:spPr>
          <a:xfrm>
            <a:off x="490680" y="2274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26"/>
          <p:cNvSpPr/>
          <p:nvPr/>
        </p:nvSpPr>
        <p:spPr>
          <a:xfrm>
            <a:off x="2001960" y="3498840"/>
            <a:ext cx="136836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27"/>
          <p:cNvSpPr/>
          <p:nvPr/>
        </p:nvSpPr>
        <p:spPr>
          <a:xfrm flipH="1">
            <a:off x="5746680" y="3498840"/>
            <a:ext cx="1440000" cy="1008000"/>
          </a:xfrm>
          <a:custGeom>
            <a:avLst/>
            <a:gdLst/>
            <a:ahLst/>
            <a:rect l="l" t="t" r="r" b="b"/>
            <a:pathLst>
              <a:path w="771" h="635">
                <a:moveTo>
                  <a:pt x="0" y="0"/>
                </a:moveTo>
                <a:lnTo>
                  <a:pt x="0" y="635"/>
                </a:lnTo>
                <a:lnTo>
                  <a:pt x="771" y="6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42"/>
          <p:cNvSpPr/>
          <p:nvPr/>
        </p:nvSpPr>
        <p:spPr>
          <a:xfrm>
            <a:off x="490680" y="3282840"/>
            <a:ext cx="1295280" cy="244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7475400" y="3282840"/>
            <a:ext cx="1295640" cy="151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4"/>
          <p:cNvSpPr/>
          <p:nvPr/>
        </p:nvSpPr>
        <p:spPr>
          <a:xfrm>
            <a:off x="5891040" y="4506840"/>
            <a:ext cx="1295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5"/>
          <p:cNvSpPr/>
          <p:nvPr/>
        </p:nvSpPr>
        <p:spPr>
          <a:xfrm>
            <a:off x="2001960" y="4506840"/>
            <a:ext cx="129672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758400" y="5110200"/>
            <a:ext cx="1587240" cy="946440"/>
          </a:xfrm>
          <a:prstGeom prst="rect">
            <a:avLst/>
          </a:prstGeom>
          <a:solidFill>
            <a:srgbClr val="000000"/>
          </a:solidFill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puts and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Outcomes from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Themes 2.1, 2.2, 2.3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Arc 37"/>
          <p:cNvSpPr/>
          <p:nvPr/>
        </p:nvSpPr>
        <p:spPr>
          <a:xfrm flipH="1">
            <a:off x="5099040" y="1193760"/>
            <a:ext cx="2736720" cy="3889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Arc 36"/>
          <p:cNvSpPr/>
          <p:nvPr/>
        </p:nvSpPr>
        <p:spPr>
          <a:xfrm>
            <a:off x="993600" y="1266840"/>
            <a:ext cx="3024360" cy="381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6987240" y="97776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caling u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99"/>
                </a:solidFill>
                <a:latin typeface="Arial Narrow"/>
              </a:rPr>
              <a:t>Theme 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2018160" y="1050840"/>
            <a:ext cx="1501920" cy="733320"/>
          </a:xfrm>
          <a:prstGeom prst="rect">
            <a:avLst/>
          </a:prstGeom>
          <a:solidFill>
            <a:srgbClr val="000000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Zooming i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Strategic Re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ff99"/>
                </a:solidFill>
                <a:latin typeface="Arial Narrow"/>
              </a:rPr>
              <a:t>Theme 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19440" y="0"/>
            <a:ext cx="35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Geographical log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3"/>
          <p:cNvSpPr/>
          <p:nvPr/>
        </p:nvSpPr>
        <p:spPr>
          <a:xfrm>
            <a:off x="3451320" y="199692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533520" y="1252440"/>
            <a:ext cx="2752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1 Systems analysis and synthes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222720" y="1252440"/>
            <a:ext cx="28573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 Integrated systems improv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094440" y="1252440"/>
            <a:ext cx="27432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3 Scaling and institutional innovat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2"/>
          <p:cNvSpPr/>
          <p:nvPr/>
        </p:nvSpPr>
        <p:spPr>
          <a:xfrm>
            <a:off x="685800" y="1990800"/>
            <a:ext cx="2438280" cy="3200400"/>
          </a:xfrm>
          <a:custGeom>
            <a:avLst/>
            <a:gdLst>
              <a:gd name="textAreaLeft" fmla="*/ 118800 w 2438280"/>
              <a:gd name="textAreaRight" fmla="*/ 2319480 w 2438280"/>
              <a:gd name="textAreaTop" fmla="*/ 118800 h 3200400"/>
              <a:gd name="textAreaBottom" fmla="*/ 3081600 h 3200400"/>
            </a:gdLst>
            <a:ahLst/>
            <a:rect l="textAreaLeft" t="textAreaTop" r="textAreaRight" b="textAreaBottom"/>
            <a:pathLst>
              <a:path w="21600" h="28350">
                <a:moveTo>
                  <a:pt x="3600" y="0"/>
                </a:moveTo>
                <a:arcTo wR="3600" hR="3600" stAng="16200000" swAng="-5400000"/>
                <a:lnTo>
                  <a:pt x="0" y="24750"/>
                </a:lnTo>
                <a:arcTo wR="3600" hR="3600" stAng="10800000" swAng="-5400000"/>
                <a:lnTo>
                  <a:pt x="18000" y="28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AutoShape 14"/>
          <p:cNvSpPr/>
          <p:nvPr/>
        </p:nvSpPr>
        <p:spPr>
          <a:xfrm>
            <a:off x="6172200" y="1990800"/>
            <a:ext cx="2514600" cy="320040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3200400"/>
              <a:gd name="textAreaBottom" fmla="*/ 3077640 h 3200400"/>
            </a:gdLst>
            <a:ahLst/>
            <a:rect l="textAreaLeft" t="textAreaTop" r="textAreaRight" b="textAreaBottom"/>
            <a:pathLst>
              <a:path w="21600" h="27490">
                <a:moveTo>
                  <a:pt x="3600" y="0"/>
                </a:moveTo>
                <a:arcTo wR="3600" hR="3600" stAng="16200000" swAng="-5400000"/>
                <a:lnTo>
                  <a:pt x="0" y="23890"/>
                </a:lnTo>
                <a:arcTo wR="3600" hR="3600" stAng="10800000" swAng="-5400000"/>
                <a:lnTo>
                  <a:pt x="18000" y="274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3457440" y="6006960"/>
            <a:ext cx="243864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n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ublic goo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752480" y="3597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lopment trajector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85800" y="5261040"/>
            <a:ext cx="118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   framewor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3"/>
          <p:cNvSpPr/>
          <p:nvPr/>
        </p:nvSpPr>
        <p:spPr>
          <a:xfrm>
            <a:off x="1600200" y="3170160"/>
            <a:ext cx="0" cy="13255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29"/>
          <p:cNvSpPr/>
          <p:nvPr/>
        </p:nvSpPr>
        <p:spPr>
          <a:xfrm>
            <a:off x="3733920" y="2448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innov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3281400" y="380988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 manag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819680" y="385776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ystems produc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33"/>
          <p:cNvSpPr/>
          <p:nvPr/>
        </p:nvSpPr>
        <p:spPr>
          <a:xfrm>
            <a:off x="3886200" y="3429000"/>
            <a:ext cx="298440" cy="419040"/>
          </a:xfrm>
          <a:custGeom>
            <a:avLst/>
            <a:gdLst>
              <a:gd name="textAreaLeft" fmla="*/ 0 w 298440"/>
              <a:gd name="textAreaRight" fmla="*/ 298800 w 29844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343400" y="41241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36"/>
          <p:cNvSpPr/>
          <p:nvPr/>
        </p:nvSpPr>
        <p:spPr>
          <a:xfrm>
            <a:off x="3581280" y="490536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w farm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3581280" y="52959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daptive   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 Box 41"/>
          <p:cNvSpPr/>
          <p:nvPr/>
        </p:nvSpPr>
        <p:spPr>
          <a:xfrm>
            <a:off x="7605720" y="5261040"/>
            <a:ext cx="11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&amp;E proc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42"/>
          <p:cNvSpPr/>
          <p:nvPr/>
        </p:nvSpPr>
        <p:spPr>
          <a:xfrm>
            <a:off x="65530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area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43"/>
          <p:cNvSpPr/>
          <p:nvPr/>
        </p:nvSpPr>
        <p:spPr>
          <a:xfrm>
            <a:off x="6477120" y="24480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4D scal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4480" y="3048120"/>
            <a:ext cx="205740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abling environment (markets, policies, institutions and infrastructu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nder opportun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alability options &amp; pathw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5"/>
          <p:cNvSpPr/>
          <p:nvPr/>
        </p:nvSpPr>
        <p:spPr>
          <a:xfrm>
            <a:off x="6124680" y="490536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portunities mainstrea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46"/>
          <p:cNvSpPr/>
          <p:nvPr/>
        </p:nvSpPr>
        <p:spPr>
          <a:xfrm>
            <a:off x="5900760" y="5191200"/>
            <a:ext cx="1587600" cy="113328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1133280"/>
              <a:gd name="textAreaBottom" fmla="*/ 1133640 h 113328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Line 47"/>
          <p:cNvSpPr/>
          <p:nvPr/>
        </p:nvSpPr>
        <p:spPr>
          <a:xfrm>
            <a:off x="4572000" y="5191200"/>
            <a:ext cx="4680" cy="815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49"/>
          <p:cNvSpPr/>
          <p:nvPr/>
        </p:nvSpPr>
        <p:spPr>
          <a:xfrm flipH="1" rot="375000">
            <a:off x="5006880" y="3446640"/>
            <a:ext cx="354240" cy="384120"/>
          </a:xfrm>
          <a:custGeom>
            <a:avLst/>
            <a:gdLst>
              <a:gd name="textAreaLeft" fmla="*/ 360 w 354240"/>
              <a:gd name="textAreaRight" fmla="*/ 354960 w 354240"/>
              <a:gd name="textAreaTop" fmla="*/ 0 h 384120"/>
              <a:gd name="textAreaBottom" fmla="*/ 384480 h 384120"/>
            </a:gdLst>
            <a:ahLst/>
            <a:rect l="textAreaLeft" t="textAreaTop" r="textAreaRight" b="textAreaBottom"/>
            <a:pathLst>
              <a:path w="205" h="428">
                <a:moveTo>
                  <a:pt x="205" y="0"/>
                </a:moveTo>
                <a:lnTo>
                  <a:pt x="0" y="42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46"/>
          <p:cNvSpPr/>
          <p:nvPr/>
        </p:nvSpPr>
        <p:spPr>
          <a:xfrm flipH="1">
            <a:off x="1856520" y="5181480"/>
            <a:ext cx="1600200" cy="1133640"/>
          </a:xfrm>
          <a:custGeom>
            <a:avLst/>
            <a:gdLst>
              <a:gd name="textAreaLeft" fmla="*/ -360 w 1600200"/>
              <a:gd name="textAreaRight" fmla="*/ 1600200 w 1600200"/>
              <a:gd name="textAreaTop" fmla="*/ 0 h 1133640"/>
              <a:gd name="textAreaBottom" fmla="*/ 1134000 h 1133640"/>
            </a:gdLst>
            <a:ahLst/>
            <a:rect l="textAreaLeft" t="textAreaTop" r="textAreaRight" b="textAreaBottom"/>
            <a:pathLst>
              <a:path w="2740" h="480">
                <a:moveTo>
                  <a:pt x="2740" y="0"/>
                </a:moveTo>
                <a:lnTo>
                  <a:pt x="2740" y="480"/>
                </a:lnTo>
                <a:lnTo>
                  <a:pt x="0" y="4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998640" y="2438280"/>
            <a:ext cx="197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tuation analys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U-Turn Arrow 39"/>
          <p:cNvSpPr/>
          <p:nvPr/>
        </p:nvSpPr>
        <p:spPr>
          <a:xfrm flipH="1" rot="16200000">
            <a:off x="2964600" y="540360"/>
            <a:ext cx="2438280" cy="6843600"/>
          </a:xfrm>
          <a:custGeom>
            <a:avLst/>
            <a:gdLst/>
            <a:ahLst/>
            <a:rect l="l" t="t" r="r" b="b"/>
            <a:pathLst>
              <a:path w="2438400" h="6843713">
                <a:moveTo>
                  <a:pt x="0" y="6843713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88438"/>
                  <a:pt x="2128309" y="4912722"/>
                  <a:pt x="2128309" y="6837006"/>
                </a:cubicBezTo>
                <a:lnTo>
                  <a:pt x="2438400" y="6837006"/>
                </a:lnTo>
                <a:lnTo>
                  <a:pt x="2019629" y="6837006"/>
                </a:lnTo>
                <a:lnTo>
                  <a:pt x="1600858" y="6837006"/>
                </a:lnTo>
                <a:lnTo>
                  <a:pt x="1910950" y="6837006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43713"/>
                </a:lnTo>
                <a:lnTo>
                  <a:pt x="0" y="6843713"/>
                </a:lnTo>
                <a:close/>
              </a:path>
            </a:pathLst>
          </a:cu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U-Turn Arrow 40"/>
          <p:cNvSpPr/>
          <p:nvPr/>
        </p:nvSpPr>
        <p:spPr>
          <a:xfrm rot="5400000">
            <a:off x="3962160" y="533160"/>
            <a:ext cx="2438280" cy="6858000"/>
          </a:xfrm>
          <a:custGeom>
            <a:avLst/>
            <a:gdLst/>
            <a:ahLst/>
            <a:rect l="l" t="t" r="r" b="b"/>
            <a:pathLst>
              <a:path w="2438400" h="6858000">
                <a:moveTo>
                  <a:pt x="0" y="6858000"/>
                </a:moveTo>
                <a:lnTo>
                  <a:pt x="0" y="1064154"/>
                </a:lnTo>
                <a:cubicBezTo>
                  <a:pt x="0" y="476438"/>
                  <a:pt x="476438" y="0"/>
                  <a:pt x="1064154" y="0"/>
                </a:cubicBezTo>
                <a:lnTo>
                  <a:pt x="1064154" y="0"/>
                </a:lnTo>
                <a:cubicBezTo>
                  <a:pt x="1651870" y="0"/>
                  <a:pt x="2128308" y="476438"/>
                  <a:pt x="2128308" y="1064154"/>
                </a:cubicBezTo>
                <a:cubicBezTo>
                  <a:pt x="2128308" y="2993196"/>
                  <a:pt x="2128309" y="4922237"/>
                  <a:pt x="2128309" y="6851279"/>
                </a:cubicBezTo>
                <a:lnTo>
                  <a:pt x="2438400" y="6851279"/>
                </a:lnTo>
                <a:lnTo>
                  <a:pt x="2019629" y="6851279"/>
                </a:lnTo>
                <a:lnTo>
                  <a:pt x="1600858" y="6851279"/>
                </a:lnTo>
                <a:lnTo>
                  <a:pt x="1910950" y="6851279"/>
                </a:lnTo>
                <a:lnTo>
                  <a:pt x="1910950" y="1064154"/>
                </a:lnTo>
                <a:cubicBezTo>
                  <a:pt x="1910950" y="596482"/>
                  <a:pt x="1531827" y="217359"/>
                  <a:pt x="1064155" y="217359"/>
                </a:cubicBezTo>
                <a:lnTo>
                  <a:pt x="1064154" y="217359"/>
                </a:lnTo>
                <a:cubicBezTo>
                  <a:pt x="596482" y="217359"/>
                  <a:pt x="217359" y="596482"/>
                  <a:pt x="217359" y="1064154"/>
                </a:cubicBezTo>
                <a:lnTo>
                  <a:pt x="217359" y="6858000"/>
                </a:lnTo>
                <a:lnTo>
                  <a:pt x="0" y="6858000"/>
                </a:lnTo>
                <a:close/>
              </a:path>
            </a:pathLst>
          </a:cu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08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38"/>
          <p:cNvSpPr/>
          <p:nvPr/>
        </p:nvSpPr>
        <p:spPr>
          <a:xfrm>
            <a:off x="1657440" y="2590920"/>
            <a:ext cx="14666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Critical entry poi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8"/>
          <p:cNvSpPr/>
          <p:nvPr/>
        </p:nvSpPr>
        <p:spPr>
          <a:xfrm>
            <a:off x="5238720" y="2590920"/>
            <a:ext cx="1467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38"/>
          <p:cNvSpPr/>
          <p:nvPr/>
        </p:nvSpPr>
        <p:spPr>
          <a:xfrm>
            <a:off x="1581120" y="4495680"/>
            <a:ext cx="1467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lobal synthes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30"/>
          <p:cNvSpPr/>
          <p:nvPr/>
        </p:nvSpPr>
        <p:spPr>
          <a:xfrm>
            <a:off x="3794040" y="2967120"/>
            <a:ext cx="175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RT 2.1 Markets and other instit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3809880" y="2143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tion sit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" name="Group 13"/>
          <p:cNvGrpSpPr/>
          <p:nvPr/>
        </p:nvGrpSpPr>
        <p:grpSpPr>
          <a:xfrm>
            <a:off x="3657600" y="2743200"/>
            <a:ext cx="114480" cy="227880"/>
            <a:chOff x="3657600" y="2743200"/>
            <a:chExt cx="114480" cy="227880"/>
          </a:xfrm>
        </p:grpSpPr>
        <p:sp>
          <p:nvSpPr>
            <p:cNvPr id="149" name="Straight Connector 9"/>
            <p:cNvSpPr/>
            <p:nvPr/>
          </p:nvSpPr>
          <p:spPr>
            <a:xfrm>
              <a:off x="365760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53"/>
            <p:cNvSpPr/>
            <p:nvPr/>
          </p:nvSpPr>
          <p:spPr>
            <a:xfrm flipV="1">
              <a:off x="365760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1" name="Group 55"/>
          <p:cNvGrpSpPr/>
          <p:nvPr/>
        </p:nvGrpSpPr>
        <p:grpSpPr>
          <a:xfrm>
            <a:off x="4346280" y="4648320"/>
            <a:ext cx="114120" cy="227880"/>
            <a:chOff x="4346280" y="4648320"/>
            <a:chExt cx="114120" cy="227880"/>
          </a:xfrm>
        </p:grpSpPr>
        <p:sp>
          <p:nvSpPr>
            <p:cNvPr id="152" name="Straight Connector 56"/>
            <p:cNvSpPr/>
            <p:nvPr/>
          </p:nvSpPr>
          <p:spPr>
            <a:xfrm flipH="1">
              <a:off x="4346280" y="464832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57"/>
            <p:cNvSpPr/>
            <p:nvPr/>
          </p:nvSpPr>
          <p:spPr>
            <a:xfrm flipH="1" flipV="1">
              <a:off x="4346280" y="476208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58"/>
          <p:cNvGrpSpPr/>
          <p:nvPr/>
        </p:nvGrpSpPr>
        <p:grpSpPr>
          <a:xfrm>
            <a:off x="6324480" y="4643280"/>
            <a:ext cx="114480" cy="227880"/>
            <a:chOff x="6324480" y="4643280"/>
            <a:chExt cx="114480" cy="227880"/>
          </a:xfrm>
        </p:grpSpPr>
        <p:sp>
          <p:nvSpPr>
            <p:cNvPr id="155" name="Straight Connector 59"/>
            <p:cNvSpPr/>
            <p:nvPr/>
          </p:nvSpPr>
          <p:spPr>
            <a:xfrm flipH="1">
              <a:off x="6324480" y="464328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60"/>
            <p:cNvSpPr/>
            <p:nvPr/>
          </p:nvSpPr>
          <p:spPr>
            <a:xfrm flipH="1" flipV="1">
              <a:off x="6324480" y="475704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61"/>
          <p:cNvGrpSpPr/>
          <p:nvPr/>
        </p:nvGrpSpPr>
        <p:grpSpPr>
          <a:xfrm>
            <a:off x="8382240" y="3695760"/>
            <a:ext cx="227880" cy="114120"/>
            <a:chOff x="8382240" y="3695760"/>
            <a:chExt cx="227880" cy="114120"/>
          </a:xfrm>
        </p:grpSpPr>
        <p:sp>
          <p:nvSpPr>
            <p:cNvPr id="158" name="Straight Connector 62"/>
            <p:cNvSpPr/>
            <p:nvPr/>
          </p:nvSpPr>
          <p:spPr>
            <a:xfrm flipH="1">
              <a:off x="849600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Straight Connector 63"/>
            <p:cNvSpPr/>
            <p:nvPr/>
          </p:nvSpPr>
          <p:spPr>
            <a:xfrm>
              <a:off x="8382240" y="3695760"/>
              <a:ext cx="11412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0" name="Group 67"/>
          <p:cNvGrpSpPr/>
          <p:nvPr/>
        </p:nvGrpSpPr>
        <p:grpSpPr>
          <a:xfrm>
            <a:off x="7010280" y="2743200"/>
            <a:ext cx="114480" cy="227880"/>
            <a:chOff x="7010280" y="2743200"/>
            <a:chExt cx="114480" cy="227880"/>
          </a:xfrm>
        </p:grpSpPr>
        <p:sp>
          <p:nvSpPr>
            <p:cNvPr id="161" name="Straight Connector 68"/>
            <p:cNvSpPr/>
            <p:nvPr/>
          </p:nvSpPr>
          <p:spPr>
            <a:xfrm>
              <a:off x="7010280" y="274320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Straight Connector 69"/>
            <p:cNvSpPr/>
            <p:nvPr/>
          </p:nvSpPr>
          <p:spPr>
            <a:xfrm flipV="1">
              <a:off x="7010280" y="2856960"/>
              <a:ext cx="11448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70"/>
          <p:cNvGrpSpPr/>
          <p:nvPr/>
        </p:nvGrpSpPr>
        <p:grpSpPr>
          <a:xfrm>
            <a:off x="762120" y="3662280"/>
            <a:ext cx="227880" cy="114480"/>
            <a:chOff x="762120" y="3662280"/>
            <a:chExt cx="227880" cy="114480"/>
          </a:xfrm>
        </p:grpSpPr>
        <p:sp>
          <p:nvSpPr>
            <p:cNvPr id="164" name="Straight Connector 71"/>
            <p:cNvSpPr/>
            <p:nvPr/>
          </p:nvSpPr>
          <p:spPr>
            <a:xfrm flipV="1">
              <a:off x="76212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Straight Connector 72"/>
            <p:cNvSpPr/>
            <p:nvPr/>
          </p:nvSpPr>
          <p:spPr>
            <a:xfrm flipH="1" flipV="1">
              <a:off x="875880" y="3662280"/>
              <a:ext cx="11412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6" name="Text Box 28"/>
          <p:cNvSpPr/>
          <p:nvPr/>
        </p:nvSpPr>
        <p:spPr>
          <a:xfrm>
            <a:off x="1143000" y="2133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ulti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Program Structure is built around 3 Strategic Research Themes (SRT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222120" y="992160"/>
            <a:ext cx="8616960" cy="58658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e Humidtropics will operate through R4D platforms in Action S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idtropics integrates the research outcomes of other CR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C:\Users\JTOliver\Desktop\Production systems.jpg"/>
          <p:cNvPicPr/>
          <p:nvPr/>
        </p:nvPicPr>
        <p:blipFill>
          <a:blip r:embed="rId1"/>
          <a:srcRect l="13340" t="31511" r="12671" b="20001"/>
          <a:stretch/>
        </p:blipFill>
        <p:spPr>
          <a:xfrm>
            <a:off x="1523880" y="2790720"/>
            <a:ext cx="6064200" cy="28400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Users\JTOliver\Desktop\Dry-Wet.jpg"/>
          <p:cNvPicPr/>
          <p:nvPr/>
        </p:nvPicPr>
        <p:blipFill>
          <a:blip r:embed="rId2"/>
          <a:srcRect l="0" t="24914" r="0" b="67920"/>
          <a:stretch/>
        </p:blipFill>
        <p:spPr>
          <a:xfrm>
            <a:off x="498600" y="2398680"/>
            <a:ext cx="8111880" cy="3920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CRPS diagram.png"/>
          <p:cNvPicPr/>
          <p:nvPr/>
        </p:nvPicPr>
        <p:blipFill>
          <a:blip r:embed="rId3"/>
          <a:stretch/>
        </p:blipFill>
        <p:spPr>
          <a:xfrm>
            <a:off x="360360" y="1297080"/>
            <a:ext cx="83138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33520" y="425520"/>
            <a:ext cx="81532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ounded Rectangular Callout 2"/>
          <p:cNvSpPr/>
          <p:nvPr/>
        </p:nvSpPr>
        <p:spPr>
          <a:xfrm>
            <a:off x="4876920" y="457200"/>
            <a:ext cx="3809880" cy="3429000"/>
          </a:xfrm>
          <a:prstGeom prst="wedgeRoundRectCallout">
            <a:avLst>
              <a:gd name="adj1" fmla="val -75763"/>
              <a:gd name="adj2" fmla="val 1147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1"/>
          <p:cNvSpPr/>
          <p:nvPr/>
        </p:nvSpPr>
        <p:spPr>
          <a:xfrm>
            <a:off x="5029200" y="609480"/>
            <a:ext cx="3657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Includes the activities that are necessary to ensure that project activities are able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haracteris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tratif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arget communities effectively so that promising interventions are identified and inappropriate interventions reject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-17640" y="0"/>
            <a:ext cx="929664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ular Callout 2"/>
          <p:cNvSpPr/>
          <p:nvPr/>
        </p:nvSpPr>
        <p:spPr>
          <a:xfrm>
            <a:off x="228600" y="228600"/>
            <a:ext cx="4114800" cy="4343400"/>
          </a:xfrm>
          <a:prstGeom prst="wedgeRoundRectCallout">
            <a:avLst>
              <a:gd name="adj1" fmla="val 60754"/>
              <a:gd name="adj2" fmla="val 3333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380880" y="401760"/>
            <a:ext cx="39625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is output is delivered via a broad approach of participatory technology development and / or identification. This requires projects to allow for the identification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isting sound practic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within communities that might be more widely propagated, the adaptation of these and other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xogenous innovation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the more effect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bin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of innovations from multiple sour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ounded Rectangular Callout 2"/>
          <p:cNvSpPr/>
          <p:nvPr/>
        </p:nvSpPr>
        <p:spPr>
          <a:xfrm>
            <a:off x="5486400" y="214200"/>
            <a:ext cx="3505320" cy="5338800"/>
          </a:xfrm>
          <a:prstGeom prst="wedgeRoundRectCallout">
            <a:avLst>
              <a:gd name="adj1" fmla="val -70856"/>
              <a:gd name="adj2" fmla="val 2155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5638680" y="228600"/>
            <a:ext cx="32004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3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Scaling and Delivery of Integrated Innovation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first two outputs will generate integrated technology combinations that are mo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ffectively targete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farmer’s real development needs. This third output recognises that, even where such technology combinations can be identified,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pproaches used for scaling them ou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y not always be effective and seeks to redress this shortcom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ounded Rectangular Callout 2"/>
          <p:cNvSpPr/>
          <p:nvPr/>
        </p:nvSpPr>
        <p:spPr>
          <a:xfrm>
            <a:off x="5486400" y="214200"/>
            <a:ext cx="3352680" cy="1952640"/>
          </a:xfrm>
          <a:prstGeom prst="wedgeRoundRectCallout">
            <a:avLst>
              <a:gd name="adj1" fmla="val -73495"/>
              <a:gd name="adj2" fmla="val -3959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5638680" y="228600"/>
            <a:ext cx="32004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output 4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Integrated M and E Proces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The programme will aim to wrap the three process-oriented outputs in a firm M and E frame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1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ituation Analysis and Programme-wide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1143000"/>
            <a:ext cx="914400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1. Mega-site stratification by ‘development domains’ within and across countr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2. Prioritize mega-site strata geographical units and compare/contrast with researcher selected research lo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3. Farm household typ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4. Problem identification and pathways for addressing these constraints within domain/typ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5. Inventorize inno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6. Ex-ante potential of op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7. Priority setting and planning for integrated systems improv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8. Program-wide synthesis and co-learn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output 2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Integrated Systems Improve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685800"/>
            <a:ext cx="9144000" cy="59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1. Identification of research teams within R4D platforms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thin the R4D platforms and constituted around critical entry points,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earch te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identified to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ead innovation activit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2. Identification modeling and decision support tools for the ex-ante technology identification, trade-off analysis, evaluation of the ex-ante sustainability and resilience of options, and guiding future resear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ral decisions, related to the identification of critical entry points, anticipating their potential benefits, and evaluating trade-offs will requir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arm-level modeling tool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Specific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ng-term monitoring si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be established to gather the necessary information on the dynamics of these indicators as related to the options evalu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cision support tool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re expected to be a combination of formal modeling tools, compendia of validated best practices, ‘rules-of-thumb’, amongst o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3. Participatory evaluation and adaptation of appropriate combinations of technologies and interven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.4. Addressing new research challenges and opportunities emerging from the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8:59:54Z</dcterms:created>
  <dc:creator>bvanlauwe</dc:creator>
  <dc:description/>
  <dc:language>en-US</dc:language>
  <cp:lastModifiedBy>LeBorgne, Ewen (ILRI)</cp:lastModifiedBy>
  <dcterms:modified xsi:type="dcterms:W3CDTF">2012-10-03T11:32:46Z</dcterms:modified>
  <cp:revision>11</cp:revision>
  <dc:subject/>
  <dc:title>PowerPoint Presentation</dc:title>
</cp:coreProperties>
</file>