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DA09-D2C5-4913-8B82-3C60BB8BC0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62C4-D39D-410E-8A94-9A6039C5323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F46A-87F2-492A-A670-723587FFA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5AADB-55D8-4A58-B584-4CFFDEBF8FA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34C0-0FDD-4E43-9B68-063341FABFD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1CAD-220D-4D77-9A67-76F42857ED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7FC0B-51E8-4FA4-8797-5C225E3CFC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C4962-A7E7-450D-8E68-B5664ABDDB4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5908D-A5C8-444D-B428-11E4AEEE0E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B324E-56CF-4CF4-87E8-A0AC7FBD548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37238-E159-42E3-802F-36F844FD05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FD1D2-7F0E-42B3-A6EF-73E4824DE76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6A9C-46D4-46DC-88D8-E1DB2200FE0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0" y="19098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4"/>
          <a:stretch/>
        </p:blipFill>
        <p:spPr>
          <a:xfrm>
            <a:off x="1752480" y="5002200"/>
            <a:ext cx="5639040" cy="1703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777240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Are multi-stakeholder platforms the answer to demand-driven research on sustainable intensification? The case of Babati,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Hillbur, Per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mbria"/>
              </a:rPr>
              <a:t>1,3</a:t>
            </a: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 and McCormack, Caitlin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mbria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30000">
                <a:solidFill>
                  <a:srgbClr val="000000"/>
                </a:solidFill>
                <a:latin typeface="Cambr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30000">
                <a:solidFill>
                  <a:srgbClr val="000000"/>
                </a:solidFill>
                <a:latin typeface="Cambri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Malmö University, Swe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Swedish University of Agricultural Sciences (SLU), Swe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30000">
                <a:solidFill>
                  <a:srgbClr val="000000"/>
                </a:solidFill>
                <a:latin typeface="Cambri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International Institute of Tropical Agriculture (IITA), Arusha, Tanza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6840" y="2514600"/>
            <a:ext cx="8002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per explores the challenge to implement sustainable intensification by a combination of science-driven promotion of agricultural technologies and a demand-driven process in a local organizational contex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what ways do research-for-development (R4D) platforms respond to the need for demand-driven research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are the barriers and opportunities for R4D platforms to support a research program on sustainable agricultural intensific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overall performance of the R4D platform approach in a local context in terms of provision of a demand-driven approach to sustainable intensific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Introduction and obj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a local R4D platform (JUMBA) based on project documentation and 14 semi-structured interviews with key stakeholders in the proces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: three dimensions of platform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ec821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establishment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ec821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functioning,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ec821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outcom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ddition to these dimensions, we have added a relational dimension to explore how platform members build networks and relations within and outside the platform itself. The relational dimension is essential to understand the platform’s potential for long-term impa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Research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Establishment – origin and structur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Close link between JUMBA and Africa RISING – sometimes conf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High representa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Functioning – communication and coordin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The role and capacity of the management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Communication – a major challenge: + and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Lack of facilitation – financial and capacity buil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Outcom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Scoping activity; Objectives and work plan for 15/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ed part of Babati District Council annual budget and activity pl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Generally few tangible outcomes on the 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Rel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Strengthening local networ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Connecting to District Council - sustain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ain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Future relation JUMBA - Africa RIS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embership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Leadership and coordination; capacity buil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Private sector invol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Ward level platforms to reach far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80600" y="2205000"/>
            <a:ext cx="8147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R4DPs have considerable potential for sustainable intensification – capacity building and conflict resolution – locally developed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Not independent/mature yet – need for facil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Closer to the farmers – ward level essent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Social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armer groups, social capital, gender equ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Conclusion and relevance to SI dimen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08:26Z</dcterms:created>
  <dc:creator>IZeledon</dc:creator>
  <dc:description/>
  <dc:language>en-US</dc:language>
  <cp:lastModifiedBy>Odhong, Jonathan (IITA)</cp:lastModifiedBy>
  <cp:lastPrinted>2011-10-06T11:45:23Z</cp:lastPrinted>
  <dcterms:modified xsi:type="dcterms:W3CDTF">2016-07-03T13:33:22Z</dcterms:modified>
  <cp:revision>87</cp:revision>
  <dc:subject/>
  <dc:title>Slide 1</dc:title>
</cp:coreProperties>
</file>