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A074-66EB-44EB-8D80-D7DB95968BE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448C3-FE8E-45FD-8209-AF46EE4815D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1054-2EC0-4A9C-9370-5129A9D4A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E6C3-A92F-47F6-B4E7-C4733AB366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9C511-CC4B-450B-A620-CFB691309E1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BF98-7B13-4485-9058-2F352171759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43AE-CEDD-4F2A-B5C9-EEF427F59FE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F2756-57CD-4405-AC42-56618170240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3201-209F-4651-8223-7AEDEC2B35F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34CA-BDC8-420F-A621-F7599CDFF23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17DFF-35B1-4C99-9645-1A20B26B12D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C5B8-3730-4F6E-A9D8-C97D11A2BB9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9563-4603-42B3-AD30-B9DB5394520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77724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Are multi-stakeholder platforms the answer to demand-driven research on sustainable intensification? The case of Babati,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Hillbur, Per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1,3</a:t>
            </a: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 and McCormack, Caitlin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Malmö University, 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Swedish University of Agricultural Sciences (SLU), 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International Institute of Tropical Agriculture (IITA), Arusha, Tanz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6840" y="2514600"/>
            <a:ext cx="8002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per explores the challenge to implement sustainable intensification by a combination of science-driven promotion of agricultural technologies and a demand-driven process in a local organizational contex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what ways do research-for-development (R4D) platforms respond to the need for demand-driven researc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the barriers and opportunities for R4D platforms to support a research program on sustainable agricultural intensific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overall performance of the R4D platform approach in a local context in terms of provision of a demand-driven approach to sustainable intensific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Introduction and obj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a local R4D platform (JUMBA) based on project documentation and 14 semi-structured interviews with key stakeholders in the proces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: three dimensions of platform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establishment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functioning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outcom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ddition to these dimensions, we have added a relational dimension to explore how platform members build networks and relations within and outside the platform itself. The relational dimension is essential to understand the platform’s potential for long-term impa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Research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Establishment – origin and structu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lose link between JUMBA and Africa RISING – sometimes conf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igh representa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Functioning – communication and coordin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The role and capacity of the management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ommunication – a major challenge: + and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Lack of facilitation – financial and capacity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Outcom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coping activity; Objectives and work plan for 15/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d part of Babati District Council annual budget and activity pl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Generally few tangible outcomes on the 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Rel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trengthening local networ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onnecting to District Council - sustain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ain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Future relation JUMBA - Africa RIS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embership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Leadership and coordination; capacity buil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Private sector invol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Ward level platforms to reach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80600" y="2205000"/>
            <a:ext cx="814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R4DPs have considerable potential for sustainable intensification – capacity building and conflict resolution – locally developed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Not independent/mature yet – need for facil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Closer to the farmers – ward level essent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Social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armer groups, social capital, gender equ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Conclusion and relevance to SI dimen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07-03T13:33:22Z</dcterms:modified>
  <cp:revision>87</cp:revision>
  <dc:subject/>
  <dc:title>Slide 1</dc:title>
</cp:coreProperties>
</file>