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06E-244F-4DCF-89D3-35E872B3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24B1-A011-4197-B8C1-18013E22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21C-258B-494E-B819-AF5FB826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0CA-4ED7-4CDF-9C10-71F76BEE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711-88F5-4F1B-90D3-1671BD3B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2E20-B79F-4975-BD4A-C528B05E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6312-36D3-4697-88F6-DDC9CF43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936-1047-464E-B2A2-5289E883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D82-A623-4033-B29B-BA7E5CEF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7D30-EC4B-4EAD-AFAB-F01876B7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6B7-5E27-47CE-96BC-B212CD84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309-5AAA-45C8-8704-4C8DC84A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2BB8-6192-4338-9E30-FB82660D6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 we capitalize and learn from the three components of this continental projec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onalities Across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ing system/livelihood components and constraints may be common across regions – where research is done may not be the only place it is applic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monitoring and evaluation framework  and research design will facilitate lea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ergent research questions transcend national and regional bounda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ergent 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portunities to test development hypotheses under a single conceptual framework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ed to understand initial conditions, pathways, and outcomes (at least qualitatively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xample: How does this project contribute to nutrition outcomes? How (or if?) nutrition outcomes relate to environmental, social, and economic sustainability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 Pathways to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 “development syndromes” with similar constraints and opportunit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agnose how interventions yield impacts across intensification and sustainability gradi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xample, how (and if) increased productivity raise incomes and improve nutrition/stunting outco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ed to establish logical links and measure causation between interventions and outcomes and high-level impa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ual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 common framework to characterize site agroecologies, household and community socioeconomic characteristics, interventions, impact pathways, and indicators (M&amp;E pla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ical details of interventions, component technologies will vary within and between the three reg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opportunities to scale up across intensification/sustainability grad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arly Mee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opportunity for to share lessons and expertise across regions and discipl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development partners, and focus discussion on integration and 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 for feedback and adaptive changes to research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 from other programs: CRPs, CRSPs, development activities, CAADP activ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1:20:28Z</dcterms:created>
  <dc:creator>Windows User</dc:creator>
  <dc:description/>
  <dc:language>en-US</dc:language>
  <cp:lastModifiedBy>eleborgne</cp:lastModifiedBy>
  <dcterms:modified xsi:type="dcterms:W3CDTF">2012-02-13T06:56:00Z</dcterms:modified>
  <cp:revision>7</cp:revision>
  <dc:subject/>
  <dc:title>How do we capitalize and learn from the three components of this continental project?</dc:title>
</cp:coreProperties>
</file>