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2E9-9539-4093-BCD5-CE0E65DE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F559-3F63-49B5-85F5-A10880FC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B982-4236-447B-8DDF-5FE9C424A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53DA-661F-428A-BF07-C0375F2B8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6175-9601-433A-8064-BC9B1E9E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B29-C367-43B6-BA02-7E54A678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DB1-FE48-4CEE-BE10-8124EF67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7C6B-5374-4DEE-8375-F16206C7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9B8-FAA5-4B79-B077-805F7765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37C-CBC4-46DA-92CF-E09EE6E8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AAF3-0595-4A87-BB35-8F8B9546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BA3-2252-4539-BB81-A8BD3E5F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372B-6340-434E-8C9B-E14DC73487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do we capitalize and learn from the three components of this continental project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onalities Across Reg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ing system/livelihood components and constraints may be common across regions – where research is done may not be the only place it is applica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monitoring and evaluation framework  and research design will facilitate lear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gent research questions transcend national and regional boundar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ergent 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portunities to test development hypotheses under a single conceptual framework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understand initial conditions, pathways, and outcomes (at least qualitatively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: How does this project contribute to nutrition outcomes? How (or if?) nutrition outcomes relate to environmental, social, and economic sustainability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 Pathways to Impa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dentify “development syndromes” with similar constraints and opportuniti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iagnose how interventions yield impacts across intensification and sustainability gradien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xample, how (and if) increased productivity raise incomes and improve nutrition/stunting outco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eed to establish logical links and measure causation between interventions and outcomes and high-level impa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a common framework to characterize site agroecologies, household and community socioeconomic characteristics, interventions, impact pathways, and indicators (M&amp;E plan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chnical details of interventions, component technologies will vary within and between the three reg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opportunities to scale up across intensification/sustainability gradi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early Meetin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opportunity for to share lessons and expertise across regions and disciplin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 development partners, and focus discussion on integration and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 for feedback and adaptive changes to research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 from other programs: CRPs, CRSPs, development activities, CAADP activ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1:20:28Z</dcterms:created>
  <dc:creator>Windows User</dc:creator>
  <dc:description/>
  <dc:language>en-US</dc:language>
  <cp:lastModifiedBy>eleborgne</cp:lastModifiedBy>
  <dcterms:modified xsi:type="dcterms:W3CDTF">2012-02-13T06:56:00Z</dcterms:modified>
  <cp:revision>7</cp:revision>
  <dc:subject/>
  <dc:title>How do we capitalize and learn from the three components of this continental project?</dc:title>
</cp:coreProperties>
</file>