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1C35-A6B8-497E-A14E-F7E6D8C89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FCF4-41A7-428B-B588-FB4C655D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BAF00-3DD8-4744-AE01-DBDCCC3D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A289CF-4665-4D94-9DF8-BBC98BDDD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914D51-BC7F-443C-9408-4651820B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E61BFC-18BA-4940-94DF-5F3122DC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DBB24-6C26-4F25-B3D2-BC006FD9F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CFA4F4-EE81-4DB6-8C2F-01BB6C53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536D6-30B5-4A4B-9FD7-1E18D4B30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D65B12-20F8-4CCB-8C52-0EAE80C4B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5D911-55B1-4E84-B76D-5FD40B26F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830B6-6B43-4AFD-986F-691E12E8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F61-5650-4C22-89E4-E0B74DBDC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C812C6-5454-429C-B694-7FE7EBD4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695EB-1C94-47D0-9720-8D8F54DA6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C39B2-C566-466C-99E9-3E41CBEFB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BE6D81-AE94-4C2E-A43C-EF0D42C9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CFCC63-5671-4A97-AACC-A7FE3C0E5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47D34-FD0A-46B3-A822-D3D0AE6C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26439-0D5D-4FE8-BC0D-FEDBCD79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B468D1-8A94-4100-8B6A-CEAD2EA2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EF8D3-BB99-42DC-B5E7-8A98C4022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5CBD01-4950-44CF-8351-9E082F591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902F-F6AC-4D23-ABC0-78B32976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C51502-4AFF-473B-B3AC-14035129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36761F-75A2-47AA-A39B-4B320989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EBEFD-DEEA-4E54-BAE1-318F1D7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0F1A7-0610-4958-8D6F-B7C13162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8ACB6-31F2-4D97-9DC7-29803B00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2EC3A-ADF0-44DC-ABBC-C28ABEBC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8FE05-AFEC-4280-8470-886B5A74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F551D-02A6-4CA1-9716-18AA6BFF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824ED-7AF1-4C9A-9AFE-18620238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5B8A2-94D2-4751-9455-0689C411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381B-AE74-4B0A-9F8D-C72D19C1A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31C79B-69C7-45D7-ABC9-603CBBBC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2086-BC99-47CF-ACAD-57AE3628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F970B-9DBC-4FFD-A58B-05131316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51F01B-E40E-4A1F-A9EF-218314DED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864FCB-3B86-4450-BE59-89A4076C2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6BD1D-E023-4236-A264-CBCDD3C6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FEA3D-FDA2-4A94-89CF-EB6C2566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887A03-4285-4213-8DD9-066025B6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1DAC5-D04B-4847-8969-2809887B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C212C-B9EA-416E-8330-790B5492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6A446-533C-494F-8283-C24E7A3A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0E62A-A610-4BED-A28B-C2698B01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53663-4003-42C2-A362-73666FAF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6DDDD3-C2D1-4AC7-B319-58FF6B80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5EBC0-E1B4-4830-A5F7-883733D3A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9A3C6D-27FF-47E5-9719-FFAB85D90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E7482-E8BC-4EC6-9DA1-87A80B7EC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51A888-A6E1-4BF6-BC04-0182E99F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C1343-9A09-4D52-A0F4-34C142B7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6AE67-C721-429E-B534-F1DD1B14C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FA0ACE-3A07-4784-AC0C-08AC3418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A1DD6-F372-4A57-A32C-B50880ADA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A9CFA3-1CBD-4D0A-A743-2A8D283C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020E0-38ED-48C6-9DEF-3CD360A0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F9D390-F98D-44DF-A007-32B748E1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1F671C-D038-41AC-873D-14D49115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1670CF-9588-44B5-BB8A-DA42D79B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FBD3B9-C463-4FAD-BF0E-A6DCAE7C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EAF28-A950-417D-9402-EEF923F7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3F6A9-C599-460A-A39D-127A7ABE7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8C83E-4C33-4A72-806F-95A059F5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6C924-CEAD-4763-A302-83513FE7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E24BA-095B-4EF1-B4F9-A4BE56144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C16A8-7406-485E-A97A-BBFF25AE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FEC814-9404-4808-B4CA-DDDCB8E93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F3748-9369-4AAC-B619-7D29336C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36C382-A80F-4D05-A329-40A59A9B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477FC-D747-4D60-8920-5396AFB3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C1E87-A9CF-4A00-AD23-06A8FFF6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20F46C-A8D8-4207-9642-BC627AC1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34B03E-E93F-46C4-847D-8F4A54CF2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46890F-3ED5-48A0-8FCB-83ECD8BA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73072A-A778-4E0B-A475-0D579AC2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33F9-F9AF-4EBD-A838-70462F99E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C29EE1-3A02-4876-9EFB-3D18427E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431C60-0679-47CE-B3FB-2315C1C6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221CE6-F1BF-4E1B-A839-966718EA9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011B3C-3BEB-4204-A5F9-C551F64D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1BC062-B760-4E90-99D8-8CEDBAF5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B00BE4-D9AE-40DE-8269-646449F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48F31-7D29-4C21-B3F4-3E86A8F0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A739ED-413C-4620-B44C-A57D74F4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8D040-FFBE-4EA0-801C-A1B35421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B0604-CBBE-4161-B498-5C4358B5A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AE67-780E-4E3F-ABDE-6B33B55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3D975D-80D4-4159-9E11-2B0E81437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23CF0A-7DCF-4CEA-B108-FB2E5C01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368341-4AB1-4C0A-B6CC-3C315A3C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CC019A-6B8C-4670-9214-BCE0356C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03B9EF-9B5A-4F78-BE6D-7BFBA607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7D60FB-9380-4584-9D80-A6ADEEC5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048D62-A89D-4A32-B6E4-134473C5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5F71A6-EE65-4FAB-B064-E63B6A5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5E97E3-4C02-43B9-B4B6-4CE4426C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A297BB-96CB-4FD1-B9B3-BF6E4E6B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5A9B6-E421-4F42-BC52-764DD1D6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47D9BA-A876-4DFF-BDB2-C7912CDD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751B3E-86A1-4E08-88D3-98FCD5CA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3E1B8-F165-491F-8ACC-4D6D6365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EB8BB5-3F68-4ECF-ADA5-961EF9D0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8AB56-0ECD-47DC-A3E7-12966811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C2B126-C9C0-4428-A819-4416F66B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A00C43-6130-47CA-8002-937B3CCD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23067D-F2D8-48FE-94E1-D7DC409B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5BB68A-C135-45E4-BB7B-9B0DB832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3C342C-1B7B-4282-8806-C77B60E95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BDE-5555-47EC-8EBB-B6508478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F642-36A4-4548-BCF2-C6AECCC3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E89565-7BC5-40D2-A176-BACA5347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10B83-4199-4064-88EC-C9BD91FD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8D38D4-4008-4F5A-988D-7FDB4EBA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B20C75-D1CC-4425-99A7-4AD62818A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A5242A-F200-4FF4-83EE-AEC27C028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ED0E-2005-4949-A291-077E5549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9140-13C3-4DE4-923D-3965795A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618C-428D-4BC3-87CB-402E90D6F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424DD-749A-43F1-BD41-E5CA7D644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A8F87-DDA0-44EC-BA3B-B73F7B25B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F47F-A308-4538-8CB0-54AABCF5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2BA97-25EF-4AB3-A671-4A215E5E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9806-3A18-4171-AC01-13CE281B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1A23-5E38-4F70-A376-AE4169EA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45C6-95C9-49CC-9C74-5B6A69DBE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76853-E64C-4EE5-95FA-5952F85D1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6E430-A396-4551-84B8-B3AB184F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F6C41-F5E2-4577-A4EB-5EDCF8D16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5D648-E8F8-48AA-9325-F5C73F7D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08F7-D88A-4748-A417-CAF9D67A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66540-5CEF-421A-ABCF-0D064D43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45E4-FF09-41F6-BE67-18F59D1E7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E26B-88BF-4BAD-956D-C8B18EB30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ECB4A-F45A-4233-96B9-E097FB8C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2DE6C-4278-4027-B34D-333528721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44DE-2073-43C2-A408-396F657B3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09109-E85A-43B2-AF70-9BD3FEFF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BB279-B7BB-4155-87BD-8E995CB3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416B-9B89-4F99-9A22-92399094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80FF5-C408-4801-B68E-C35782DD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5561-2844-4E84-BE72-7AFD1E72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837AF-54BF-4C70-A523-AB9E3511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C756C-0D3C-4C9D-AF95-C64C6C75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ABF7-54AC-4542-86D8-52EF05A7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15AA5-FB23-4EDC-87BA-81A1ED4E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5C194-B1DC-453E-9605-4B3A30D9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E79A-5382-4DF8-980C-B330BB13F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7DDA0-15D7-4FA3-B19F-DD874C57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55FAC-BD55-4176-B7D3-B94172F8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23FDF-1B9C-4FBC-A321-D28719D1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EAE36-AAC0-483F-ABFA-65460B7C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2583E-6931-4015-A897-A4CE293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AAFB-8F7D-4C1B-9221-F5B1287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043F7-F65D-469C-88D9-D03026EF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C2A25-2DB8-4BC1-B528-B50BD30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195B1-E3F6-4F4B-9FF8-4B2B5A7B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4D27C-91B1-4CCF-93EA-0E183AEDD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AEC-885E-4CB0-BA4F-38C5A50B7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D144F-7D7D-48C4-A17D-6F49C9BB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2A48D-81B5-42E5-916F-171DAC97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3BEC36-0795-4D20-A18D-D457DA1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936D4-ADE0-4778-9C9B-665EAA5B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2054A-B2F6-4AE4-BEAC-60EF197A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F5E4A-65E2-4F9A-8C6A-9FC75239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B66B3-5EB3-4596-A128-D3491B0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C74E8-6B14-482C-B908-2DD7A4E52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C031F-0FA2-4668-9F0E-8C71E208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DE1CB-1F52-4266-B8BC-A9A4B3ED0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98F-1954-4172-8D78-A62EA8FD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5D8D9-82E7-4FD1-919A-90A54D5D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9607F-7081-428B-8BFC-5F3BD8FF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40C7F-5B51-4B76-AB12-6A1860A3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320D1D-079A-4C24-83CE-92D295A9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07A43-280C-4C1D-B0C2-6D3ADF8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8DCCD-1C38-48E7-947B-E85D6C04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B33BC-75E3-43F0-8400-A73E64D8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A1D8A9-3189-4C11-B7DE-C66B25EA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E62B8-61EF-4685-B8E4-2E95A549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8171B1-1994-4E0E-8A6B-E86A11D9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5EC-C6E2-4B7A-BCC6-7D7C903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D2AD0-613C-41A9-971E-A3EF7428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5C7A1-6267-42C4-BF2B-A5C4601E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BB3076-DFC9-4F93-B119-82C695F9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CFCA6-9234-4005-B9B8-90E67F0E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C3A3C-48C0-4D18-AE00-ACFA3EB8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9532D-F84F-4BDF-8AEC-9A8A928A9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F14AED-4CCE-420A-9C51-BE03AB13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6F8A5-E695-4519-BB87-59ED8C6C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F7E6E-1007-4045-BDE1-83956D18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2D456-563B-4FCE-8B66-62BDC2FCC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7FFC-5413-4CB0-9B70-A6EDF293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DEA73F-A586-40F2-8F6E-7B862B71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A7291-EC62-4322-BFD5-95B6591D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88562C-64FE-4471-94DE-71F8E4633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3D7955-7931-4477-8324-B70EBF0E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28BA6-1BCE-4579-8F22-08481C01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3A52-5E49-409F-AA3D-8910AE5B8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F0ACC0-D428-4259-8EA8-493AC0DC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FFBE9-6786-4B9A-8332-F097DDF10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73A65-D310-4C51-BC03-D6DC9699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CEC27-881C-40A1-AB73-B23F5736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A88F-331E-49D3-A278-C37ED7538CA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6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7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9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2C65-9779-491A-8D09-31831902F9E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771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862B-4797-4C27-AE7B-6926F331FEB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84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9FE6-3CD6-4E39-B5D7-58417839D57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2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4B98-D7A1-4A8F-B16C-83F6D4EF621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6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7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99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Box 66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67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78712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32A7-81E3-424C-A510-396BE5B07F7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4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71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207BA-06D4-40E5-AC5F-C0955DCB88C8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14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112E-5849-44ED-9866-C786B8BE6F95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8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20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21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EDF8-0BD7-45D3-A5F7-69E0F4DEF13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05" name="Freeform 65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153D-02E4-4275-92E6-FE2F788890C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4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6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B721-895F-45D2-A7A6-EFE89010C79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2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3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25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2B65-1A20-4A89-8548-1DB7D393936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9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0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327" name="Freeform 65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EA36-4D07-43CE-9BDA-90741645FED3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0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65CE-669E-479A-84AA-1743496F56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4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5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0EF8-4E3D-489C-8915-229F04C9C75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1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3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54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470D-A05E-49EF-8440-5FEB98F3574B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9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64725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0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647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647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33"/>
          <p:cNvSpPr/>
          <p:nvPr/>
        </p:nvSpPr>
        <p:spPr>
          <a:xfrm>
            <a:off x="0" y="0"/>
            <a:ext cx="1447920" cy="5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4"/>
          <p:cNvSpPr/>
          <p:nvPr/>
        </p:nvSpPr>
        <p:spPr>
          <a:xfrm>
            <a:off x="0" y="6723000"/>
            <a:ext cx="9144000" cy="13500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62"/>
          <p:cNvSpPr/>
          <p:nvPr/>
        </p:nvSpPr>
        <p:spPr>
          <a:xfrm>
            <a:off x="1447920" y="0"/>
            <a:ext cx="7696080" cy="533520"/>
          </a:xfrm>
          <a:prstGeom prst="rect">
            <a:avLst/>
          </a:prstGeom>
          <a:solidFill>
            <a:srgbClr val="cf6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63"/>
          <p:cNvSpPr/>
          <p:nvPr/>
        </p:nvSpPr>
        <p:spPr>
          <a:xfrm>
            <a:off x="7540560" y="6738840"/>
            <a:ext cx="144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www.iita.org   I   www.cgiar.org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2" descr="\\nas\DATA\MMU\1Publishing_service\50YEARS_Anniversary\50YEARS_logos\IITA TAA White Big.png"/>
          <p:cNvPicPr/>
          <p:nvPr/>
        </p:nvPicPr>
        <p:blipFill>
          <a:blip r:embed="rId3"/>
          <a:stretch/>
        </p:blipFill>
        <p:spPr>
          <a:xfrm>
            <a:off x="68400" y="95400"/>
            <a:ext cx="1301760" cy="380880"/>
          </a:xfrm>
          <a:prstGeom prst="rect">
            <a:avLst/>
          </a:prstGeom>
          <a:ln w="0">
            <a:noFill/>
          </a:ln>
        </p:spPr>
      </p:pic>
      <p:sp>
        <p:nvSpPr>
          <p:cNvPr id="623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e78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3F43-AC05-4702-8ED3-A75B1E2A4582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Title 1"/>
          <p:cNvSpPr/>
          <p:nvPr/>
        </p:nvSpPr>
        <p:spPr>
          <a:xfrm>
            <a:off x="1600200" y="33480"/>
            <a:ext cx="739152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Content Placeholder 2"/>
          <p:cNvSpPr/>
          <p:nvPr/>
        </p:nvSpPr>
        <p:spPr>
          <a:xfrm>
            <a:off x="152280" y="914400"/>
            <a:ext cx="88394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  <a:ea typeface="Arial"/>
              </a:rPr>
              <a:t>INVC- Bridging Acti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dvancing Value Chains of Groundnuts and Soy b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  <a:ea typeface="Arial"/>
              </a:rPr>
              <a:t>Presented at the Annual Review workshop, Lilongwe Hotel, Lilongw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une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3" name="Picture 8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264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6934320" y="5867280"/>
            <a:ext cx="1828800" cy="6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523520" y="446040"/>
            <a:ext cx="3048120" cy="97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&amp; Marketing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7" name=""/>
          <p:cNvSpPr txBox="1"/>
          <p:nvPr/>
        </p:nvSpPr>
        <p:spPr>
          <a:xfrm>
            <a:off x="4743000" y="446040"/>
            <a:ext cx="3791160" cy="541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1240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Prices of soya beans that were offered by the informal traders ranged from MK110/kg to MK170/kg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  <a:ea typeface="Calibri"/>
              </a:rPr>
              <a:t>Linkage of farmer groups -Nyanja and Chitowo Associations to buyers (24.5MT @ MK200/kg for Nyanja and 15.4 MT for Chitowo @MK160/kg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331" name="Picture 7" descr="C:\Users\PKabuli\Desktop\Marketing photos\IMG-20170603-WA0020.jpg"/>
          <p:cNvPicPr/>
          <p:nvPr/>
        </p:nvPicPr>
        <p:blipFill>
          <a:blip r:embed="rId3"/>
          <a:stretch/>
        </p:blipFill>
        <p:spPr>
          <a:xfrm>
            <a:off x="3795840" y="3149640"/>
            <a:ext cx="5138640" cy="2976480"/>
          </a:xfrm>
          <a:prstGeom prst="rect">
            <a:avLst/>
          </a:prstGeom>
          <a:ln w="0">
            <a:noFill/>
          </a:ln>
        </p:spPr>
      </p:pic>
      <p:pic>
        <p:nvPicPr>
          <p:cNvPr id="1332" name="Picture 8" descr="C:\Users\PKabuli\Desktop\Field visit photos\DSC_0815.JPG"/>
          <p:cNvPicPr/>
          <p:nvPr/>
        </p:nvPicPr>
        <p:blipFill>
          <a:blip r:embed="rId4"/>
          <a:stretch/>
        </p:blipFill>
        <p:spPr>
          <a:xfrm>
            <a:off x="3825720" y="609480"/>
            <a:ext cx="5108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Value created by the 2 Value chai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34" name=""/>
          <p:cNvGraphicFramePr/>
          <p:nvPr/>
        </p:nvGraphicFramePr>
        <p:xfrm>
          <a:off x="914400" y="2133720"/>
          <a:ext cx="7848720" cy="3085920"/>
        </p:xfrm>
        <a:graphic>
          <a:graphicData uri="http://schemas.openxmlformats.org/drawingml/2006/table">
            <a:tbl>
              <a:tblPr/>
              <a:tblGrid>
                <a:gridCol w="1308240"/>
                <a:gridCol w="1307880"/>
                <a:gridCol w="1308240"/>
                <a:gridCol w="1307880"/>
                <a:gridCol w="1308240"/>
                <a:gridCol w="1308240"/>
              </a:tblGrid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d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rea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duction (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Price (MK/K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mount (MK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,12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581,6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33,060,4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/n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32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379,9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3,971,1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924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147,031,63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3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961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Less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38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Despite the message of aggregation and marketing, farmers still prefers CoD mode of trade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Group marketing is being affected by past experiences and lack of trust…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ccess to structured market is depended on the volume of produc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Challeng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40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Low production- not able to participate in competitive and structured market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Poor quality seed of groundnuts reduced the profitability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Weak farmer groups- not able to participate in the marketing of commodities effectivel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Aggregation was affected by past experiences and lack of trus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1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244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"/>
          <p:cNvSpPr txBox="1"/>
          <p:nvPr/>
        </p:nvSpPr>
        <p:spPr>
          <a:xfrm>
            <a:off x="1523520" y="2133360"/>
            <a:ext cx="67820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entury Gothic"/>
              </a:rPr>
              <a:t>Thanks for your attention!...</a:t>
            </a:r>
            <a:endParaRPr b="0" lang="en-US" sz="4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4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4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4036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Presentation outlin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6" name=""/>
          <p:cNvSpPr txBox="1"/>
          <p:nvPr/>
        </p:nvSpPr>
        <p:spPr>
          <a:xfrm>
            <a:off x="1942920" y="1599840"/>
            <a:ext cx="659124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troduction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chievement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G/nuts and Soya value chai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Costs and returns structures of G/nuts &amp; Soy beans value chain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Sensitivity Analysis of Soy beans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seed loan management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404040"/>
                </a:solidFill>
                <a:latin typeface="Calibri"/>
                <a:ea typeface="Calibri"/>
              </a:rPr>
              <a:t>Progress of aggregation and marketing</a:t>
            </a: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Value created by the 2 chai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Lesson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Challenge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67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10280" y="594828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68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1600200" y="3312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Introduct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52280" y="914040"/>
            <a:ext cx="88394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The strategic objective was to improve the competitiveness of soya and groundnuts through;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increasing access to business development, financial, and extension services;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transforming the relationships between value chain actors; and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lvl="1" marL="684360" indent="-28440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Calibri"/>
                <a:ea typeface="Calibri"/>
              </a:rPr>
              <a:t>developing market linkages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Working in 5 districts (Mchinji, Lilongwe, Dedza, Ntcheu, and Mangochi) covering 15 EPAs, targeted 15,051 farmers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284040" indent="-28404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alibri"/>
                <a:ea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71" name="Picture 2" descr="C:\Users\jkumwenda\Documents\WORK - ACE\11. RAB\FtF Logo.gif"/>
          <p:cNvPicPr/>
          <p:nvPr/>
        </p:nvPicPr>
        <p:blipFill>
          <a:blip r:embed="rId1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  <p:pic>
        <p:nvPicPr>
          <p:cNvPr id="1272" name="Picture 4" descr="Description: Standard_USAID_Identity_CMYK"/>
          <p:cNvPicPr/>
          <p:nvPr/>
        </p:nvPicPr>
        <p:blipFill>
          <a:blip r:embed="rId2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Text Box 3"/>
          <p:cNvSpPr/>
          <p:nvPr/>
        </p:nvSpPr>
        <p:spPr>
          <a:xfrm>
            <a:off x="838080" y="227664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of operators - in different chann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9"/>
          <p:cNvSpPr/>
          <p:nvPr/>
        </p:nvSpPr>
        <p:spPr>
          <a:xfrm>
            <a:off x="1042920" y="1555920"/>
            <a:ext cx="113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and Inoculant pro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AutoShape 20"/>
          <p:cNvSpPr/>
          <p:nvPr/>
        </p:nvSpPr>
        <p:spPr>
          <a:xfrm>
            <a:off x="826920" y="1555920"/>
            <a:ext cx="1584360" cy="5047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44" y="0"/>
                </a:lnTo>
                <a:lnTo>
                  <a:pt x="21600" y="10800"/>
                </a:lnTo>
                <a:lnTo>
                  <a:pt x="18444" y="21600"/>
                </a:lnTo>
                <a:lnTo>
                  <a:pt x="0" y="21600"/>
                </a:lnTo>
                <a:lnTo>
                  <a:pt x="3156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22"/>
          <p:cNvSpPr/>
          <p:nvPr/>
        </p:nvSpPr>
        <p:spPr>
          <a:xfrm>
            <a:off x="2771640" y="1635120"/>
            <a:ext cx="111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AutoShape 23"/>
          <p:cNvSpPr/>
          <p:nvPr/>
        </p:nvSpPr>
        <p:spPr>
          <a:xfrm>
            <a:off x="241128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AutoShape 25"/>
          <p:cNvSpPr/>
          <p:nvPr/>
        </p:nvSpPr>
        <p:spPr>
          <a:xfrm>
            <a:off x="399420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 Box 26"/>
          <p:cNvSpPr/>
          <p:nvPr/>
        </p:nvSpPr>
        <p:spPr>
          <a:xfrm>
            <a:off x="4348080" y="1555920"/>
            <a:ext cx="10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AutoShape 28"/>
          <p:cNvSpPr/>
          <p:nvPr/>
        </p:nvSpPr>
        <p:spPr>
          <a:xfrm>
            <a:off x="5508720" y="1530360"/>
            <a:ext cx="1584360" cy="5238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523800"/>
              <a:gd name="textAreaBottom" fmla="*/ 523800 h 52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18" y="0"/>
                </a:lnTo>
                <a:lnTo>
                  <a:pt x="21600" y="10800"/>
                </a:lnTo>
                <a:lnTo>
                  <a:pt x="18318" y="21600"/>
                </a:lnTo>
                <a:lnTo>
                  <a:pt x="0" y="21600"/>
                </a:lnTo>
                <a:lnTo>
                  <a:pt x="3282" y="10800"/>
                </a:lnTo>
                <a:close/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 Box 29"/>
          <p:cNvSpPr/>
          <p:nvPr/>
        </p:nvSpPr>
        <p:spPr>
          <a:xfrm>
            <a:off x="5867280" y="1587600"/>
            <a:ext cx="110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ra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Rectangle 43"/>
          <p:cNvSpPr/>
          <p:nvPr/>
        </p:nvSpPr>
        <p:spPr>
          <a:xfrm>
            <a:off x="917640" y="2924280"/>
            <a:ext cx="1258920" cy="576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44"/>
          <p:cNvSpPr/>
          <p:nvPr/>
        </p:nvSpPr>
        <p:spPr>
          <a:xfrm>
            <a:off x="936720" y="2976480"/>
            <a:ext cx="1258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e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oduc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unwe – 119MT Makwach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useco- 21MT Tikol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ISL-4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lobal Seeds- 30MT CG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45"/>
          <p:cNvSpPr/>
          <p:nvPr/>
        </p:nvSpPr>
        <p:spPr>
          <a:xfrm>
            <a:off x="2197080" y="3211560"/>
            <a:ext cx="3589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5" name="Group 46"/>
          <p:cNvGrpSpPr/>
          <p:nvPr/>
        </p:nvGrpSpPr>
        <p:grpSpPr>
          <a:xfrm>
            <a:off x="2556000" y="2924280"/>
            <a:ext cx="1762560" cy="2154240"/>
            <a:chOff x="2556000" y="2924280"/>
            <a:chExt cx="1762560" cy="2154240"/>
          </a:xfrm>
        </p:grpSpPr>
        <p:sp>
          <p:nvSpPr>
            <p:cNvPr id="1286" name="Rectangle 47"/>
            <p:cNvSpPr/>
            <p:nvPr/>
          </p:nvSpPr>
          <p:spPr>
            <a:xfrm>
              <a:off x="2556000" y="2924280"/>
              <a:ext cx="1127160" cy="575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48"/>
            <p:cNvSpPr/>
            <p:nvPr/>
          </p:nvSpPr>
          <p:spPr>
            <a:xfrm>
              <a:off x="2603160" y="3066480"/>
              <a:ext cx="1715400" cy="201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rmer grou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oci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,582MT of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,380MT of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49"/>
            <p:cNvSpPr/>
            <p:nvPr/>
          </p:nvSpPr>
          <p:spPr>
            <a:xfrm>
              <a:off x="3708360" y="3199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9" name="Group 50"/>
          <p:cNvGrpSpPr/>
          <p:nvPr/>
        </p:nvGrpSpPr>
        <p:grpSpPr>
          <a:xfrm>
            <a:off x="4067280" y="2924280"/>
            <a:ext cx="2022120" cy="2477880"/>
            <a:chOff x="4067280" y="2924280"/>
            <a:chExt cx="2022120" cy="2477880"/>
          </a:xfrm>
        </p:grpSpPr>
        <p:sp>
          <p:nvSpPr>
            <p:cNvPr id="1290" name="Rectangle 51"/>
            <p:cNvSpPr/>
            <p:nvPr/>
          </p:nvSpPr>
          <p:spPr>
            <a:xfrm>
              <a:off x="4067280" y="2924280"/>
              <a:ext cx="1152360" cy="64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52"/>
            <p:cNvSpPr/>
            <p:nvPr/>
          </p:nvSpPr>
          <p:spPr>
            <a:xfrm>
              <a:off x="4107240" y="3177000"/>
              <a:ext cx="1982160" cy="22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mal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s for Go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nga trad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ACE Platfor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110-200/kg Soy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MK270-330/kg G/nu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53"/>
            <p:cNvSpPr/>
            <p:nvPr/>
          </p:nvSpPr>
          <p:spPr>
            <a:xfrm>
              <a:off x="5219640" y="3226680"/>
              <a:ext cx="358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54"/>
          <p:cNvGrpSpPr/>
          <p:nvPr/>
        </p:nvGrpSpPr>
        <p:grpSpPr>
          <a:xfrm>
            <a:off x="5580000" y="2924280"/>
            <a:ext cx="1511280" cy="672480"/>
            <a:chOff x="5580000" y="2924280"/>
            <a:chExt cx="1511280" cy="672480"/>
          </a:xfrm>
        </p:grpSpPr>
        <p:sp>
          <p:nvSpPr>
            <p:cNvPr id="1294" name="Rectangle 55"/>
            <p:cNvSpPr/>
            <p:nvPr/>
          </p:nvSpPr>
          <p:spPr>
            <a:xfrm>
              <a:off x="5580000" y="2924280"/>
              <a:ext cx="1152720" cy="576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56"/>
            <p:cNvSpPr/>
            <p:nvPr/>
          </p:nvSpPr>
          <p:spPr>
            <a:xfrm>
              <a:off x="5580000" y="3076560"/>
              <a:ext cx="12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an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57"/>
            <p:cNvSpPr/>
            <p:nvPr/>
          </p:nvSpPr>
          <p:spPr>
            <a:xfrm>
              <a:off x="6732720" y="3200040"/>
              <a:ext cx="358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7" name="Oval 58"/>
          <p:cNvSpPr/>
          <p:nvPr/>
        </p:nvSpPr>
        <p:spPr>
          <a:xfrm>
            <a:off x="7093080" y="2924280"/>
            <a:ext cx="1511280" cy="576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Text Box 59"/>
          <p:cNvSpPr/>
          <p:nvPr/>
        </p:nvSpPr>
        <p:spPr>
          <a:xfrm>
            <a:off x="7311600" y="2924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Mark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 Box 65"/>
          <p:cNvSpPr/>
          <p:nvPr/>
        </p:nvSpPr>
        <p:spPr>
          <a:xfrm>
            <a:off x="1547640" y="11160"/>
            <a:ext cx="62168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Calibri"/>
              </a:rPr>
              <a:t>Progress of Achievement</a:t>
            </a: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  <a:ea typeface="Arial"/>
              </a:rPr>
              <a:t>G/nuts and 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  <a:ea typeface="Arial"/>
              </a:rPr>
              <a:t>Soy beans Value Ch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Textfeld 43"/>
          <p:cNvSpPr/>
          <p:nvPr/>
        </p:nvSpPr>
        <p:spPr>
          <a:xfrm>
            <a:off x="7242120" y="14842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404040"/>
                </a:solidFill>
                <a:latin typeface="Arial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 Box 59"/>
          <p:cNvSpPr/>
          <p:nvPr/>
        </p:nvSpPr>
        <p:spPr>
          <a:xfrm>
            <a:off x="7301520" y="3173400"/>
            <a:ext cx="98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Seg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Picture 30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290520" y="606096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7913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262626"/>
                </a:solidFill>
                <a:latin typeface="Calibri"/>
                <a:ea typeface="Calibri"/>
              </a:rPr>
              <a:t>Costs and Returns structure of G/nuts and Soy beans Value Chains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1942920" y="2133360"/>
            <a:ext cx="659124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306" name=""/>
          <p:cNvGraphicFramePr/>
          <p:nvPr/>
        </p:nvGraphicFramePr>
        <p:xfrm>
          <a:off x="1960560" y="2193840"/>
          <a:ext cx="6573960" cy="4145040"/>
        </p:xfrm>
        <a:graphic>
          <a:graphicData uri="http://schemas.openxmlformats.org/drawingml/2006/table">
            <a:tbl>
              <a:tblPr/>
              <a:tblGrid>
                <a:gridCol w="2306520"/>
                <a:gridCol w="2076480"/>
                <a:gridCol w="2190960"/>
              </a:tblGrid>
              <a:tr h="913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I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oy beans-Makwa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/nuts- CG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,468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63.62kg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6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300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variable cos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12,121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9,36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4,880.00/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89,08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ss marg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2,7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59,726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397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reak-even Pri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144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K238.02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07" name="Picture 5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55440" y="6134040"/>
            <a:ext cx="1905120" cy="71136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6178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nsitivity Analysis for Soy beans (‘What if’)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310" name=""/>
          <p:cNvGraphicFramePr/>
          <p:nvPr/>
        </p:nvGraphicFramePr>
        <p:xfrm>
          <a:off x="1219320" y="2133720"/>
          <a:ext cx="7467480" cy="2565360"/>
        </p:xfrm>
        <a:graphic>
          <a:graphicData uri="http://schemas.openxmlformats.org/drawingml/2006/table">
            <a:tbl>
              <a:tblPr/>
              <a:tblGrid>
                <a:gridCol w="1079280"/>
                <a:gridCol w="1054080"/>
                <a:gridCol w="1067040"/>
                <a:gridCol w="1066680"/>
                <a:gridCol w="1066680"/>
                <a:gridCol w="1067040"/>
                <a:gridCol w="1066680"/>
              </a:tblGrid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Sce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Yield (Kg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Variable cost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rice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ross Income (M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GM (MK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BEP (MK/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(52,12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12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‘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hat If?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2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12,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20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107,8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106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</a:tbl>
          </a:graphicData>
        </a:graphic>
      </p:graphicFrame>
      <p:pic>
        <p:nvPicPr>
          <p:cNvPr id="1311" name="Picture 4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201080" y="6110280"/>
            <a:ext cx="1828800" cy="5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1944360" y="623880"/>
            <a:ext cx="6589800" cy="9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4" name=""/>
          <p:cNvSpPr txBox="1"/>
          <p:nvPr/>
        </p:nvSpPr>
        <p:spPr>
          <a:xfrm>
            <a:off x="1942920" y="1676160"/>
            <a:ext cx="659124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140MT of Soy and 70MT of CG7 was loaned to farmers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rate of repayment varied from one partner to the other but the majority of partners used 1:2 system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Repayment rate for FGs ranges from 40% to 100%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The initial plan for the seed loan was to sell the repaid grain and use the proceeds to buy new certified seed?????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However, there is a challenge that the loan amount will be tremendously reduced…………..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5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5152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1523880" y="62352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Seed Loan manageme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1523520" y="1464840"/>
            <a:ext cx="7086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For example, if we assume 1:2 repayment with 80% repayment rate 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  <a:ea typeface="Calibri"/>
              </a:rPr>
              <a:t>In view of this, plans are underway to establish a sustainable seed management system-borrowing from Chithumba model- where repayment is as high as 1:4</a:t>
            </a: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19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086600" y="5935680"/>
            <a:ext cx="1828800" cy="620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1" name=""/>
          <p:cNvGraphicFramePr/>
          <p:nvPr/>
        </p:nvGraphicFramePr>
        <p:xfrm>
          <a:off x="1523880" y="2305080"/>
          <a:ext cx="7086600" cy="2114640"/>
        </p:xfrm>
        <a:graphic>
          <a:graphicData uri="http://schemas.openxmlformats.org/drawingml/2006/table">
            <a:tbl>
              <a:tblPr/>
              <a:tblGrid>
                <a:gridCol w="609840"/>
                <a:gridCol w="990360"/>
                <a:gridCol w="1143000"/>
                <a:gridCol w="990720"/>
                <a:gridCol w="838080"/>
                <a:gridCol w="685800"/>
                <a:gridCol w="990720"/>
                <a:gridCol w="838080"/>
              </a:tblGrid>
              <a:tr h="903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ch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 distribu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% repay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 Pric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ount (M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of the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8712"/>
                    </a:solidFill>
                  </a:tcPr>
                </a:tc>
              </a:tr>
              <a:tr h="604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y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6,825,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5,84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3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d9cc"/>
                    </a:solidFill>
                  </a:tcPr>
                </a:tc>
              </a:tr>
              <a:tr h="60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/nu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9,568,9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M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3,6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600" spc="-1" strike="noStrike">
                          <a:solidFill>
                            <a:srgbClr val="00b0f0"/>
                          </a:solidFill>
                          <a:latin typeface="Calibri"/>
                        </a:rPr>
                        <a:t>2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alibri"/>
                <a:ea typeface="Calibri"/>
              </a:rPr>
              <a:t>Aggregation and Marketing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3" name=""/>
          <p:cNvSpPr txBox="1"/>
          <p:nvPr/>
        </p:nvSpPr>
        <p:spPr>
          <a:xfrm>
            <a:off x="1942920" y="16761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 (8F, 19M)frontline staff (DAES, We-Effect, Dedza CADECOM) on formulation of aggregation &amp; marketing plans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rained 274 (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  <a:ea typeface="Calibri"/>
              </a:rPr>
              <a:t>129F, 145M)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farmers on formulation of aggregation &amp; marketing pl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Over 350MT of soya was aggregated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  <a:ea typeface="Calibri"/>
              </a:rPr>
              <a:t>The market prices are volatile……….fluctuating almost everyday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78712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324" name="Picture 3" descr="Description: Standard_USAID_Identity_CMYK"/>
          <p:cNvPicPr/>
          <p:nvPr/>
        </p:nvPicPr>
        <p:blipFill>
          <a:blip r:embed="rId1"/>
          <a:srcRect l="0" t="0" r="45082" b="0"/>
          <a:stretch/>
        </p:blipFill>
        <p:spPr>
          <a:xfrm>
            <a:off x="304920" y="5867280"/>
            <a:ext cx="1904760" cy="712800"/>
          </a:xfrm>
          <a:prstGeom prst="rect">
            <a:avLst/>
          </a:prstGeom>
          <a:ln w="0">
            <a:noFill/>
          </a:ln>
        </p:spPr>
      </p:pic>
      <p:pic>
        <p:nvPicPr>
          <p:cNvPr id="1325" name="Picture 2" descr="C:\Users\jkumwenda\Documents\WORK - ACE\11. RAB\FtF Logo.gif"/>
          <p:cNvPicPr/>
          <p:nvPr/>
        </p:nvPicPr>
        <p:blipFill>
          <a:blip r:embed="rId2"/>
          <a:stretch/>
        </p:blipFill>
        <p:spPr>
          <a:xfrm>
            <a:off x="7162920" y="5935680"/>
            <a:ext cx="18288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5T17:20:52Z</dcterms:created>
  <dc:creator>ajuba</dc:creator>
  <dc:description/>
  <dc:language>en-US</dc:language>
  <cp:lastModifiedBy>Kabuli, Pelius (IITA)</cp:lastModifiedBy>
  <dcterms:modified xsi:type="dcterms:W3CDTF">2017-06-29T08:12:21Z</dcterms:modified>
  <cp:revision>163</cp:revision>
  <dc:subject/>
  <dc:title>Slide 1</dc:title>
</cp:coreProperties>
</file>