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62A-6B48-4CC5-905D-0AEB483A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A4E-CCB7-4774-BEC9-F9DFBF61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13714-27B1-4BBC-91C5-18C92DA1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AF253-E825-4B7D-A8E9-D8B34B99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0A1BF-BDF1-4DAA-897A-0657F517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A1A7C-E24E-42D8-8EDF-E541A306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D9E56-4A1B-46FA-8C79-F9D31E4B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A7B38-A9E2-462F-B720-CEE53F11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E7A99-AC9C-4EA0-9921-3CFABECA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F86D7-65BC-4663-8448-A3A567DA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C851A-9275-4A59-84AC-750B30CA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01FD5-862C-4CDE-8B1E-41B02EBF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14B-909F-4820-88A2-8F33F9A2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7B4F6-9BCA-4BF2-9836-489BB104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40703-7930-4D02-836D-6D169E33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C1006-958E-4A7C-AE55-E243E74C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1A869-6E17-45C0-B30B-A6459099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42AD3-6F17-4CA2-9D67-9671EABE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6EE7C-220F-4191-9F4A-993F8DEC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C7506-8CFA-40B8-A435-52953476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FA8A1-351A-4948-B7D4-06633D99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279BC-C168-47EB-84C3-A1F35D1C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1E8BF-5886-4EBF-A08A-55F1BF70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26B-EFAC-4D6C-B24E-8721AC32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1EC6C-14BB-4CCB-B28E-055A3098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A156D-9368-4EE4-9F83-9326E365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036EA-D288-4578-AA30-A7C1052E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C609F-6644-4AAC-9A5B-DC39EAFB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A3611-022B-44B8-9B0D-0493CF22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24FAA-28DB-4B1F-A2BF-1C38F3A4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4E131-0482-44CC-83E7-185F879D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76E26-16B0-4B34-B569-B686C22C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D1631-228D-4D8D-8AA1-58C7AB5C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89E0D-FE09-442A-BBA5-B243EEB9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C70E-A1FE-4D78-9E43-5D24CAE2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8E4C7-B132-40D7-968A-7A84F92C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D78A3-6251-4C1C-9F54-49FD1A15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31821-B15F-4E33-80C3-274A23EC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4D905-5BC7-4F85-9BC8-44BA802B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636B2-1C0E-4D9A-9A35-2D50E7E2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5393B-305B-4E00-9198-8B4EB033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9D693-3F7B-4342-B024-4C2381AE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FCD71-157B-40B4-869D-C8806960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DDB01-39BD-4D0B-86E6-A49D788B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CC4A1-158D-4E5B-82C6-F835071C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ED1F-79E4-403C-94A5-082F2332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9C41A-1A7B-4331-AF53-DE87FB16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94AC0-5CD6-445A-95FC-96523B15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75F53-3F50-44AC-BF35-966E91B5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CDCAC-E12A-46E1-9666-2CE86D19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C00AF-C21C-4713-9DEE-CCBA69AC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3CE57-A6BE-4F89-9703-8CE8F066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CCA7AF-3667-4020-A99E-60D7E346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FFC55-8083-4367-959E-62BB1A5E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F3549-7283-44F1-B2B8-F66D5181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07294-D9F3-4A9E-BD36-AD7FF3CC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5754-8DFD-46B0-AD38-9E042798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EE032-B8B1-402A-8C15-5FDDE400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9542D-4899-4E80-90D7-BFDE4BDF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6E494-E493-4DBF-8873-1A6254BB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C2F12-02EE-4CB5-B9A6-29565F6E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01D92-AFFE-4E77-A0DC-DB8AC04B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C9E42-DCA7-4236-B946-45A6EE83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0EB06-9BE3-477D-B05C-1C796BDC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B43A5-B7DD-4754-AA77-6DA385BF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9B620-A1D5-4E25-A629-1AE96FD7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EDC102-F926-4CBF-8037-F4553E96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3052-58F2-4CB1-AF4C-D1473482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B6ED3-76DB-4067-BD67-F0EA6CA4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D5EC8-37C0-4E1C-8A56-829C40B4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62B87-A0EB-437B-8D3A-42664FD6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1CA2CE-3FBD-40A7-B6C3-0B86E6E5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461186-6120-4B5C-A867-1A82FC10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24BBD-9EE5-45E5-9565-FFFB5643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6846A0-67DF-4E21-B35B-CE88A6AD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9852D-13CF-426A-8BE5-BF6B6B9B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DBA5A-A09F-477A-91A0-270542EA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945CEC-E8AD-4663-8604-2D8745EC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602F-6AFA-4429-9D6C-2D80CE04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0D1D42-5397-4DDC-BAED-FA18FD4D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BF8148-2521-4C93-A2A8-070B482D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B20B27-DC72-4A74-A22C-6861033E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E7857-39C0-4E9D-91EB-95538BA4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B7B498-D604-4B40-B548-B40B3575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5722F3-3F26-429F-A0FA-47B8ABBD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1802B1-5C18-4CAB-B87C-82A0BE4E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73831E-A20C-4802-81D0-D5D05124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61476F-3EA4-4901-B322-EAEC7549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AED62E-0C61-4D72-A942-F4CB785C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4BD6-CB87-48FC-B4B4-4D3EAD25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71491-E401-459C-8FDE-7C25BC83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157EE-BB1A-4764-9994-6EF37A5A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731B50-E3D1-4BF7-831F-4B38057E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E4E728-1783-4E0A-A1B5-74DE722A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54746-F621-4541-ABB6-95C8FE8F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693DB3-2899-4138-944F-9BE89A01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7680DE-D5BE-46A6-AB7C-92617275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4322C8-A8FF-47A3-94B7-970AD65C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ABF6A9-29A5-4E92-9154-58F09AF0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332C44-7BE3-475A-ABBA-A95A7463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C992-ED64-4FA0-8DF6-DC3E6B12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5218A-81F1-48C2-A3CD-1660F81E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5BB60-243F-4783-8934-96661602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C7731-4BB2-46BF-8644-8C995330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7B728-24E8-4760-BA81-CFBB2077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6CC020-73E3-499A-A7CE-63F7D532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11D50F-6DFF-433B-B29F-312D1EC1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131B5C-5CCA-4803-A010-8167EE1B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487AE3-7207-4E1A-BE83-31468F55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6E0E1-E691-420A-8865-00DD4662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D7E6F7-B037-4961-AB1C-4E5098DE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F5A-4335-46B2-9C13-9C45F511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2C05-B182-4120-8158-5A2698AE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254BEE-911F-4B46-A5A6-BEB87582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905C32-1CA7-4971-9FFE-46CDA55C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BC85EA-32D2-4C99-B87E-BB77B4E6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D2F060-DF14-4216-BE77-C0216203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A10B14-424F-444A-80B4-E0EE18DD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BDE1-29CE-4283-893D-60ECF32A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E2F7-8FC5-42BD-A5F4-4BFBAE74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F732-FE68-4C19-8F28-A0DDB10A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FC7D-3657-436E-84F4-191ED12F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8CAB0-B2C6-4284-A96A-9E621216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5EAA5-86D2-4783-8DF1-AAFB6CB8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48C6A-679B-4A54-9525-641C1990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EB229-DDF7-4D93-81BE-891520AE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E01D-DA42-4319-BF67-FCDB3584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F2A-2654-4D22-91A7-175EE0ED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66AEA-FF80-425C-A030-F76D2AD6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39A1-EAEF-4443-A61D-1E69A86F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E73C9-25CC-44EA-BC91-9246D997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C0B45-318B-44C8-BA35-C72E3D3A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9A2D6-34C1-4D19-9727-FE0B6A94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1AD20-8EF8-4285-8173-28ABE5B3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CF7AF-194E-4D29-9F77-E9A2368F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0AEF9-3554-41B3-9CC4-DAC94A91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50445-016C-4C6E-B918-AC9572D4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8C7E4-6094-4DEC-8CD6-667B0A78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750-A733-46C5-B2A7-E43FFEB6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0AED3-D7CD-4457-9FBF-74C04E24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B64AD-C584-4BDC-A088-27FEC7A3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CA3DC-6E44-411E-958A-D857FCEF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A8381-2515-4704-B107-26F0596C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7135A-DEB0-48ED-8FF8-E9B9946D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0EC66-2C7E-4B97-8170-4F2B320E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CFF35-0EC3-4052-8F62-D58813C5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4537C-81BB-4E8C-8845-02AEB34C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1219E-CF17-408C-A5F8-237CD3E2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FF9BA-348A-4F82-9CFF-76DDD6B8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AF2-18CC-44E7-AA41-0D1C08E8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5D164-4E9E-4157-85DB-E96CEEE5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8EF45-9BB6-4EA6-8F6E-FD902787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D038A-D4C3-44BD-9784-73E60B5E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F3A50-D912-4AE4-B453-BB9BBA03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1E67E-F6DD-4578-AE81-15A7E2F7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B5990-7AA8-4214-B470-5EECF631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A472A-C505-46CC-936B-36C7F978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2230B-1AFC-4ED5-9019-76A23161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C0983-8776-4C0D-8D36-36A1CB9C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09B10-2368-41AE-B0F2-79F4E013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EF5-280C-4652-A7C6-5B031E53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E2AEB-4B9E-4F51-9251-698DBACD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99084-1047-4671-834D-B97FA03B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1F92F-2C58-4137-BCAD-BE61D2FE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CFB05-836A-44ED-82A8-184ED701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56BBE-65D5-4C48-8D68-D7E6C60D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194E0-3699-442B-8832-4F778804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35515-7023-4B28-B44B-7A82F368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778C1-710D-4213-8ACF-D283FD16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492EE-1736-4FB8-9BD6-FCADE4BF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580A6-22F3-4DDF-952E-6CA2D5FA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D2E-1D53-4A1C-9E47-2338C7B1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1A35E-C3AC-4FEA-A0D7-7C9F1845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AA124-99C0-481D-B62C-E6A85D29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861FF-AE50-4B0C-8862-F7676C0C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90930-D13F-45EC-A6E0-E39DF60D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40995-2418-4767-B822-EDA2E01C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A5F8E-EF83-4B75-8FA8-E3277B37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4E06E-03E7-46F7-81FD-B03FBCB9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349BA-9CB0-477B-9D9C-32766026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4311C-9BED-4D25-8760-EE385261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B5F62-E837-4356-B873-38CED3DB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2BE-CD19-497B-8ECA-1FCF9F3B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9C4F2-F510-492E-A3F5-7F310594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451AC-CABF-4067-83BF-91274FA1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876B7-3649-4D2E-992F-1DA98E2E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F1CF3-7AF4-485F-B613-64ABFF4D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A27F1-59E0-4AD1-8847-D3AE1EA0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BE6EC-B4AE-4E48-9904-9C9A0EB1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588AD-08D4-42B8-B6B7-592079A7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60DC3-65D2-4A65-831D-CAD2E44B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A3C8F-584B-41CC-9FB0-9BAFC797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EC04B-FACA-4969-B581-00D5239E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2A1-A9DD-49A0-B093-6E1F4614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199E5-EA65-4253-ADC5-01528B58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9B885-E040-4302-9E8E-BBDAA72C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4346A-21CE-4212-BCE0-A642E149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6B209-8670-4A89-8166-9739AED2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2273A-BB5C-4110-A14A-A32241D9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0972B-3F28-4724-A619-E220E72F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C1BC7-506D-40A5-AA13-254143DD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D8D7A-8800-41C0-973C-98B6AF08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43A51-7B24-4060-BC4B-61D7D16C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5964C-1917-4A60-9EDA-ED69B615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9D09-75F3-49CD-9C91-850561EDAB5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9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F0A9-5147-40C0-AEB5-EE261F62077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2983-90FB-4027-9029-3351945E830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84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33EC-EAA6-4E79-86E6-88239D43B5A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2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20DE-7CC7-4426-B928-5133DFC2A30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9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2437-9CB3-4E7F-983F-2512B76C493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7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1477-EE38-4AF9-8BAA-C074AE5BC0C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1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3304-876A-4986-889A-A8C697C5521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21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A082-D83F-4572-AEAB-03058DA3DE6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5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9394-CA2C-45AC-B143-CD6A88F50D3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3294-8B59-4B0E-A322-0B3F27AD300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FA4A-8E97-412E-8CDE-2383365807E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65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8049-0EA9-4D7B-92E1-4AB8EDF1B02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0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C5F0-5A22-46D0-9173-6286DED7BB8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2EBE-9DEE-44EF-B89F-E43107430B7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B01E-6661-4C80-9528-241306B82F7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9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5980-E372-42DB-BF8B-6B1954834B7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itle 1"/>
          <p:cNvSpPr/>
          <p:nvPr/>
        </p:nvSpPr>
        <p:spPr>
          <a:xfrm>
            <a:off x="1600200" y="33480"/>
            <a:ext cx="739152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ontent Placeholder 2"/>
          <p:cNvSpPr/>
          <p:nvPr/>
        </p:nvSpPr>
        <p:spPr>
          <a:xfrm>
            <a:off x="152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VC- Bridg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dvancing Value Chains of Groundnuts and So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esented at the Annual Review workshop, Lilongwe Hotel, Lilong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8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6934320" y="5867280"/>
            <a:ext cx="1828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523520" y="446040"/>
            <a:ext cx="304812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Aggregation &amp; Marketing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4743000" y="446040"/>
            <a:ext cx="3791160" cy="541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124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Prices of soya beans that were offered by the informal traders ranged from MK110/kg to MK170/kg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Linkage of farmer groups -Nyanja and Chitowo Associations to buyers (24.5MT @ MK200/kg for Nyanja and 15.4 MT for Chitowo @MK160/kg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9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7" descr="C:\Users\PKabuli\Desktop\Marketing photos\IMG-20170603-WA0020.jpg"/>
          <p:cNvPicPr/>
          <p:nvPr/>
        </p:nvPicPr>
        <p:blipFill>
          <a:blip r:embed="rId3"/>
          <a:stretch/>
        </p:blipFill>
        <p:spPr>
          <a:xfrm>
            <a:off x="3795840" y="3149640"/>
            <a:ext cx="5138640" cy="297648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8" descr="C:\Users\PKabuli\Desktop\Field visit photos\DSC_0815.JPG"/>
          <p:cNvPicPr/>
          <p:nvPr/>
        </p:nvPicPr>
        <p:blipFill>
          <a:blip r:embed="rId4"/>
          <a:stretch/>
        </p:blipFill>
        <p:spPr>
          <a:xfrm>
            <a:off x="3825720" y="609480"/>
            <a:ext cx="5108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Value created by the 2 Value chai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4" name=""/>
          <p:cNvGraphicFramePr/>
          <p:nvPr/>
        </p:nvGraphicFramePr>
        <p:xfrm>
          <a:off x="914400" y="2133720"/>
          <a:ext cx="7848720" cy="308592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  <a:gridCol w="1307880"/>
                <a:gridCol w="1308240"/>
                <a:gridCol w="1308240"/>
              </a:tblGrid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rea (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(Kg/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on 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Price (MK/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ount (M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12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68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581,6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3,060,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/n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32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3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379,9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3,971,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147,031,6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3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961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Less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Despite the message of aggregation and marketing, farmers still prefers CoD mode of trad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Group marketing is being affected by past experiences and lack of trust…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Access to structured market is depended on the volume of product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Challeng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Low pr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Low production- not able to participate in competitive and structured market effectivel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Poor quality seed of groundnuts reduced the profitability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Weak farmer groups- not able to participate in the marketing of commodities effectivel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Aggregation was affected by past experiences and lack of trus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1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244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 txBox="1"/>
          <p:nvPr/>
        </p:nvSpPr>
        <p:spPr>
          <a:xfrm>
            <a:off x="1523520" y="2133360"/>
            <a:ext cx="67820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entury Gothic"/>
              </a:rPr>
              <a:t>Thanks for your attention!..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4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Presentation outlin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Introduction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Achievement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G/nuts and Soya value chain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Costs and returns structures of G/nuts &amp; Soy beans value chain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Sensitivity Analysis of Soy bean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seed loan management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aggregation and marketing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Value created by the 2 chain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Lesson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Challenge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10280" y="594828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600200" y="3312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Introduc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52280" y="91404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The strategic objective was to improve the competitiveness of soya and groundnuts through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increasing access to business development, financial, and extension services;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transforming the relationships between value chain actors; and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developing market linkages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Working in 5 districts (Mchinji, Lilongwe, Dedza, Ntcheu, and Mangochi) covering 15 EPAs, targeted 15,051 farmer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86600" y="579132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3"/>
          <p:cNvSpPr/>
          <p:nvPr/>
        </p:nvSpPr>
        <p:spPr>
          <a:xfrm>
            <a:off x="838080" y="227664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operators - in different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9"/>
          <p:cNvSpPr/>
          <p:nvPr/>
        </p:nvSpPr>
        <p:spPr>
          <a:xfrm>
            <a:off x="1042920" y="1555920"/>
            <a:ext cx="113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ed and Inoculant pro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20"/>
          <p:cNvSpPr/>
          <p:nvPr/>
        </p:nvSpPr>
        <p:spPr>
          <a:xfrm>
            <a:off x="826920" y="1555920"/>
            <a:ext cx="1584360" cy="5047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lnTo>
                  <a:pt x="3156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2"/>
          <p:cNvSpPr/>
          <p:nvPr/>
        </p:nvSpPr>
        <p:spPr>
          <a:xfrm>
            <a:off x="2771640" y="163512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23"/>
          <p:cNvSpPr/>
          <p:nvPr/>
        </p:nvSpPr>
        <p:spPr>
          <a:xfrm>
            <a:off x="241128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25"/>
          <p:cNvSpPr/>
          <p:nvPr/>
        </p:nvSpPr>
        <p:spPr>
          <a:xfrm>
            <a:off x="399420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26"/>
          <p:cNvSpPr/>
          <p:nvPr/>
        </p:nvSpPr>
        <p:spPr>
          <a:xfrm>
            <a:off x="4348080" y="155592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28"/>
          <p:cNvSpPr/>
          <p:nvPr/>
        </p:nvSpPr>
        <p:spPr>
          <a:xfrm>
            <a:off x="550872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29"/>
          <p:cNvSpPr/>
          <p:nvPr/>
        </p:nvSpPr>
        <p:spPr>
          <a:xfrm>
            <a:off x="5867280" y="1587600"/>
            <a:ext cx="110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43"/>
          <p:cNvSpPr/>
          <p:nvPr/>
        </p:nvSpPr>
        <p:spPr>
          <a:xfrm>
            <a:off x="917640" y="2924280"/>
            <a:ext cx="125892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44"/>
          <p:cNvSpPr/>
          <p:nvPr/>
        </p:nvSpPr>
        <p:spPr>
          <a:xfrm>
            <a:off x="936720" y="2976480"/>
            <a:ext cx="1258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nwe – 119MT Makwac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seco- 21MT Tikol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ISL-40MT CG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lobal Seeds- 30MT CG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45"/>
          <p:cNvSpPr/>
          <p:nvPr/>
        </p:nvSpPr>
        <p:spPr>
          <a:xfrm>
            <a:off x="2197080" y="3211560"/>
            <a:ext cx="358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46"/>
          <p:cNvGrpSpPr/>
          <p:nvPr/>
        </p:nvGrpSpPr>
        <p:grpSpPr>
          <a:xfrm>
            <a:off x="2556000" y="2924280"/>
            <a:ext cx="1762560" cy="2154240"/>
            <a:chOff x="2556000" y="2924280"/>
            <a:chExt cx="1762560" cy="2154240"/>
          </a:xfrm>
        </p:grpSpPr>
        <p:sp>
          <p:nvSpPr>
            <p:cNvPr id="1286" name="Rectangle 47"/>
            <p:cNvSpPr/>
            <p:nvPr/>
          </p:nvSpPr>
          <p:spPr>
            <a:xfrm>
              <a:off x="2556000" y="2924280"/>
              <a:ext cx="1127160" cy="57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48"/>
            <p:cNvSpPr/>
            <p:nvPr/>
          </p:nvSpPr>
          <p:spPr>
            <a:xfrm>
              <a:off x="2603160" y="3066480"/>
              <a:ext cx="17154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r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rmer grou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oci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pera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82MT of so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380MT of G/n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49"/>
            <p:cNvSpPr/>
            <p:nvPr/>
          </p:nvSpPr>
          <p:spPr>
            <a:xfrm>
              <a:off x="3708360" y="3199680"/>
              <a:ext cx="3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Group 50"/>
          <p:cNvGrpSpPr/>
          <p:nvPr/>
        </p:nvGrpSpPr>
        <p:grpSpPr>
          <a:xfrm>
            <a:off x="4067280" y="2924280"/>
            <a:ext cx="2022120" cy="2477880"/>
            <a:chOff x="4067280" y="2924280"/>
            <a:chExt cx="2022120" cy="2477880"/>
          </a:xfrm>
        </p:grpSpPr>
        <p:sp>
          <p:nvSpPr>
            <p:cNvPr id="1290" name="Rectangle 51"/>
            <p:cNvSpPr/>
            <p:nvPr/>
          </p:nvSpPr>
          <p:spPr>
            <a:xfrm>
              <a:off x="4067280" y="2924280"/>
              <a:ext cx="1152360" cy="64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52"/>
            <p:cNvSpPr/>
            <p:nvPr/>
          </p:nvSpPr>
          <p:spPr>
            <a:xfrm>
              <a:off x="4107240" y="3177000"/>
              <a:ext cx="19821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l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s for G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nga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CE Platfor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K110-200/kg So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K270-330/kg G/n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53"/>
            <p:cNvSpPr/>
            <p:nvPr/>
          </p:nvSpPr>
          <p:spPr>
            <a:xfrm>
              <a:off x="5219640" y="3226680"/>
              <a:ext cx="3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54"/>
          <p:cNvGrpSpPr/>
          <p:nvPr/>
        </p:nvGrpSpPr>
        <p:grpSpPr>
          <a:xfrm>
            <a:off x="5580000" y="2924280"/>
            <a:ext cx="1511280" cy="672480"/>
            <a:chOff x="5580000" y="2924280"/>
            <a:chExt cx="1511280" cy="672480"/>
          </a:xfrm>
        </p:grpSpPr>
        <p:sp>
          <p:nvSpPr>
            <p:cNvPr id="1294" name="Rectangle 55"/>
            <p:cNvSpPr/>
            <p:nvPr/>
          </p:nvSpPr>
          <p:spPr>
            <a:xfrm>
              <a:off x="5580000" y="2924280"/>
              <a:ext cx="1152720" cy="57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56"/>
            <p:cNvSpPr/>
            <p:nvPr/>
          </p:nvSpPr>
          <p:spPr>
            <a:xfrm>
              <a:off x="5580000" y="3076560"/>
              <a:ext cx="12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n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57"/>
            <p:cNvSpPr/>
            <p:nvPr/>
          </p:nvSpPr>
          <p:spPr>
            <a:xfrm>
              <a:off x="6732720" y="3200040"/>
              <a:ext cx="358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Oval 58"/>
          <p:cNvSpPr/>
          <p:nvPr/>
        </p:nvSpPr>
        <p:spPr>
          <a:xfrm>
            <a:off x="7093080" y="2924280"/>
            <a:ext cx="1511280" cy="57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59"/>
          <p:cNvSpPr/>
          <p:nvPr/>
        </p:nvSpPr>
        <p:spPr>
          <a:xfrm>
            <a:off x="7311600" y="2924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65"/>
          <p:cNvSpPr/>
          <p:nvPr/>
        </p:nvSpPr>
        <p:spPr>
          <a:xfrm>
            <a:off x="1547640" y="11160"/>
            <a:ext cx="6216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gress of Achievement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  <a:ea typeface="Arial"/>
              </a:rPr>
              <a:t>G/nuts and 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oy beans Value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feld 43"/>
          <p:cNvSpPr/>
          <p:nvPr/>
        </p:nvSpPr>
        <p:spPr>
          <a:xfrm>
            <a:off x="7242120" y="1484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40404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40404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59"/>
          <p:cNvSpPr/>
          <p:nvPr/>
        </p:nvSpPr>
        <p:spPr>
          <a:xfrm>
            <a:off x="7301520" y="317340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eg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Picture 30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290520" y="6060960"/>
            <a:ext cx="1905120" cy="71136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79132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  <a:ea typeface="Calibri"/>
              </a:rPr>
              <a:t>Costs and Returns structure of G/nuts and Soy beans Value Chain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1960560" y="2193840"/>
          <a:ext cx="6573960" cy="4145040"/>
        </p:xfrm>
        <a:graphic>
          <a:graphicData uri="http://schemas.openxmlformats.org/drawingml/2006/table">
            <a:tbl>
              <a:tblPr/>
              <a:tblGrid>
                <a:gridCol w="2306520"/>
                <a:gridCol w="2076480"/>
                <a:gridCol w="2190960"/>
              </a:tblGrid>
              <a:tr h="91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oy beans-Makwa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/nuts- CG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68kg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3.62kg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16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30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variable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12,121.00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29,3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ss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34,880.00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89,08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ss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2,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59,72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eak-even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144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38.02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07" name="Picture 5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55440" y="6134040"/>
            <a:ext cx="1905120" cy="71136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617868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nsitivity Analysis for Soy beans (‘What if’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0" name=""/>
          <p:cNvGraphicFramePr/>
          <p:nvPr/>
        </p:nvGraphicFramePr>
        <p:xfrm>
          <a:off x="1219320" y="2133720"/>
          <a:ext cx="7467480" cy="2565360"/>
        </p:xfrm>
        <a:graphic>
          <a:graphicData uri="http://schemas.openxmlformats.org/drawingml/2006/table">
            <a:tbl>
              <a:tblPr/>
              <a:tblGrid>
                <a:gridCol w="1079280"/>
                <a:gridCol w="1054080"/>
                <a:gridCol w="1067040"/>
                <a:gridCol w="1066680"/>
                <a:gridCol w="1066680"/>
                <a:gridCol w="1067040"/>
                <a:gridCol w="106668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Yield (Kg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ariable cost (M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rice (MK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ross Income (M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M (MK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BEP (MK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f?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2,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(52,1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212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f?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2,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07,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106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11" name="Picture 4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201080" y="6110280"/>
            <a:ext cx="1828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ed Loan manage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1942920" y="1676160"/>
            <a:ext cx="65912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140MT of Soy and 70MT of CG7 was loaned to farmer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The rate of repayment varied from one partner to the other but the majority of partners used 1:2 system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Repayment rate for FGs ranges from 40% to 100%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The initial plan for the seed loan was to sell the repaid grain and use the proceeds to buy new certified seed????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However, there is a challenge that the loan amount will be tremendously reduced………….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1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5152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523880" y="623520"/>
            <a:ext cx="739152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ed Loan manage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1523520" y="1464840"/>
            <a:ext cx="708660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For example, if we assume 1:2 repayment with 80% repayment rate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In view of this, plans are underway to establish a sustainable seed management system-borrowing from Chithumba model- where repayment is as high as 1:4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19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5680"/>
            <a:ext cx="182880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1" name=""/>
          <p:cNvGraphicFramePr/>
          <p:nvPr/>
        </p:nvGraphicFramePr>
        <p:xfrm>
          <a:off x="1523880" y="2305080"/>
          <a:ext cx="7086600" cy="2114640"/>
        </p:xfrm>
        <a:graphic>
          <a:graphicData uri="http://schemas.openxmlformats.org/drawingml/2006/table">
            <a:tbl>
              <a:tblPr/>
              <a:tblGrid>
                <a:gridCol w="609840"/>
                <a:gridCol w="990360"/>
                <a:gridCol w="1143000"/>
                <a:gridCol w="990720"/>
                <a:gridCol w="838080"/>
                <a:gridCol w="685800"/>
                <a:gridCol w="990720"/>
                <a:gridCol w="838080"/>
              </a:tblGrid>
              <a:tr h="903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 distribu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(M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 re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Pri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unt (M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th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60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6,825,2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5,84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/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9,568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3,6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Aggregation and Marketing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1942920" y="16761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rained 27 (8F, 19M)frontline staff (DAES, We-Effect, Dedza CADECOM) on formulation of aggregation &amp; marketing plans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rained 274 (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Calibri"/>
              </a:rPr>
              <a:t>129F, 145M)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farmers on formulation of aggregation &amp; marketing pl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Over 350MT of soya was aggregated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he market prices are volatile……….fluctuating almost everyda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4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3568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Kabuli, Pelius (IITA)</cp:lastModifiedBy>
  <dcterms:modified xsi:type="dcterms:W3CDTF">2017-06-29T08:12:21Z</dcterms:modified>
  <cp:revision>163</cp:revision>
  <dc:subject/>
  <dc:title>Slide 1</dc:title>
</cp:coreProperties>
</file>