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761163" cy="9942513"/>
</p:presentation>
</file>

<file path=ppt/commentAuthors.xml><?xml version="1.0" encoding="utf-8"?>
<p:cmAuthorLst xmlns:p="http://schemas.openxmlformats.org/presentationml/2006/main">
  <p:cmAuthor id="0" name="Hoeschle-Zeledon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6-06-23T10:39:42.336000000" idx="1">
    <p:pos x="2850" y="1612"/>
    <p:text>Has the research also evolved? Yes. 
I would add a bullet on research evolution.  From jumpstarts to separate components to integrated packages.  Themes building on each other, the Rusike diagram. And systems approach based on typologies.
Plus developing  a farnework for measuring SI.
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9F54-8A8A-4D53-9481-4B4A5679A7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6F26-AEDD-4B70-A895-58ADB8F3EFF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0191-02E5-40F3-92BB-A865D4CA3D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418-8DBC-4012-8083-ED673990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033-97C1-4229-8ED2-BF19B2FA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B454-8DF2-4698-964E-C359927A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49A-B777-4628-BAB9-DBB65E56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D4D-13B4-48B3-8EA1-E102814A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355-7E61-415E-ABB7-94FC947D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861-8D59-46A9-B781-B557E38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0DE-DC6F-472D-83A1-F8759C20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52E-E4E7-4193-B283-DF0FD10A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F0F-F65D-4AE7-BB3B-3A785204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928-C82D-4DE6-BA68-5BF4269A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53B-7F1D-4BF7-988B-D57FA7CB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1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5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6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DBAB-1FD8-4844-9544-665352C4009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6" descr=""/>
          <p:cNvPicPr/>
          <p:nvPr/>
        </p:nvPicPr>
        <p:blipFill>
          <a:blip r:embed="rId2"/>
          <a:srcRect l="0" t="15856" r="0" b="9061"/>
          <a:stretch/>
        </p:blipFill>
        <p:spPr>
          <a:xfrm>
            <a:off x="8404200" y="589428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646" name="TextBox 4"/>
          <p:cNvSpPr/>
          <p:nvPr/>
        </p:nvSpPr>
        <p:spPr>
          <a:xfrm>
            <a:off x="822240" y="6338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CONFERENCE ON CLIMATE CHANGE AND MULTI-DIMENSIONAL SUSTAINABILITY IN AFRICAN 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6002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</a:rPr>
              <a:t>Overview of Year I Planned activities and outp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frica RISING: Going to scale in the Eastern Province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nnual Review and Planning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30-31 August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Lusaka, Zambia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2 Targets (Give for 20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28600" y="1752480"/>
          <a:ext cx="7620120" cy="4953240"/>
        </p:xfrm>
        <a:graphic>
          <a:graphicData uri="http://schemas.openxmlformats.org/drawingml/2006/table">
            <a:tbl>
              <a:tblPr/>
              <a:tblGrid>
                <a:gridCol w="2438280"/>
                <a:gridCol w="5181840"/>
              </a:tblGrid>
              <a:tr h="554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e-basic and basic vine cuttings for further multiplication pro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3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e multipliers recruited and tra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undles of vines ready for dissemin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4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5 to July 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eneficiaries  disagregated by 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agro dealers piloted as selling points of v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31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network by gro-dealers (number serv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53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under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825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ainings, demos, flyers, sign posts, radio programs and adverts, field days and cooking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92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varieties released or  near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7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developed/valida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73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enterprises developed from OFSP lin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3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52280" y="1371600"/>
          <a:ext cx="8839440" cy="5514840"/>
        </p:xfrm>
        <a:graphic>
          <a:graphicData uri="http://schemas.openxmlformats.org/drawingml/2006/table">
            <a:tbl>
              <a:tblPr/>
              <a:tblGrid>
                <a:gridCol w="2438640"/>
                <a:gridCol w="685800"/>
                <a:gridCol w="4190760"/>
                <a:gridCol w="1524240"/>
              </a:tblGrid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ustainably intensify maize dominated cropp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ached;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% increase in maize y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 farmer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sing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tensify maize/ legume intercropping syste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requirement for seeding to allow for timely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30 % reduction in labour for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for women and children for weed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 30% reduction in labor for wee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crease land equivalen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mendation legume combi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4309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the best bet green manure speci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6 + 48 CRS de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-bet green manure cover cr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4615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soil fertitlity benefits in 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s bet maize-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27720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itrogen use 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trials; 1 recommendation develo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us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nutrition and test MLN resistant germplasm for adap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trials; 3 varieties rel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4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685800" y="1600200"/>
          <a:ext cx="8305920" cy="5005440"/>
        </p:xfrm>
        <a:graphic>
          <a:graphicData uri="http://schemas.openxmlformats.org/drawingml/2006/table">
            <a:tbl>
              <a:tblPr/>
              <a:tblGrid>
                <a:gridCol w="3429000"/>
                <a:gridCol w="665280"/>
                <a:gridCol w="4211640"/>
              </a:tblGrid>
              <a:tr h="1167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quantify the value of the aflasafe bicontrol products in enhancing farmer incom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value of Aflasafe product in enhancing farmer income quantified and promoted amongst the private sector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adopt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ssess the efficacy of two aflasafe bicontrol products in Region I and III agroecological zones of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cy of the Aflasafe biocontrol products ZM01 and ZM02 determined in Region I and III agroecological zone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treated fiel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 business plan for comercializing aflasafe in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usiness plan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commercializing aflasafe in Zambia developed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84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n ecotoxicological dossier and identify requirements for aflasafe registration and commercializ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7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safe biocontrol products, ZM01 and ZM02 registered by ZEMA =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ssier &amp; recor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024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impact of aflasafe application on cost and effectivness of key partners' opperations to inform buisness plan for aflasafe manufactur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 cost benefit analysis for participating private sector partner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VC Re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bac8b8"/>
          </a:solidFill>
          <a:ln w="12600">
            <a:solidFill>
              <a:srgbClr val="4b843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Action Sites in Zambia (May 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10" descr="C:\Users\Mateete\Desktop\AAAAA\AR_Zambia_Demo_Sites_Themes.jpg"/>
          <p:cNvPicPr/>
          <p:nvPr/>
        </p:nvPicPr>
        <p:blipFill>
          <a:blip r:embed="rId1"/>
          <a:stretch/>
        </p:blipFill>
        <p:spPr>
          <a:xfrm>
            <a:off x="1600200" y="19810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AVRDC – The World Vegetable Center — avrdc.org"/>
          <p:cNvPicPr/>
          <p:nvPr/>
        </p:nvPicPr>
        <p:blipFill>
          <a:blip r:embed="rId6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43131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520" y="1592280"/>
            <a:ext cx="7620120" cy="7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600" spc="-1" strike="noStrike">
              <a:solidFill>
                <a:srgbClr val="323232"/>
              </a:solidFill>
              <a:latin typeface="Gill Sans"/>
            </a:endParaRPr>
          </a:p>
        </p:txBody>
      </p:sp>
      <p:sp>
        <p:nvSpPr>
          <p:cNvPr id="741" name="Title 1"/>
          <p:cNvSpPr/>
          <p:nvPr/>
        </p:nvSpPr>
        <p:spPr>
          <a:xfrm>
            <a:off x="700200" y="29718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utcomes and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targ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Project Strategic Out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7772400" cy="25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novations that increase productivity of farming systems and of availability and consumption of safe and nutritious food are ado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timulate the commercialization and distribution of improved legume seed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ntribute to increased frequency of intake of vitamin A, especially by women and children under 5 yea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ustainably intensify current maize-based low input production system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mmercialize the aflasafe biocontrol products for aflatoxin mitigat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8720" y="1218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matic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821c"/>
                </a:solidFill>
                <a:latin typeface="Calibri"/>
                <a:ea typeface="Calibri"/>
              </a:rPr>
              <a:t>Legume seed delivery systems im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1.1 Support for production of breeder/foundation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2 Promotion of complimentary agronomic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 3 Promotion of inoculation practi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4 Conduct of efficacy tests for inocu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5 Support for the e-voucher FISP program as a roll out strategy for legumes to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6 Develop a plan for roll out beyond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7 Identify and support small seed companies for commercialisation of legume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8 Build capacity of agro dealer networks for seed distribution chann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9 Facilitate seed promotional and demand creation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0 Facilitate links with lead off-take / processing companies to stimulate end market demand of gr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1 Improve ZARI's storage and irrigation fac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2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OFSP planting material systems str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 Multiply and disseminate superior OFSP variet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a Support for production of breeder/foundation seeds (vin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b Recruit and train Vine multipliers and 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c Support the multiplication of vines by vine multipli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d Facilitate the dissemination of vines to beneficiaries through promotion sales and pass-on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e Identify and support agro dealers to become linking points between multipliers and buyers of vi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f Build capacity of agro dealer networks for vine distribution channe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2 Improve OFSP productivity through the demonstration of improved varieties and associated production practi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3 Develop and disseminate diet diversification and nutrition messages on vitamin A, child healthy and other critical nutritional aspects for malnutrition redu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4 Support new variety rel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5 Conduct good agronomic practices stud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6 Linking OFSP growers to road side and markets and other sweet potato related value chai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3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Low input maize/legume systems sustainably intens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1 Scaling of maize/legume ro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2 Scaling of maize/legume intercro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3 Scaling of direct seeding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4 Scaling of judicious use of herbic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5 Research on doubled up legume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6 Research on use green manure cover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7 Evaluation of the COMACO agroforestry scaling model and trade-off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8 Improving manure hand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9 Testing of new QPM lines and MLN resistant varie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4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Efficacy of Aflasafe proven and commercialization facilit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1 Conduct national and regional trade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2 Assessment of the value of the aflasafe biocontrol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3 Demonstration of  aflasafe effic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4 Development of a business plan for commercialisation of aflasa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5 Registration of aflasafe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6 Conduct of the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Targ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52280" y="2057400"/>
          <a:ext cx="4191120" cy="404964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1109880"/>
                <a:gridCol w="102384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1: 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8124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w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4572000" y="1371600"/>
          <a:ext cx="4343400" cy="5059440"/>
        </p:xfrm>
        <a:graphic>
          <a:graphicData uri="http://schemas.openxmlformats.org/drawingml/2006/table">
            <a:tbl>
              <a:tblPr/>
              <a:tblGrid>
                <a:gridCol w="1862280"/>
                <a:gridCol w="877680"/>
                <a:gridCol w="1603440"/>
              </a:tblGrid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 seed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ly 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SHA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MUSAN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ZIT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P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EAP 01415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Odhong, Jonathan (IITA)</cp:lastModifiedBy>
  <cp:lastPrinted>2016-08-15T09:21:41Z</cp:lastPrinted>
  <dcterms:modified xsi:type="dcterms:W3CDTF">2016-09-08T14:56:14Z</dcterms:modified>
  <cp:revision>216</cp:revision>
  <dc:subject/>
  <dc:title>Slide 1</dc:title>
</cp:coreProperties>
</file>