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3C2-C2CE-4CA3-8338-ACDB90AB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4A5-D7D8-4D09-87CC-602C8813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32E-F991-40F4-BFDF-5E3D8CBC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16D-EEC1-496C-B841-D71F103B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6344-47F0-4943-9B64-C7028ACE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4C80-EBAA-44D5-B3FC-51D5A0BD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9682-A1D0-4358-B284-B158B739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5E21-2472-4923-AD8E-25D9E571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D405-9482-4289-BD59-311C5D61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BFFD-930C-4335-8BAD-904A69F0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86AA-48EF-43D1-AC75-48C11A22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536-5BF1-4000-934E-65CAD40A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6832-7C52-4CBC-8963-B491EA3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8CAD-6A3D-465A-B444-F18DC0D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7626-8F13-4210-A420-0990997F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1471-F70C-4404-9C52-DA543BC4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56A1-DB76-4DEC-90C7-4797C6ED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9C59-D186-4CEE-BDC5-6E91EF37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96C7-A729-48A1-A326-B440C615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4DEEE-BB51-4C53-A3B1-CEDC291C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D4CC-72F7-405E-9C88-CB9A1F35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B064-2BB0-480D-8C28-BAF899DD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394-B644-4119-88C0-C06E285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40DA-AD1B-4C97-BA2B-6AA42D43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3A6C-4AD8-4DF0-B13F-DE147710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5199-91C2-40AF-AC8A-1C5CE5DB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E03D-24AB-43B6-8FE2-307B043B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2DD3-B964-4BC1-8DD8-514D512C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B877-6464-4487-9BBE-133C44EA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A7FA-2D71-4F73-AA1E-1BEF99BB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6910-866A-4C2F-8FAC-ACB631B6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F1D7-400A-448B-A6F5-5389E2C9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711F8-E2ED-4DA1-A4C7-151DBDE9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110-6198-40F0-A5A5-7761EB86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D31AB-018E-424C-AD9A-80699F5C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6F49F-4B61-4CAA-B45F-16709AE5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70A67-0E39-48CC-9A5E-F9AE84DB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CFE34-7212-489A-B9A9-99574230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9974-6810-45D9-AF34-6C96BD2C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1E52C-5973-4A24-9097-6D5CACDB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B304B-670D-410F-8764-7C1DF067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ABCD-2320-4270-9475-5A7A7E07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EBC1F-8891-42B9-A7DB-77B63FF6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308678-4551-4934-B1BC-893E0AF5B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F68-5030-46E1-AD04-17F4B301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9D35C1-AAE1-4589-A490-B0C08429A4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F4154B-18B9-48CF-A658-03DA2A9BA1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7C4A72-68F7-493F-8D8A-F6E4CC6B68A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3E54D9-5E24-4B33-906D-B0498957D29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B26730-5C26-42FC-8730-3417C93F46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E340C-6557-46D0-99D6-D5DCD3238AF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7BCE6B-970F-4603-9976-16615FC6F5C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296BFA-13F4-4EA8-866C-EA9CC815A5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DB44EB-C41F-4069-B518-124753574DE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BE549A-38F7-417C-B361-75E5EB92D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7F1-5796-410B-B4EE-8856C7D6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26B6F4-FAC5-4C3B-9BC2-AF15A7528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658-BD26-4AFF-8BF1-AB769F4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BF7-679C-48D4-B5C6-EBA7190C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4D1-5006-4A42-83E1-84486E1C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97E2-1237-4DC3-BECB-8EC1AE64B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802C-D385-4FA6-AEE8-C31462DDA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67A6-927D-4A3D-B6A2-E1C0CAFC1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679F-B1E3-4DBC-8628-0E664046C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C6E7-5F53-449F-8952-421AC5300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FAKA- AFRICA RISING COLLAB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Way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Operations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Linkages with Local Government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terly Review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SANTE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W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UNISIKILI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IN ACTIVITIE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ct Incep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Annual Wor k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ze Based System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st-Harves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getabl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ice Based Systems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Demonstration Protocols, Field Layouts, 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: Activities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ining of NAFAKA Agronomists and 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meetings with Associations and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Sites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 Harvest Technology Survey/need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1 Results to date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543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2 Demonstration Sites Established- ( Target was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Groundnuts demonstration sites (5 Kongwa, 1 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 Maize (Mono-crop) demonstration sites( 5-Kongwa, 5 –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Maize- beans Intercrop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Soybeans demo sites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50 Learners Particip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Planned Activities (March – Ju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zed Rotary Weeder demonstration with Africa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P Training to Lead Farmers/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T Training to Agronomists/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ment of Established Dem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mation/Strengthening of District Innov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- Harvest Technologies demonstration(PIC bags, Hermetic Cocoon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Field Resource Book/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ice based Syste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user</cp:lastModifiedBy>
  <cp:lastPrinted>2012-10-29T12:01:56Z</cp:lastPrinted>
  <dcterms:modified xsi:type="dcterms:W3CDTF">2015-03-05T11:46:10Z</dcterms:modified>
  <cp:revision>302</cp:revision>
  <dc:subject/>
  <dc:title>PowerPoint Presentation</dc:title>
</cp:coreProperties>
</file>