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4247-212B-43BA-A219-281EBC54A6F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ry out design example here t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20D2-20E4-4285-A2C3-F53ECBF3C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EB65-726A-498E-B08F-1C6D5C6E86C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B1EF-85F7-47FD-B82E-65D2961B5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1A17-290C-48CF-940F-7ABE46BA08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74AE-AB6D-4771-B8E7-25FF838B5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6DC-EC8B-4577-A801-9CF20E02F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BB0E-F376-4D5B-A393-C5F9673E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9AF-B246-42AC-8B93-12A5E052F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D08-1D5C-4A4B-93F5-250E9127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CDD9-EEA1-4344-B554-109F05016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AE9D-39B1-4FAC-BDA7-E36F121D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9489-6750-4502-B73F-BD30AEE8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1CFD-6A9C-4F2B-9B4B-AD8D8173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1913-23A1-47B3-B1B3-E3068148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AF4BE-791B-44FE-A910-9E7CD3F0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2FE35-7653-42A3-BCEF-3CE00007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E04-3676-4186-A60D-708B169B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E6D2-413A-49C7-A87A-7C0E64564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1E86-E816-42AB-A32A-FC437EB9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4596F-C395-4895-AA19-52D3BCE2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2693-4E5F-4CAB-BECF-BBE0EF459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51E4-16B4-48F9-AC11-13CE6C40A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47C3-C488-4481-BF10-5B30ABC0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580-8A39-4C07-8482-9BBCFFB4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079A-2899-48C4-807B-EF0726C7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CB4-3ED8-4D46-AB21-CBCCE5B8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D02-4D20-4040-9EE0-1014813B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5732-B1A5-420A-A022-8B451A00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8C40-4B31-49F2-81D4-3DC6DB5E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6044-8D32-4777-B6BE-4E68931E423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C17B-0654-40CB-95F3-AA315E1F1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500040" y="857160"/>
            <a:ext cx="82296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frica RISING Malawi experi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285840" y="3143160"/>
            <a:ext cx="885816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gis Chikowo,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ezi Mhango, Desta Lulseged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saac Nyoka, Sieg Snap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ontent Placeholder 2"/>
          <p:cNvSpPr/>
          <p:nvPr/>
        </p:nvSpPr>
        <p:spPr>
          <a:xfrm>
            <a:off x="6929280" y="6000840"/>
            <a:ext cx="18576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28 May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tcheu si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Diagram 1" descr=""/>
          <p:cNvPicPr/>
          <p:nvPr/>
        </p:nvPicPr>
        <p:blipFill>
          <a:blip r:embed="rId1"/>
          <a:stretch/>
        </p:blipFill>
        <p:spPr>
          <a:xfrm>
            <a:off x="1071720" y="1143000"/>
            <a:ext cx="663876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dza 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Diagram 1" descr=""/>
          <p:cNvPicPr/>
          <p:nvPr/>
        </p:nvPicPr>
        <p:blipFill>
          <a:blip r:embed="rId1"/>
          <a:stretch/>
        </p:blipFill>
        <p:spPr>
          <a:xfrm>
            <a:off x="1181160" y="1454040"/>
            <a:ext cx="69627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30280" y="776160"/>
            <a:ext cx="7473960" cy="5878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7557480" y="648828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napp, 19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197280" y="0"/>
            <a:ext cx="765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‘</a:t>
            </a: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Mother and baby’ trial desig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6760" y="213840"/>
            <a:ext cx="790092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ther trial treatment structur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400" y="856800"/>
            <a:ext cx="8429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control – no nutrients add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fertilized with 70 kg N and 21 kg P [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FULL 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 fertilized  with NPK compost or manure (3-5 t/ha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Groundnut or soyabean or cowpea or pigeon pea fertilized with 5 kg P/ha [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HALF rate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/pigeon pea intercrop fertilized with 70 kg N and 21 kg 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ize/field bean intercrop fertilized with  70 kg N and 21 kg P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A: Pigeon pea/groundnut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B: Pigeon pea/soybean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oubled-up legumes C: Pigeon pea/cowpea intercrop fertilized with 5 kg P]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2060"/>
                </a:solidFill>
                <a:uFillTx/>
                <a:latin typeface="Calibri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Unfertilized maize 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base yields depending soil resource b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Maize + mineral fertilizers NPKS 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water limited yield potent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200" spc="-1" strike="noStrike">
                <a:solidFill>
                  <a:srgbClr val="000000"/>
                </a:solidFill>
                <a:latin typeface="Calibri"/>
              </a:rPr>
              <a:t>Maize + manure/compost + NPKS </a:t>
            </a:r>
            <a:r>
              <a:rPr b="0" i="1" lang="en-ZW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en-ZW" sz="3200" spc="-1" strike="noStrike">
                <a:solidFill>
                  <a:srgbClr val="002060"/>
                </a:solidFill>
                <a:latin typeface="Calibri"/>
              </a:rPr>
              <a:t>for establishing water limited yield potential with inorganic -organic nutrient sources combin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by trial formulation and management 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85480" y="1071360"/>
            <a:ext cx="84294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58ed5"/>
                </a:solidFill>
                <a:latin typeface="Calibri"/>
              </a:rPr>
              <a:t>Action groups were formulated around each of the 8 mother trials,  resulting in 2 action groups per intervention si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b050"/>
                </a:solidFill>
                <a:latin typeface="Calibri"/>
              </a:rPr>
              <a:t>Action groups comprised of at least 38 farmers, who actively participated in the establishment of the mother trials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030a0"/>
                </a:solidFill>
                <a:latin typeface="Calibri"/>
              </a:rPr>
              <a:t>Action group members subsequently established baby trials based on the following rules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more than 4 treatments were to be selected from the mother trial they had established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wo treatments were manda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Fertilized maize plot  - farmers were not given any fertilizer – they had to source using own resources, including fertilizers from the subsidy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8ed5"/>
                </a:solidFill>
                <a:latin typeface="Calibri"/>
              </a:rPr>
              <a:t>Doubled-up legume: selection from any of  those included in the mother tr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64008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tails on mother and baby tri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0" y="714240"/>
          <a:ext cx="8786880" cy="5429520"/>
        </p:xfrm>
        <a:graphic>
          <a:graphicData uri="http://schemas.openxmlformats.org/drawingml/2006/table">
            <a:tbl>
              <a:tblPr/>
              <a:tblGrid>
                <a:gridCol w="828720"/>
                <a:gridCol w="995400"/>
                <a:gridCol w="1468440"/>
                <a:gridCol w="1106280"/>
                <a:gridCol w="1106640"/>
                <a:gridCol w="1093680"/>
                <a:gridCol w="1094040"/>
                <a:gridCol w="1093680"/>
              </a:tblGrid>
              <a:tr h="77652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istr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on sites (EP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other trial host farme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ze varieties u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igeon p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b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 rowSpan="4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d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nth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yembekezo Chayera 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AN 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fred Ja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9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olomo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osephine Pindu (5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kanakaufiti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nedict Damson (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kanakaufi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 rowSpan="4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tch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nd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lorence Od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97) Charl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u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ter Msow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C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dan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G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kwac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y Mku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KC  8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T82E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waiwathu al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sinj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asok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Nsipe action group _November 201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C:\Users\Regis\Desktop\pictures_house\101MSDCF\DSC04769.JPG"/>
          <p:cNvPicPr/>
          <p:nvPr/>
        </p:nvPicPr>
        <p:blipFill>
          <a:blip r:embed="rId1"/>
          <a:stretch/>
        </p:blipFill>
        <p:spPr>
          <a:xfrm>
            <a:off x="928800" y="1249200"/>
            <a:ext cx="658944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iversification …intensific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785920" y="2071800"/>
            <a:ext cx="3357720" cy="28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op diversification as one of the major themes of the ‘mother and baby’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C:\Users\Regis\Desktop\DSC05099.JPG"/>
          <p:cNvPicPr/>
          <p:nvPr/>
        </p:nvPicPr>
        <p:blipFill>
          <a:blip r:embed="rId1"/>
          <a:stretch/>
        </p:blipFill>
        <p:spPr>
          <a:xfrm>
            <a:off x="393840" y="1643040"/>
            <a:ext cx="567828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Doubled-up legu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– intercropping 2 legumes that are complementary/have little competition for 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C:\Users\Regis\Desktop\DSC05020.JPG"/>
          <p:cNvPicPr/>
          <p:nvPr/>
        </p:nvPicPr>
        <p:blipFill>
          <a:blip r:embed="rId1"/>
          <a:stretch/>
        </p:blipFill>
        <p:spPr>
          <a:xfrm>
            <a:off x="1000080" y="1857240"/>
            <a:ext cx="6775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714680" y="2857680"/>
            <a:ext cx="1904760" cy="952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C:\Users\Corporate Comms\Downloads\icrisat_logo.jpg"/>
          <p:cNvPicPr/>
          <p:nvPr/>
        </p:nvPicPr>
        <p:blipFill>
          <a:blip r:embed="rId2"/>
          <a:stretch/>
        </p:blipFill>
        <p:spPr>
          <a:xfrm>
            <a:off x="1214280" y="857160"/>
            <a:ext cx="1981440" cy="627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Users\Corporate Comms\Downloads\IFPRI logo (green).jpg"/>
          <p:cNvPicPr/>
          <p:nvPr/>
        </p:nvPicPr>
        <p:blipFill>
          <a:blip r:embed="rId3"/>
          <a:stretch/>
        </p:blipFill>
        <p:spPr>
          <a:xfrm>
            <a:off x="6357960" y="2143080"/>
            <a:ext cx="838080" cy="131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4"/>
          <a:stretch/>
        </p:blipFill>
        <p:spPr>
          <a:xfrm>
            <a:off x="3857760" y="714240"/>
            <a:ext cx="1290600" cy="3973680"/>
          </a:xfrm>
          <a:prstGeom prst="rect">
            <a:avLst/>
          </a:prstGeom>
          <a:ln w="0">
            <a:noFill/>
          </a:ln>
        </p:spPr>
      </p:pic>
      <p:sp>
        <p:nvSpPr>
          <p:cNvPr id="96" name="Title 1"/>
          <p:cNvSpPr/>
          <p:nvPr/>
        </p:nvSpPr>
        <p:spPr>
          <a:xfrm rot="16200000">
            <a:off x="-757080" y="2614320"/>
            <a:ext cx="3071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LUAN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itle 1"/>
          <p:cNvSpPr/>
          <p:nvPr/>
        </p:nvSpPr>
        <p:spPr>
          <a:xfrm>
            <a:off x="1714680" y="5072040"/>
            <a:ext cx="68580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Malawi Agric Extension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tle 1"/>
          <p:cNvSpPr/>
          <p:nvPr/>
        </p:nvSpPr>
        <p:spPr>
          <a:xfrm>
            <a:off x="5143680" y="928800"/>
            <a:ext cx="30812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CI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le 1"/>
          <p:cNvSpPr/>
          <p:nvPr/>
        </p:nvSpPr>
        <p:spPr>
          <a:xfrm>
            <a:off x="5286240" y="3929040"/>
            <a:ext cx="27860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ICRA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eat mixture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Regis\Desktop\pictures_house\101MSDCF\DSC0512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ize +pigeon p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C:\Users\Regis\Desktop\pictures_house\101MSDCF\DSC0500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fter harvesting companion crop, pigeon pea continues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and produces its own g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.... plus soil fertility replenish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ivestock =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1154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ood and nutritional secur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Regis\Pictures\20-03-2013\DSC05133.JPG"/>
          <p:cNvPicPr/>
          <p:nvPr/>
        </p:nvPicPr>
        <p:blipFill>
          <a:blip r:embed="rId1"/>
          <a:stretch/>
        </p:blipFill>
        <p:spPr>
          <a:xfrm>
            <a:off x="357120" y="1500120"/>
            <a:ext cx="5346720" cy="3571920"/>
          </a:xfrm>
          <a:prstGeom prst="rect">
            <a:avLst/>
          </a:prstGeom>
          <a:ln w="0">
            <a:noFill/>
          </a:ln>
        </p:spPr>
      </p:pic>
      <p:sp>
        <p:nvSpPr>
          <p:cNvPr id="150" name="Title 1"/>
          <p:cNvSpPr/>
          <p:nvPr/>
        </p:nvSpPr>
        <p:spPr>
          <a:xfrm>
            <a:off x="5929200" y="1571760"/>
            <a:ext cx="300060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yabean has the best per capita protein production compared to any known agricultural enterprise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9917280" y="636480"/>
            <a:ext cx="22860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er capita protein production through soya can remains supr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onde = soil organic ma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2" descr="C:\Users\Regis\Desktop\pictures_house\101MSDCF\DSC05126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5676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xposing farmers to agric intensification technologies .....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C:\Users\Regis\Pictures\20-03-2013\DSC05141.JPG"/>
          <p:cNvPicPr/>
          <p:nvPr/>
        </p:nvPicPr>
        <p:blipFill>
          <a:blip r:embed="rId1"/>
          <a:stretch/>
        </p:blipFill>
        <p:spPr>
          <a:xfrm>
            <a:off x="928800" y="185724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214560" y="-360"/>
            <a:ext cx="9644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.. and IITA, USAID, and MSU administrators in the field to see our intensification ideas at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C:\Users\Regis\Desktop\DSC05113.JPG"/>
          <p:cNvPicPr/>
          <p:nvPr/>
        </p:nvPicPr>
        <p:blipFill>
          <a:blip r:embed="rId1"/>
          <a:srcRect l="10855" t="20381" r="0" b="0"/>
          <a:stretch/>
        </p:blipFill>
        <p:spPr>
          <a:xfrm>
            <a:off x="0" y="1357200"/>
            <a:ext cx="9220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400" y="1499760"/>
            <a:ext cx="82818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2060"/>
                </a:solidFill>
                <a:latin typeface="Calibri"/>
              </a:rPr>
              <a:t>Agro-ecological intensification of smallholder agriculture through action resea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rmgard in Linthipe, Dedza 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C:\Users\Regis\Desktop\pictures_house\101MSDCF\DSC05109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.... Farmers and researchers determine yields togeth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alibri"/>
              </a:rPr>
              <a:t>Postharvest issue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flatoxin contamination worsened by storage of grain at high moisture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Grain moisture and aflatoxin – can we invest in moisture met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or but happy at last 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Regis\Desktop\DSC04972.JPG"/>
          <p:cNvPicPr/>
          <p:nvPr/>
        </p:nvPicPr>
        <p:blipFill>
          <a:blip r:embed="rId1"/>
          <a:stretch/>
        </p:blipFill>
        <p:spPr>
          <a:xfrm>
            <a:off x="1184400" y="1600200"/>
            <a:ext cx="648000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e invest in training exten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Regis\Desktop\pictures_house\101MSDCF\DSC04676.JPG"/>
          <p:cNvPicPr/>
          <p:nvPr/>
        </p:nvPicPr>
        <p:blipFill>
          <a:blip r:embed="rId1"/>
          <a:stretch/>
        </p:blipFill>
        <p:spPr>
          <a:xfrm>
            <a:off x="1285920" y="1285920"/>
            <a:ext cx="6804000" cy="5102280"/>
          </a:xfrm>
          <a:prstGeom prst="rect">
            <a:avLst/>
          </a:prstGeom>
          <a:ln w="0">
            <a:noFill/>
          </a:ln>
        </p:spPr>
      </p:pic>
      <p:sp>
        <p:nvSpPr>
          <p:cNvPr id="169" name="Title 1"/>
          <p:cNvSpPr/>
          <p:nvPr/>
        </p:nvSpPr>
        <p:spPr>
          <a:xfrm>
            <a:off x="1571760" y="4857840"/>
            <a:ext cx="61434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Calibri"/>
              </a:rPr>
              <a:t>Dedza, Nov 2012 workshop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8760" y="2214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900" spc="-1" strike="noStrike">
                <a:solidFill>
                  <a:srgbClr val="0070c0"/>
                </a:solidFill>
                <a:latin typeface="Arnprior"/>
              </a:rPr>
              <a:t>Dry bones can live again ...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Users\Regis\Desktop\DSC05087.JPG"/>
          <p:cNvPicPr/>
          <p:nvPr/>
        </p:nvPicPr>
        <p:blipFill>
          <a:blip r:embed="rId1"/>
          <a:stretch/>
        </p:blipFill>
        <p:spPr>
          <a:xfrm>
            <a:off x="1184400" y="1600200"/>
            <a:ext cx="6775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933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504d"/>
                </a:solidFill>
                <a:latin typeface="Calibri"/>
              </a:rPr>
              <a:t>What we know…the fa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7778880" cy="18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mallholder farmers have traditionally developed 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risk-avers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management practices in an effort to ensure meeting their </a:t>
            </a:r>
            <a:r>
              <a:rPr b="0" lang="en-GB" sz="3200" spc="-1" strike="noStrike">
                <a:solidFill>
                  <a:srgbClr val="cc0000"/>
                </a:solidFill>
                <a:latin typeface="Calibri"/>
              </a:rPr>
              <a:t>subsistence food nee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1680" y="3643200"/>
            <a:ext cx="77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actices are largely </a:t>
            </a: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sub-optimal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ven under </a:t>
            </a:r>
            <a:r>
              <a:rPr b="0" lang="en-GB" sz="3200" spc="-1" strike="noStrike">
                <a:solidFill>
                  <a:srgbClr val="c0504d"/>
                </a:solidFill>
                <a:latin typeface="Calibri"/>
              </a:rPr>
              <a:t>favourab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climatic condition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intensification strategy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2000160"/>
            <a:ext cx="83581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duce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surplu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ood in 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favourable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seasons and have less shocks in future bad seas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link between agricultural intensification and building of local safety nets in a changing clim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Calibri"/>
              </a:rPr>
              <a:t>more resilient comm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alibri"/>
              </a:rPr>
              <a:t>Are technological options to achieve this available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71800" y="3428640"/>
            <a:ext cx="585792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558ed5"/>
                </a:solidFill>
                <a:latin typeface="Calibri"/>
              </a:rPr>
              <a:t>Yes/ou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alibri"/>
              </a:rPr>
              <a:t>Any problem then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28400" y="1857240"/>
            <a:ext cx="871524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58ed5"/>
                </a:solidFill>
                <a:latin typeface="Calibri"/>
              </a:rPr>
              <a:t>Yes – inappropriate packaging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558ed5"/>
                </a:solidFill>
                <a:latin typeface="Calibri"/>
              </a:rPr>
              <a:t>Farmers fail to relate well with nice technolo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inappropriate learning platform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0" lang="en-GB" sz="3400" spc="-1" strike="noStrike">
                <a:solidFill>
                  <a:srgbClr val="558ed5"/>
                </a:solidFill>
                <a:latin typeface="Calibri"/>
              </a:rPr>
              <a:t>technologies coming as rigid packages,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Wholesome uptake unlike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58ed5"/>
                </a:solidFill>
                <a:latin typeface="Calibri"/>
              </a:rPr>
              <a:t>rigidity stifling local innov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428840"/>
            <a:ext cx="82864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current biophysical and socio-economic constraints to increase quality, quantity and diversity of crop and livestock products? (RO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 are the agricultural technology options that are amenable to sustainable intensification and concurrently alleviate poverty, improve nutrition and ecosystem stability? (RO1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effective are the different technological options under different biophysical and socioeconomic conditions in achieving  poverty alleviation, improve nutrition and ecosystem stability? (RO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major factors that determine farmers’ participation in field-based learning platforms and subsequent influence on their use of soil fertility and livestock production intensification technologies? (RO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are the key ingredients for effective co-learning,  technology adaptation, scaling and delivery to farmers in heterogeneous farming system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7120" y="1857240"/>
            <a:ext cx="8229600" cy="214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2060"/>
                </a:solidFill>
                <a:latin typeface="Calibri"/>
              </a:rPr>
              <a:t>Making experimentation with farmers (action research) a joy ..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00:17:23Z</dcterms:created>
  <dc:creator>Regis</dc:creator>
  <dc:description/>
  <dc:language>en-US</dc:language>
  <cp:lastModifiedBy>USAID</cp:lastModifiedBy>
  <dcterms:modified xsi:type="dcterms:W3CDTF">2013-06-06T21:50:32Z</dcterms:modified>
  <cp:revision>164</cp:revision>
  <dc:subject/>
  <dc:title>Slide 1</dc:title>
</cp:coreProperties>
</file>