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baidoo, Robert  (IITA)" initials="AR (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2-01-09T08:13:30.711000000" idx="4">
    <p:pos x="2488" y="2136"/>
    <p:text>ambigious? improved food secirity strategies??</p:text>
  </p:cm>
</p:cmLst>
</file>

<file path=ppt/comments/comment14.xml><?xml version="1.0" encoding="utf-8"?>
<p:cmLst xmlns:p="http://schemas.openxmlformats.org/presentationml/2006/main">
  <p:cm authorId="0" dt="2012-01-09T08:15:19.776000000" idx="5">
    <p:pos x="656" y="2464"/>
    <p:text>insert 'and prioritize'</p:text>
  </p:cm>
</p:cmLst>
</file>

<file path=ppt/comments/comment15.xml><?xml version="1.0" encoding="utf-8"?>
<p:cmLst xmlns:p="http://schemas.openxmlformats.org/presentationml/2006/main">
  <p:cm authorId="0" dt="2012-01-09T08:16:02.119000000" idx="6">
    <p:pos x="584" y="1416"/>
    <p:text>can we do this?</p:text>
  </p:cm>
</p:cmLst>
</file>

<file path=ppt/comments/comment17.xml><?xml version="1.0" encoding="utf-8"?>
<p:cmLst xmlns:p="http://schemas.openxmlformats.org/presentationml/2006/main">
  <p:cm authorId="0" dt="2012-01-09T08:18:58.618000000" idx="7">
    <p:pos x="5040" y="3248"/>
    <p:text>many other nutrients are equally limiting</p:text>
  </p:cm>
</p:cmLst>
</file>

<file path=ppt/comments/comment2.xml><?xml version="1.0" encoding="utf-8"?>
<p:cmLst xmlns:p="http://schemas.openxmlformats.org/presentationml/2006/main">
  <p:cm authorId="0" dt="2012-01-09T08:00:16.812000000" idx="1">
    <p:pos x="10" y="10"/>
    <p:text/>
  </p:cm>
</p:cmLst>
</file>

<file path=ppt/comments/comment22.xml><?xml version="1.0" encoding="utf-8"?>
<p:cmLst xmlns:p="http://schemas.openxmlformats.org/presentationml/2006/main">
  <p:cm authorId="0" dt="2012-01-09T08:21:06.171000000" idx="8">
    <p:pos x="3484" y="1031"/>
    <p:text>Add KNUST for Capacity building</p:text>
  </p:cm>
  <p:cm authorId="0" dt="2012-01-09T08:21:47.270000000" idx="9">
    <p:pos x="3569" y="1841"/>
    <p:text>Add N2Africa</p:text>
  </p:cm>
</p:cmLst>
</file>

<file path=ppt/comments/comment3.xml><?xml version="1.0" encoding="utf-8"?>
<p:cmLst xmlns:p="http://schemas.openxmlformats.org/presentationml/2006/main">
  <p:cm authorId="0" dt="2012-01-09T08:03:01.955000000" idx="2">
    <p:pos x="5337" y="340"/>
    <p:text>production systems</p:text>
  </p:cm>
</p:cmLst>
</file>

<file path=ppt/comments/comment9.xml><?xml version="1.0" encoding="utf-8"?>
<p:cmLst xmlns:p="http://schemas.openxmlformats.org/presentationml/2006/main">
  <p:cm authorId="0" dt="2012-01-09T08:07:56.815000000" idx="3">
    <p:pos x="5122" y="3151"/>
    <p:text>What does this mean? why not llimited sustained capacity building programmes in agricultural technologies and associated manpower need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F208-086A-4C1B-A409-43CD988F4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285C4-E689-43E5-91B3-D972DCF1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AEB7-5BB8-4628-8DC0-9B59B33B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917FF-CD98-4DB0-9AF9-585B6FF2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3BCA7-DDAF-4AFB-8B83-73B55A1C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379-120E-4B37-875D-C5906D24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739-B7D5-4A42-AD5F-76CCDB0A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858-B12D-4564-8066-DA37D1E5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2C3-0217-45C2-BD17-72F30248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61E-32C7-4F5F-A448-A379E9B3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8FD-F6B6-4366-A244-13AED72D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B83-D7AF-4D9E-8EBC-439CD2EE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806-D1D9-445A-ADA1-DFEE256C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FEC-C074-41FE-AF91-D357C230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635-24F4-4827-AD12-1756352D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992-B49C-4134-98DD-0F60F63F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215-8259-45D3-B9EA-1F012A80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EA16-EF3B-4EBA-BE70-4FDF5FA52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 of Cereal-Legume Farming Systems in the Sudano-Saheli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Y K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grono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A-K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Objectiv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ductivity of maize-legume and crop/tree/livestock systems in the Sud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strengthen partnerships for implementing sustainable initiatives in the maize-legume systems of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and, water, and natural resource management for increased systems produ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rove the adoption of productive and resilient agronomic practices and local innovation systems for system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ural incomes through improved market linkages for rura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nutritional status of populations improved through increased nutritional awareness interventions and promotion of dietary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Region- Karaga, Cheroponi, and  Tolon-Kumbu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est Region-Kassena-Nankana and Bawku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Region-Wa East and Nadow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districts  and communities to participate in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potential IP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agree modalities, procedures, responsibilities, tasks and interaction among I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take community and livelihood analysis to identify and priortize constraint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IP activities and review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ining needs  of project stakeholders and conduct training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raduate training for members of research institutions participating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 impacts of soil and water conservation strategies on system productivity compared to traditional cultural prac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 the performance of tree crops with fertilizer rations, fodder and fruit  tr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nformation on soil health and the key tree crops for food security and CDM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knowledge and options for growth resources sharing between annual and perennial components in agroforestr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otential of surface and groundwater pump irrigation for dry season farming and supplemental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actual and potential spatial spread of pump irrigation practices along major rivers in the three Northern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ptions of land use changes and land management practices which would prevent land degrad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pproaches and technologies needed to improve rainwater harvesting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models for conducting water balance estimates at watershed scales in stud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otential increases in crop yields attainable through improved rainwater harvesting and supplemental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best varieties of soybean for high N2-fixation capacity and adaptation to abiotic and biotic stresses (pests and dise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best-fit agronomic practices for maximizing potential benefits of legume and inoculant technologies on increasing and stabilizing produ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contributions of improved legume varieties to best-fit agronomic practices, system productivity and farm livelihood with specific attention to trade-off analysis between competing agricultural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of improved crop varieties to mitigate farmer identified produc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uct on-station and on-farm trials across agro-ecologies to identify high-yielding, drought, pest and disease tolerant maize and legum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varietal performance data to facilitate variety registration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functional community based seed production schemes and link to seed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romote improved crop management practices that optimize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hosphorous application rate and starter N application to soybeans, groundnuts and cow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rop diversification to arrest environmental degradation including declining soil fertility and increased Striga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PM technologies for pest management in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quantify the contribution of legumes to improve the productivity and profitability of farming systems across different agro-ec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ation of simulation models for growth and yield of maize, cowpea, and soybean cultivars under simulated changing climate sce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more feed through identification of food-feed varieties of major cro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 tillage and biomass management options; develop smart combination of cereal and legumes residues for improved animal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options for moving feed temporarily and spatially through promotion of fodder trade, improved storage to reduce dry season sca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develop with farmers livestock management options that optimize nutrient cycling and draught animal power input to cropping an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and promote the most productive and nutritious vegetable varieties to boost their production and optimize their unique nutritiv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and promote options for the resilient production of vegetable cro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pt with farmers available crop, soil and pest management technologies to boost current vegetabl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Regions of Ghana are characterized by small land holdings of low input-outpu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ersely impact food security in terms of availability, acces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ops in the Ghana savannas are often produced in production systems in which soil natural resources are steadily de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ze and grain legume sub-sector surveys to Identify market and investment opportunities to promote production, processing and marketing of maize and grain legumes in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strategy to develop maize and grain legume value chain in norther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 out participatory value chain analysis to identify constraints, needs, and solutions to vegetable market chain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existing vegetable postharvest technologies and potential for small scal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traditional foods and explore ways of modifying food preparation practices to optimize retention of nutrients and improve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local food systems and investigate traditional food technologies and improve food preservation and distribution by local entrepre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vidence-based dietary strategies with locally-adapted options and analyze their acceptability and effect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: IITA, IWMI, ILRI, AVRDC,, SARI, KN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 in Gh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d compan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ybean process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A funded projects in northern G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ARA fertilizer comp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Serve, Tamale Implement Factory Ltd,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K&amp;A oil mill, ADVANCE (USAID projec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 Nuts oil mill and their out growers project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anna Farmers Marketing Company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tions for scal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dissemination approach of this project is based upon a series of proven developmental models including group training in technology extension, Participatory Research and Development, community-based outreach through farmer collective action, and the support for agricultural value chai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Platforms that include broad partnership involving researchers, extension system, marketers,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GIS tools, modelling to scale-out workable technologies to broad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to community seed production and linkage with seed companies to enhance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ing soil organic matter con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opulations of chronic parasitic weeds (eg. Striga sp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oil biological d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 risk of erosion, and annual nutrient 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n-farm maize yields (1-2t/ha) are well below on-station yields (6-8t/h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6629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5040" y="3230640"/>
            <a:ext cx="3192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sorg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4320" y="6029280"/>
            <a:ext cx="281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21400" y="571500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380880" y="1371600"/>
            <a:ext cx="8077320" cy="5105520"/>
            <a:chOff x="380880" y="1371600"/>
            <a:chExt cx="8077320" cy="5105520"/>
          </a:xfrm>
        </p:grpSpPr>
        <p:pic>
          <p:nvPicPr>
            <p:cNvPr id="60" name="Picture 9" descr="my picture0120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0006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8" descr="0231"/>
            <p:cNvPicPr/>
            <p:nvPr/>
          </p:nvPicPr>
          <p:blipFill>
            <a:blip r:embed="rId3"/>
            <a:stretch/>
          </p:blipFill>
          <p:spPr>
            <a:xfrm>
              <a:off x="4267080" y="3886200"/>
              <a:ext cx="4191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my picture0105"/>
            <p:cNvPicPr/>
            <p:nvPr/>
          </p:nvPicPr>
          <p:blipFill>
            <a:blip r:embed="rId4"/>
            <a:stretch/>
          </p:blipFill>
          <p:spPr>
            <a:xfrm>
              <a:off x="4267080" y="1371600"/>
              <a:ext cx="41911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4"/>
          <p:cNvSpPr/>
          <p:nvPr/>
        </p:nvSpPr>
        <p:spPr>
          <a:xfrm>
            <a:off x="4782240" y="3211560"/>
            <a:ext cx="255636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ighlights of biophysic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00_0076"/>
          <p:cNvPicPr/>
          <p:nvPr/>
        </p:nvPicPr>
        <p:blipFill>
          <a:blip r:embed="rId1"/>
          <a:stretch/>
        </p:blipFill>
        <p:spPr>
          <a:xfrm>
            <a:off x="380880" y="13716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SC05086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IMG_4039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G_4044"/>
          <p:cNvPicPr/>
          <p:nvPr/>
        </p:nvPicPr>
        <p:blipFill>
          <a:blip r:embed="rId2"/>
          <a:stretch/>
        </p:blipFill>
        <p:spPr>
          <a:xfrm>
            <a:off x="304920" y="3886200"/>
            <a:ext cx="418464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4796640" y="3162240"/>
            <a:ext cx="31813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ct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54320" y="590868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DSC01430"/>
          <p:cNvPicPr/>
          <p:nvPr/>
        </p:nvPicPr>
        <p:blipFill>
          <a:blip r:embed="rId3"/>
          <a:stretch/>
        </p:blipFill>
        <p:spPr>
          <a:xfrm>
            <a:off x="316080" y="1295280"/>
            <a:ext cx="41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DSC00903"/>
          <p:cNvPicPr/>
          <p:nvPr/>
        </p:nvPicPr>
        <p:blipFill>
          <a:blip r:embed="rId4"/>
          <a:stretch/>
        </p:blipFill>
        <p:spPr>
          <a:xfrm>
            <a:off x="4491000" y="3886200"/>
            <a:ext cx="427212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4781880" y="5830920"/>
            <a:ext cx="308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57200" y="3200400"/>
            <a:ext cx="3429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soy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343080" y="1447920"/>
            <a:ext cx="8304840" cy="4952520"/>
            <a:chOff x="343080" y="1447920"/>
            <a:chExt cx="8304840" cy="4952520"/>
          </a:xfrm>
        </p:grpSpPr>
        <p:sp>
          <p:nvSpPr>
            <p:cNvPr id="80" name="Rectangle 8"/>
            <p:cNvSpPr/>
            <p:nvPr/>
          </p:nvSpPr>
          <p:spPr>
            <a:xfrm>
              <a:off x="343080" y="1447920"/>
              <a:ext cx="8304840" cy="4952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9"/>
            <p:cNvGraphicFramePr/>
            <p:nvPr/>
          </p:nvGraphicFramePr>
          <p:xfrm>
            <a:off x="733680" y="1609920"/>
            <a:ext cx="7523280" cy="462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680" y="1609920"/>
                      <a:ext cx="7523280" cy="46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7"/>
          <p:cNvSpPr/>
          <p:nvPr/>
        </p:nvSpPr>
        <p:spPr>
          <a:xfrm>
            <a:off x="689400" y="5410080"/>
            <a:ext cx="25902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verty profile also depicts the three northern regions as the most poverty stricken and hunger spots i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inequalities are also apparent in these regions where women have less access to resources and capacity to generat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development in marketing and transport, access to social services, such as education and health are poor in the three northern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s of Food insecurity in northern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 rainfall distribution and recurrent drou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and crop failures leading to poor yie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st-harvest los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mproved storage structures and market for farm produ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 to productive resources such as land, irrigable land, labo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ccess to improved livestock breeds and crop varie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water for dry season irrigated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human resource for development and transfer of agricultural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47:50Z</dcterms:created>
  <dc:creator>Kamara</dc:creator>
  <dc:description/>
  <dc:language>en-US</dc:language>
  <cp:lastModifiedBy>PBallantyne</cp:lastModifiedBy>
  <dcterms:modified xsi:type="dcterms:W3CDTF">2012-01-10T07:19:47Z</dcterms:modified>
  <cp:revision>25</cp:revision>
  <dc:subject/>
  <dc:title>Sustainable Intensification of Cereal-Legume Farming Systems in the Sudan Savanna Zone of Ghana</dc:title>
</cp:coreProperties>
</file>