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846E0-0818-49ED-98D5-40B3D8862B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8F51B-A981-4A7C-A54E-CFCB800A2C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0753-0FF7-4C7A-9BE9-A875954E4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D219-32A7-42CA-8141-976D246D5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B1DE-D85A-4CDC-9308-A7DB701AA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C967B-F145-4732-9446-AECE28B3D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2729-3E3D-4159-9A53-FAC82C4B5F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CDF32-0359-4FFE-8D0C-E08341C62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5E0D-1644-410C-B65E-F17A84ED5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DC15-0A38-45B6-97D4-313767221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20FE-5863-45CA-B1A6-3097945AE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D91-7BA8-40D1-A71E-DC238876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136-C07C-475F-BA30-682CCAC6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11EC-EFA8-4818-9329-A2792DA3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6EBE-4BAC-43DD-A795-7B6DFF39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3358-75D3-4E3D-8972-A571A58F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4146-379A-4460-97D6-AB9956AAE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00C7-DEE6-42F1-9FC4-693C28B4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B732-B1AD-412F-BD66-85CFBC99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D37-9FF5-441A-A0B0-B065BB69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8B7-071F-41B5-A96B-51DE337E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2C3F6-25DE-4C42-B4D9-CED14267B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2"/>
          <p:cNvSpPr/>
          <p:nvPr/>
        </p:nvSpPr>
        <p:spPr>
          <a:xfrm>
            <a:off x="609480" y="1752480"/>
            <a:ext cx="723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ing partnership among Africa RISING, NAFAKA and TUBORESHE CHAKULA Programs for fast-tracking delivery and scaling of agricultural technologies in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educed food waste and spoil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brahim Shabani, Abass Adebay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briel Ndungu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rica RISING annual planning Meeting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ULY,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te Sand Hotel, Dar es sala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Expansion and operational issu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685800" y="2209680"/>
            <a:ext cx="7086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st harvest activities will continue in the three first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 will be conducted in the new locations: Iringa and Mbey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Iringa rural district, Irin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buClr>
                <a:srgbClr val="000000"/>
              </a:buClr>
              <a:buFont typeface="Symbol" charset="2"/>
              <a:buChar char="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bozi district, Mbey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ew crops to be added to maize (Soybeans, Be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ion &amp; synchronization of activities with other te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838080" y="1981080"/>
            <a:ext cx="7010640" cy="65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POSTHARVEST HANDLING, LOSS PREVENTION &amp;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stharvest handling/processing/storage activities of other crops (legumes) will be added to the current crop – maiz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(shelling, dehulling, milling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rying technologies (e.g. use of dryer c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Hermetic storage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IC and/or Grain safe bags (100kg b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Large capacity storage facilities (community storage bags – 1MT, 2MT per ba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838080" y="1981080"/>
            <a:ext cx="7010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ADDING VALUE/NEW METHODS OF UTI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Farmers’ training on new methods of utilization of cereals &amp; legumes such as soybeans (e.g. dehulling, soymilk 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Recipes for complementary foods and training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munity level service providers in delivering nutrition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ing the capacity of households to access and consume nutrient–dense foods through improved nutrition knowledge, perceptions and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MP for processors of maize flour &amp; fort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sticide residue iss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POSSIBLE SCOPE OF 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304920" y="1981080"/>
            <a:ext cx="8305560" cy="73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  <a:ea typeface="Times New Roman"/>
              </a:rPr>
              <a:t>EARLY ASSESSMENT OF POSSIBLE ADOPTION OF INTRODUCED CROP VARIE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valuating the acceptability of new crop varieties introduced to the farmers by capturing information on consumer/end-use quality traits, nutrient density, etc. of the new varieties vs local varie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ze extraction rate; soybean ease of cooking /milk yield;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Purpose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to establish potential for adoption (disaggregated by location and possibly by end-use categor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mplications of expansion and operational 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04920" y="1981080"/>
            <a:ext cx="830556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yFarmers’ dialogue in the new locations to identify the most critical postharvest constraints of the farmers &amp; training on those aspects (e.g. PH issues identified in Mar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ynchronizing some postharvest activities with the other project teams require joint planning and operationalization of the plans(e.g. field days or training after the crops are harvested; same project locations/ same farmers’ group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Implications of expansion and operational issu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304920" y="1981080"/>
            <a:ext cx="8305560" cy="91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Change of plan mid-season needs to be jointly understood and agreed by all the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pansion to new locations may mean increase in cost of 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Expansion may also reduce the time to be spent working with farmers in each location – may become inadequate for adoption to occu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3160" y="1294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ill Sans"/>
              </a:rPr>
              <a:t>THANK YOU AL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685800" y="2209680"/>
            <a:ext cx="70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304920" y="1981080"/>
            <a:ext cx="83055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2574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17:24:16Z</dcterms:created>
  <dc:creator>Kinyoro Ibrahim</dc:creator>
  <dc:description/>
  <dc:language>en-US</dc:language>
  <cp:lastModifiedBy>Kinyoro Ibrahim</cp:lastModifiedBy>
  <dcterms:modified xsi:type="dcterms:W3CDTF">2015-07-09T05:55:00Z</dcterms:modified>
  <cp:revision>11</cp:revision>
  <dc:subject/>
  <dc:title>Slide 1</dc:title>
</cp:coreProperties>
</file>