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3.png" ContentType="image/png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BAB2-6A7B-483C-80F6-028D22C2D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B11C-9340-431F-8705-F8AA95C1E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576D-C4F9-49E0-A8F7-981B792D3F5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1742-813F-4F5B-BB7C-95C472E582A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52E3-4B07-478E-B5B3-B53C4DE5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DF8D-A8AB-4962-A177-8F67EC55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1E03-C73D-4964-9982-3A5E12A2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FD8C-B29C-483E-8B23-FB2DF86C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C2D6D-592B-47FF-BE1D-15E1CEC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7111-C444-4236-A760-4FF9090A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ACC30-2B82-430F-A763-259C1ACE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56A6-4CD0-4A03-B21E-9AB7BB18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443E9-391E-4FCB-994D-3D2C7559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FBE-62A4-4EFB-A79A-53047268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966-4127-4EA8-8BEE-C9C516EC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75A-154F-4902-A0E6-6C635C09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720-3C95-4C77-9A71-03968E7A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CB9-A16E-43E1-B6B8-4A140709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F95-0B5C-4C20-AA09-600467F1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D1A-BD76-46CF-8335-8F18A67B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737-7895-4710-BC28-3BD44860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5A5-D48A-401F-B32F-796B4F27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FA1-5E88-464B-BF10-EE1D60A6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02A-631A-4861-863B-FE809A23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9EF-C0AF-4693-A945-143BFB92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2D26-95CC-4BD2-9F29-70E76617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0E0E-9C91-430B-8903-F82FDED5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C64B-F47C-499A-A624-CD247CB0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C8F0-8453-4AD4-B983-A527441C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810C-2F8D-44B9-AB8A-6927E812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A11A-166A-4F47-975F-0FCCB1B7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AB13-323E-4C7E-AD85-9BC5CAEE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4B9B-03EC-45F7-91D2-AAE6923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29EF-5616-41CD-8120-52141C19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DD3C-6AD9-43D8-BA3E-1861B0DA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F3B3-9D03-4739-A185-4F990CCA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2E94-872F-4EA4-B5C4-5D32E6A6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A332-8056-4A38-8C61-BF8CA291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303F2-EDFB-493E-A40E-B786A58F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D2EA-1F25-46EC-BBA1-FCC88760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5" name="Picture 5" descr=""/>
            <p:cNvPicPr/>
            <p:nvPr/>
          </p:nvPicPr>
          <p:blipFill>
            <a:blip r:embed="rId4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2" descr="P:\logos\i\ifpri\IFPRI_Logo_Standard.jpg"/>
            <p:cNvPicPr/>
            <p:nvPr/>
          </p:nvPicPr>
          <p:blipFill>
            <a:blip r:embed="rId5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9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0" name="Picture 10" descr="P:\Pictures&amp;Resources\Icons\by-nc-sa.png"/>
            <p:cNvPicPr/>
            <p:nvPr/>
          </p:nvPicPr>
          <p:blipFill>
            <a:blip r:embed="rId7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Picture 11" descr=""/>
          <p:cNvPicPr/>
          <p:nvPr/>
        </p:nvPicPr>
        <p:blipFill>
          <a:blip r:embed="rId8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7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0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2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BAD4-6248-4117-8A68-B8DCCC0849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F004-5DAB-4435-939B-91FA272E73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FFB8-5A97-4357-9499-0D30E51656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37760" y="1143000"/>
            <a:ext cx="792468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0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52120" y="4105440"/>
            <a:ext cx="5735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/Coordin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Placeholder 2"/>
          <p:cNvSpPr/>
          <p:nvPr/>
        </p:nvSpPr>
        <p:spPr>
          <a:xfrm>
            <a:off x="2286000" y="332568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 of Project Achiev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Placeholder 2"/>
          <p:cNvSpPr/>
          <p:nvPr/>
        </p:nvSpPr>
        <p:spPr>
          <a:xfrm>
            <a:off x="2112840" y="533556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alibri"/>
              </a:rPr>
              <a:t>July 3, 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Mutual benefit of the partnership (do we need each other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ommitted team memb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wavering support of local institutions esp. district counc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he do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56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76212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-in-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backstopping/addressing challenges identified during scaling processes that need scientific/research attention (e.g. measuring spillovers; integration of RPO/CBT models, operationalization of adoption in SI intervention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ocumentation and lesson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LA platform (USA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oPs (Africa RISING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191120" y="198072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3. Deeper engagement with local government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needs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4. Mobilizing NGOs and the private sector for a bigger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5.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MS PGothic"/>
              </a:rPr>
              <a:t>Youth, VBAAs, other community-based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Content Placeholder 4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581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" descr="Horizontal_CMYK_600"/>
          <p:cNvPicPr/>
          <p:nvPr/>
        </p:nvPicPr>
        <p:blipFill>
          <a:blip r:embed="rId1"/>
          <a:stretch/>
        </p:blipFill>
        <p:spPr>
          <a:xfrm>
            <a:off x="2386080" y="1447920"/>
            <a:ext cx="3728880" cy="1066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3813120" cy="985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C:\Users\user\Desktop\URGENT TASKS\Coat_of_arms_of_Tanzania.svg.png"/>
          <p:cNvPicPr/>
          <p:nvPr/>
        </p:nvPicPr>
        <p:blipFill>
          <a:blip r:embed="rId3"/>
          <a:stretch/>
        </p:blipFill>
        <p:spPr>
          <a:xfrm>
            <a:off x="5943600" y="350532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ill Sans"/>
              </a:rPr>
              <a:t>CGIAR/IARC Partners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610" name="Group 1"/>
          <p:cNvGrpSpPr/>
          <p:nvPr/>
        </p:nvGrpSpPr>
        <p:grpSpPr>
          <a:xfrm>
            <a:off x="990720" y="3429000"/>
            <a:ext cx="7056360" cy="2401920"/>
            <a:chOff x="990720" y="3429000"/>
            <a:chExt cx="7056360" cy="2401920"/>
          </a:xfrm>
        </p:grpSpPr>
        <p:pic>
          <p:nvPicPr>
            <p:cNvPr id="611" name="Picture 2" descr=""/>
            <p:cNvPicPr/>
            <p:nvPr/>
          </p:nvPicPr>
          <p:blipFill>
            <a:blip r:embed="rId1"/>
            <a:stretch/>
          </p:blipFill>
          <p:spPr>
            <a:xfrm>
              <a:off x="990720" y="4590720"/>
              <a:ext cx="106668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6477480" y="3429000"/>
              <a:ext cx="152568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6" descr="AVRDC – The World Vegetable Center — avrdc.org"/>
            <p:cNvPicPr/>
            <p:nvPr/>
          </p:nvPicPr>
          <p:blipFill>
            <a:blip r:embed="rId3"/>
            <a:stretch/>
          </p:blipFill>
          <p:spPr>
            <a:xfrm>
              <a:off x="990720" y="3567600"/>
              <a:ext cx="196704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4" descr=""/>
            <p:cNvPicPr/>
            <p:nvPr/>
          </p:nvPicPr>
          <p:blipFill>
            <a:blip r:embed="rId4"/>
            <a:stretch/>
          </p:blipFill>
          <p:spPr>
            <a:xfrm>
              <a:off x="6477480" y="4800960"/>
              <a:ext cx="1569600" cy="10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5" name="Picture 9" descr="\\nas\DATA\MMU\1Publishing_service\50YEARS_Anniversary\50YEARS_logos\IITA TAA new logo.png"/>
          <p:cNvPicPr/>
          <p:nvPr/>
        </p:nvPicPr>
        <p:blipFill>
          <a:blip r:embed="rId5"/>
          <a:stretch/>
        </p:blipFill>
        <p:spPr>
          <a:xfrm>
            <a:off x="3200400" y="2432160"/>
            <a:ext cx="1905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Partn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: (ACDI/VOCA, RUDI, FIPS, MVIWATA), private sector (marketing, proces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trict local governments and AI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inata Seeds, Meru Agro, Minjingu Fertilizer 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9706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Focus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MS PGothic"/>
              </a:rPr>
              <a:t>2014-2017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)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improved and resilient varieties of food crops (maize, legumes, rice, vegetabl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ing best-bet agronomic management packages (GAPs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ecting land and water resources (incl. soil and water management,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S/acidity/salin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postharvest management technologies (bring quality up to market standard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hancing capacities of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Oval 3"/>
          <p:cNvSpPr/>
          <p:nvPr/>
        </p:nvSpPr>
        <p:spPr>
          <a:xfrm>
            <a:off x="844560" y="3186000"/>
            <a:ext cx="2514600" cy="19051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Oval 4"/>
          <p:cNvSpPr/>
          <p:nvPr/>
        </p:nvSpPr>
        <p:spPr>
          <a:xfrm>
            <a:off x="2092320" y="320040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TextBox 31" descr=""/>
          <p:cNvPicPr/>
          <p:nvPr/>
        </p:nvPicPr>
        <p:blipFill>
          <a:blip r:embed="rId1"/>
          <a:stretch/>
        </p:blipFill>
        <p:spPr>
          <a:xfrm>
            <a:off x="1011240" y="36511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582" name="TextBox 32" descr=""/>
          <p:cNvPicPr/>
          <p:nvPr/>
        </p:nvPicPr>
        <p:blipFill>
          <a:blip r:embed="rId2"/>
          <a:stretch/>
        </p:blipFill>
        <p:spPr>
          <a:xfrm>
            <a:off x="3103560" y="3462480"/>
            <a:ext cx="1449360" cy="798480"/>
          </a:xfrm>
          <a:prstGeom prst="rect">
            <a:avLst/>
          </a:prstGeom>
          <a:ln w="0">
            <a:noFill/>
          </a:ln>
        </p:spPr>
      </p:pic>
      <p:sp>
        <p:nvSpPr>
          <p:cNvPr id="583" name="Rounded Rectangle 33"/>
          <p:cNvSpPr/>
          <p:nvPr/>
        </p:nvSpPr>
        <p:spPr>
          <a:xfrm>
            <a:off x="171468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on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ounded Rectangle 34"/>
          <p:cNvSpPr/>
          <p:nvPr/>
        </p:nvSpPr>
        <p:spPr>
          <a:xfrm>
            <a:off x="1600200" y="547380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5" name="Straight Arrow Connector 37"/>
          <p:cNvCxnSpPr/>
          <p:nvPr/>
        </p:nvCxnSpPr>
        <p:spPr>
          <a:xfrm>
            <a:off x="337464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6" name="Straight Arrow Connector 38"/>
          <p:cNvCxnSpPr/>
          <p:nvPr/>
        </p:nvCxnSpPr>
        <p:spPr>
          <a:xfrm>
            <a:off x="219348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39"/>
          <p:cNvSpPr/>
          <p:nvPr/>
        </p:nvSpPr>
        <p:spPr>
          <a:xfrm>
            <a:off x="2181240" y="3825720"/>
            <a:ext cx="1143000" cy="61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Up-Down Arrow 40"/>
          <p:cNvSpPr/>
          <p:nvPr/>
        </p:nvSpPr>
        <p:spPr>
          <a:xfrm>
            <a:off x="2590920" y="5032440"/>
            <a:ext cx="228600" cy="436320"/>
          </a:xfrm>
          <a:prstGeom prst="upDownArrow">
            <a:avLst>
              <a:gd name="adj1" fmla="val 50000"/>
              <a:gd name="adj2" fmla="val 5012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2"/>
          <p:cNvSpPr/>
          <p:nvPr/>
        </p:nvSpPr>
        <p:spPr>
          <a:xfrm>
            <a:off x="4718160" y="1676520"/>
            <a:ext cx="434952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Work closely with NAFAKA team members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, private sec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GIS for better targ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ommunication and coordinatio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partners, </a:t>
            </a:r>
            <a:r>
              <a:rPr b="0" lang="en-US" sz="2000" spc="-1" strike="noStrike">
                <a:solidFill>
                  <a:srgbClr val="1e4abd"/>
                </a:solidFill>
                <a:latin typeface="Calibri"/>
                <a:ea typeface="MS PGothic"/>
              </a:rPr>
              <a:t>donor tea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1"/>
          <p:cNvSpPr/>
          <p:nvPr/>
        </p:nvSpPr>
        <p:spPr>
          <a:xfrm>
            <a:off x="1098720" y="961920"/>
            <a:ext cx="7238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artnership –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chievements – mid 2017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57200" y="1676520"/>
          <a:ext cx="8153280" cy="4649760"/>
        </p:xfrm>
        <a:graphic>
          <a:graphicData uri="http://schemas.openxmlformats.org/drawingml/2006/table">
            <a:tbl>
              <a:tblPr/>
              <a:tblGrid>
                <a:gridCol w="4114800"/>
                <a:gridCol w="838080"/>
                <a:gridCol w="1219320"/>
                <a:gridCol w="990720"/>
                <a:gridCol w="990360"/>
              </a:tblGrid>
              <a:tr h="841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April 20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 Achieve-ment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8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hectares under improved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2,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2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6458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7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farmers and others who have applied new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0,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individuals who have received short-term agricultural sector productivity or food security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9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1120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4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ivate enterprises (for profit), producers organizations and associations/organizations benefitting (mostly farmers’ group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-1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rural households benefiting directly from interven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thoni, F., Zhe, G., Bekunda, M.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, Kizito, F., Baijukya, F. P. &amp; Hoeschle-Zeledon, I.  (2017). Sustainable recommendation domains for scaling agricultural technologies in Tanzania. </a:t>
            </a:r>
            <a:r>
              <a:rPr b="0" i="1" lang="en-US" sz="2000" spc="-1" strike="noStrike">
                <a:solidFill>
                  <a:srgbClr val="0000ff"/>
                </a:solidFill>
                <a:latin typeface="Calibri"/>
              </a:rPr>
              <a:t>Land use Policy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, 66: 34-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ramzow, A.,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, Afari-Sefa, V., Bekunda, M. &amp; Lukumay, J.P. Taking agricultural technologies to scale: Experiences from a vegetable technology dissemination initiative in Tanzania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Under review: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nternational Journal of Agricultural Sustainab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.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kunda, M., Muthoni, F. &amp; Masigo J. Transfer of training for sustainable intensification in Tanzania: critical considerations for scaling-up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Positive review response: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Journal of Agricultural Science and Technolo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Training manuals, briefs, broch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7-07-03T05:45:28Z</dcterms:modified>
  <cp:revision>53</cp:revision>
  <dc:subject/>
  <dc:title>PowerPoint Presentation</dc:title>
</cp:coreProperties>
</file>