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2.wmf" ContentType="image/x-wmf"/>
  <Override PartName="/ppt/media/image4.png" ContentType="image/png"/>
  <Override PartName="/ppt/media/image11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24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3.png" ContentType="image/png"/>
  <Override PartName="/ppt/media/image13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dt" idx="10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ftr" idx="11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 type="sldNum" idx="12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732A3-20F7-42BD-9FE7-26ED3190D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DD0E1-4DC4-4DF9-A316-8BA9335BA2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A Af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A57A5-E4F0-4755-A76A-DFF5F20013C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A Af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4AE06-8077-4D01-9A95-0D57B8E683F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E6844-59EE-4B6C-86C2-0571BB1FC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C6D87-4C30-4A9D-AEE7-A9F04F1B2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67E06-52D8-46BF-BCB4-F5682BF9D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D0912-F4BF-49C8-850F-14627D9A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60C56-26CE-4266-ACD0-8E835B21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2D8DD-D5CB-41F2-9044-3CF537BF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87929-C231-4573-AD0E-B26175295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128D2-3855-4C3C-B080-FE618410E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028F4-6CEC-459A-85D5-54F1ED94C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9DC9-CD4E-41D5-A661-68CFBFE5B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4E63-ADDE-404E-BBE4-C04BF0FB0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C304-4A6E-4629-9F72-8124182E6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7285-4FB6-41D8-8746-FC0F35D13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8DA5-2210-40E6-B080-FC67EC0ED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EFA9-DEAE-4A0B-8D63-C0E7A4C7E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AB3E-505B-4AF2-BF95-FD33C615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3FA4-3118-4496-A4A5-C1410E38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781A-1B79-43A3-BBC0-A0B872A3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F90D-63E5-4D06-9A64-13E1108AE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0C77-0D5D-4C4B-8807-8C99EBC12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3D57-2425-4B33-A113-0A3E2AB49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71E05-2509-4BF1-B249-629363204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F3309-330E-4A34-8B0F-53272F1FD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382D6-5B17-42FE-BF9C-A936284A2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AB542-5831-4DC4-B4B6-499DEA59B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01659-E6CE-47BE-B496-4DEAE87AC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2C8D6-5702-44BA-AC46-F1E90BEC9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8933B-B883-4186-A8D5-08E77F4D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8AEC8-04DD-4C33-8517-5FAB4F5F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221CB-9514-4314-B564-4BF5AE0C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7281F-C90F-41C9-902C-19D9C040A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02513-2422-41C2-B777-B8D974EA0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9B032-7007-45D1-AC8B-F08D1829B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009CD-040D-4AF9-B5EF-65C4C4385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0F3F9-3162-44C6-9DE9-284FDD0EB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B144D-4DE1-4C48-918C-D70C092F2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09.xml"/><Relationship Id="rId10" Type="http://schemas.openxmlformats.org/officeDocument/2006/relationships/slideLayout" Target="../slideLayouts/slideLayout110.xml"/><Relationship Id="rId11" Type="http://schemas.openxmlformats.org/officeDocument/2006/relationships/slideLayout" Target="../slideLayouts/slideLayout111.xml"/><Relationship Id="rId12" Type="http://schemas.openxmlformats.org/officeDocument/2006/relationships/slideLayout" Target="../slideLayouts/slideLayout112.xml"/><Relationship Id="rId13" Type="http://schemas.openxmlformats.org/officeDocument/2006/relationships/slideLayout" Target="../slideLayouts/slideLayout113.xml"/><Relationship Id="rId14" Type="http://schemas.openxmlformats.org/officeDocument/2006/relationships/slideLayout" Target="../slideLayouts/slideLayout114.xml"/><Relationship Id="rId15" Type="http://schemas.openxmlformats.org/officeDocument/2006/relationships/slideLayout" Target="../slideLayouts/slideLayout115.xml"/><Relationship Id="rId16" Type="http://schemas.openxmlformats.org/officeDocument/2006/relationships/slideLayout" Target="../slideLayouts/slideLayout116.xml"/><Relationship Id="rId17" Type="http://schemas.openxmlformats.org/officeDocument/2006/relationships/slideLayout" Target="../slideLayouts/slideLayout117.xml"/><Relationship Id="rId18" Type="http://schemas.openxmlformats.org/officeDocument/2006/relationships/slideLayout" Target="../slideLayouts/slideLayout118.xml"/><Relationship Id="rId19" Type="http://schemas.openxmlformats.org/officeDocument/2006/relationships/slideLayout" Target="../slideLayouts/slideLayout119.xml"/><Relationship Id="rId20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43" name="TextBox 2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4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45" name="Picture 5" descr=""/>
            <p:cNvPicPr/>
            <p:nvPr/>
          </p:nvPicPr>
          <p:blipFill>
            <a:blip r:embed="rId4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6" name="Picture 12" descr="P:\logos\i\ifpri\IFPRI_Logo_Standard.jpg"/>
            <p:cNvPicPr/>
            <p:nvPr/>
          </p:nvPicPr>
          <p:blipFill>
            <a:blip r:embed="rId5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7" name="Picture 7" descr="P:\logos\i\iita\IITA_regular-sienna_with slogan (2).JPG"/>
            <p:cNvPicPr/>
            <p:nvPr/>
          </p:nvPicPr>
          <p:blipFill>
            <a:blip r:embed="rId6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8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49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50" name="Picture 10" descr="P:\Pictures&amp;Resources\Icons\by-nc-sa.png"/>
            <p:cNvPicPr/>
            <p:nvPr/>
          </p:nvPicPr>
          <p:blipFill>
            <a:blip r:embed="rId7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51" name="Picture 11" descr=""/>
          <p:cNvPicPr/>
          <p:nvPr/>
        </p:nvPicPr>
        <p:blipFill>
          <a:blip r:embed="rId8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9"/>
    <p:sldLayoutId id="2147483767" r:id="rId10"/>
    <p:sldLayoutId id="2147483768" r:id="rId11"/>
    <p:sldLayoutId id="2147483769" r:id="rId12"/>
    <p:sldLayoutId id="2147483770" r:id="rId13"/>
    <p:sldLayoutId id="2147483771" r:id="rId14"/>
    <p:sldLayoutId id="2147483772" r:id="rId15"/>
    <p:sldLayoutId id="2147483773" r:id="rId16"/>
    <p:sldLayoutId id="2147483774" r:id="rId17"/>
    <p:sldLayoutId id="2147483775" r:id="rId18"/>
    <p:sldLayoutId id="2147483776" r:id="rId19"/>
    <p:sldLayoutId id="2147483777" r:id="rId20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9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470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1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3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474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75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6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6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517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9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0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521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22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3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4"/>
          <a:stretch/>
        </p:blipFill>
        <p:spPr>
          <a:xfrm>
            <a:off x="1738440" y="590724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D05F1-FE42-4792-8951-12122B6BD37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B446-FA0F-4651-94F2-62241E6232D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5E8D8-233E-4F02-AEF0-9AB06B0967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437760" y="1143000"/>
            <a:ext cx="792468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101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hancing partnership among Africa RISING, NAFAKA and TUBORESHE CHAKULA Programs for fast tracking delivery and scaling of agricultural technologies in Tanza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752120" y="4105440"/>
            <a:ext cx="57358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alibri"/>
              </a:rPr>
              <a:t>Haroon Sseguy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chnology Scaling Specialist/Coordin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Text Placeholder 2"/>
          <p:cNvSpPr/>
          <p:nvPr/>
        </p:nvSpPr>
        <p:spPr>
          <a:xfrm>
            <a:off x="2286000" y="3325680"/>
            <a:ext cx="4575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Overview of Project Achievem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Text Placeholder 2"/>
          <p:cNvSpPr/>
          <p:nvPr/>
        </p:nvSpPr>
        <p:spPr>
          <a:xfrm>
            <a:off x="2112840" y="5335560"/>
            <a:ext cx="4575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6600"/>
                </a:solidFill>
                <a:latin typeface="Calibri"/>
              </a:rPr>
              <a:t>July 3, 2017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What has got us here?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458640" y="2343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MS PGothic"/>
              </a:rPr>
              <a:t>Mutual benefit of the partnership (do we need each other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MS PGothic"/>
              </a:rPr>
              <a:t>Committed team membe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What has got us here?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458640" y="2343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MS PGothic"/>
              </a:rPr>
              <a:t>Unwavering support of local institutions esp. district counci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MS PGothic"/>
              </a:rPr>
              <a:t>The don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73656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What needs to be enhanced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762120" y="20574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R-in-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alibri"/>
              </a:rPr>
              <a:t>backstopping/addressing challenges identified during scaling processes that need scientific/research attention (e.g. measuring spillovers; integration of RPO/CBT models, operationalization of adoption in SI interventions)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Documentation and lesson sha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alibri"/>
              </a:rPr>
              <a:t>CLA platform (USAI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alibri"/>
              </a:rPr>
              <a:t>CoPs (Africa RISING)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What needs to be enhanced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4191120" y="1980720"/>
            <a:ext cx="4952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1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3. Deeper engagement with local government institu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2608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Calibri"/>
              </a:rPr>
              <a:t>Capacity needs assess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2608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Calibri"/>
              </a:rPr>
              <a:t>Capacity build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2608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alibri"/>
              </a:rPr>
              <a:t>Sustainabi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26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1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4. Mobilizing NGOs and the private sector for a bigger ro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S PGothic"/>
              </a:rPr>
              <a:t>5.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  <a:ea typeface="MS PGothic"/>
              </a:rPr>
              <a:t>Youth, VBAAs, other community-based ac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2608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1304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3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304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5" name="Content Placeholder 4" descr=""/>
          <p:cNvPicPr/>
          <p:nvPr/>
        </p:nvPicPr>
        <p:blipFill>
          <a:blip r:embed="rId1"/>
          <a:stretch/>
        </p:blipFill>
        <p:spPr>
          <a:xfrm>
            <a:off x="457200" y="2743200"/>
            <a:ext cx="3581280" cy="22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Picture 1" descr="Horizontal_CMYK_600"/>
          <p:cNvPicPr/>
          <p:nvPr/>
        </p:nvPicPr>
        <p:blipFill>
          <a:blip r:embed="rId1"/>
          <a:stretch/>
        </p:blipFill>
        <p:spPr>
          <a:xfrm>
            <a:off x="2386080" y="1447920"/>
            <a:ext cx="3728880" cy="106668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2" descr=""/>
          <p:cNvPicPr/>
          <p:nvPr/>
        </p:nvPicPr>
        <p:blipFill>
          <a:blip r:embed="rId2"/>
          <a:stretch/>
        </p:blipFill>
        <p:spPr>
          <a:xfrm>
            <a:off x="1066680" y="4343400"/>
            <a:ext cx="3813120" cy="98568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12" descr="C:\Users\user\Desktop\URGENT TASKS\Coat_of_arms_of_Tanzania.svg.png"/>
          <p:cNvPicPr/>
          <p:nvPr/>
        </p:nvPicPr>
        <p:blipFill>
          <a:blip r:embed="rId3"/>
          <a:stretch/>
        </p:blipFill>
        <p:spPr>
          <a:xfrm>
            <a:off x="5943600" y="3505320"/>
            <a:ext cx="251460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1066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Gill Sans"/>
              </a:rPr>
              <a:t>CGIAR/IARC Partners</a:t>
            </a:r>
            <a:endParaRPr b="0" lang="en-US" sz="4000" spc="-1" strike="noStrike">
              <a:solidFill>
                <a:srgbClr val="323232"/>
              </a:solidFill>
              <a:latin typeface="Calibri"/>
            </a:endParaRPr>
          </a:p>
        </p:txBody>
      </p:sp>
      <p:grpSp>
        <p:nvGrpSpPr>
          <p:cNvPr id="610" name="Group 1"/>
          <p:cNvGrpSpPr/>
          <p:nvPr/>
        </p:nvGrpSpPr>
        <p:grpSpPr>
          <a:xfrm>
            <a:off x="990720" y="3429000"/>
            <a:ext cx="7056360" cy="2401920"/>
            <a:chOff x="990720" y="3429000"/>
            <a:chExt cx="7056360" cy="2401920"/>
          </a:xfrm>
        </p:grpSpPr>
        <p:pic>
          <p:nvPicPr>
            <p:cNvPr id="611" name="Picture 2" descr=""/>
            <p:cNvPicPr/>
            <p:nvPr/>
          </p:nvPicPr>
          <p:blipFill>
            <a:blip r:embed="rId1"/>
            <a:stretch/>
          </p:blipFill>
          <p:spPr>
            <a:xfrm>
              <a:off x="990720" y="4590720"/>
              <a:ext cx="1066680" cy="115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2" name="Picture 11" descr="P:\logos\c\cimmyt\CIMMYT Logo.jpg"/>
            <p:cNvPicPr/>
            <p:nvPr/>
          </p:nvPicPr>
          <p:blipFill>
            <a:blip r:embed="rId2"/>
            <a:stretch/>
          </p:blipFill>
          <p:spPr>
            <a:xfrm>
              <a:off x="6477480" y="3429000"/>
              <a:ext cx="1525680" cy="109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3" name="Picture 6" descr="AVRDC – The World Vegetable Center — avrdc.org"/>
            <p:cNvPicPr/>
            <p:nvPr/>
          </p:nvPicPr>
          <p:blipFill>
            <a:blip r:embed="rId3"/>
            <a:stretch/>
          </p:blipFill>
          <p:spPr>
            <a:xfrm>
              <a:off x="990720" y="3567600"/>
              <a:ext cx="1967040" cy="82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14" descr=""/>
            <p:cNvPicPr/>
            <p:nvPr/>
          </p:nvPicPr>
          <p:blipFill>
            <a:blip r:embed="rId4"/>
            <a:stretch/>
          </p:blipFill>
          <p:spPr>
            <a:xfrm>
              <a:off x="6477480" y="4800960"/>
              <a:ext cx="1569600" cy="1029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15" name="Picture 9" descr="\\nas\DATA\MMU\1Publishing_service\50YEARS_Anniversary\50YEARS_logos\IITA TAA new logo.png"/>
          <p:cNvPicPr/>
          <p:nvPr/>
        </p:nvPicPr>
        <p:blipFill>
          <a:blip r:embed="rId5"/>
          <a:stretch/>
        </p:blipFill>
        <p:spPr>
          <a:xfrm>
            <a:off x="3200400" y="2432160"/>
            <a:ext cx="1905120" cy="69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5840" y="1294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Other Partner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533520" y="23619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istry of Agriculture, Livestock and Fisheries (MALF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RI Hombolo, ARI Chollima/Dakawa; ARI Selian; KATRIN; HORTI-Tenger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AFAKA: (ACDI/VOCA, RUDI, FIPS, MVIWATA), private sector (marketing, processing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strict local governments and AIC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minata Seeds, Meru Agro, Minjingu Fertilizer C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Title 1"/>
          <p:cNvSpPr/>
          <p:nvPr/>
        </p:nvSpPr>
        <p:spPr>
          <a:xfrm>
            <a:off x="476280" y="19051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56834"/>
                </a:solidFill>
                <a:latin typeface="Gill Sans"/>
              </a:rPr>
              <a:t>Thank You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2" descr=""/>
          <p:cNvPicPr/>
          <p:nvPr/>
        </p:nvPicPr>
        <p:blipFill>
          <a:blip r:embed="rId1"/>
          <a:stretch/>
        </p:blipFill>
        <p:spPr>
          <a:xfrm>
            <a:off x="1447920" y="1523880"/>
            <a:ext cx="597060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Background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AID FtF  investments in the Zone of Influen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ving at least 47,000 households with access to the technologies to diversify and increase their food supply and income sources, and improve the quality of degrading smallholder cropland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anding the area under improved production technologies by at least 58,000 ha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ing yields of both maize and rice by 50% per unit area as a result of  these technologies being adopt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2" descr="C:\Users\user\AppData\Local\Microsoft\Windows\INetCache\Content.Outlook\76WYE4AT\AR_NAFAKA_Action_Districts_12042016.jpg"/>
          <p:cNvPicPr/>
          <p:nvPr/>
        </p:nvPicPr>
        <p:blipFill>
          <a:blip r:embed="rId1"/>
          <a:stretch/>
        </p:blipFill>
        <p:spPr>
          <a:xfrm>
            <a:off x="685800" y="1219320"/>
            <a:ext cx="754380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3520" y="1371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23232"/>
                </a:solidFill>
                <a:latin typeface="Calibri"/>
                <a:ea typeface="MS PGothic"/>
              </a:rPr>
              <a:t>Focus (</a:t>
            </a:r>
            <a:r>
              <a:rPr b="1" lang="en-US" sz="2400" spc="-1" strike="noStrike">
                <a:solidFill>
                  <a:srgbClr val="00b050"/>
                </a:solidFill>
                <a:latin typeface="Calibri"/>
                <a:ea typeface="MS PGothic"/>
              </a:rPr>
              <a:t>2014-2017</a:t>
            </a:r>
            <a:r>
              <a:rPr b="1" lang="en-US" sz="2400" spc="-1" strike="noStrike">
                <a:solidFill>
                  <a:srgbClr val="323232"/>
                </a:solidFill>
                <a:latin typeface="Calibri"/>
                <a:ea typeface="MS PGothic"/>
              </a:rPr>
              <a:t>)</a:t>
            </a:r>
            <a:endParaRPr b="0" lang="en-US" sz="2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83808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28760" indent="-228600">
              <a:spcBef>
                <a:spcPts val="550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roducing and promoting improved and resilient varieties of food crops (maize, legumes, rice, vegetables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28760" indent="-228600">
              <a:spcBef>
                <a:spcPts val="550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sseminating best-bet agronomic management packages (GAPs)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28760" indent="-228600">
              <a:spcBef>
                <a:spcPts val="550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tecting land and water resources (incl. soil and water management, </a:t>
            </a: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SAS/acidity/salinity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28760" indent="-228600">
              <a:spcBef>
                <a:spcPts val="550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roducing and promoting postharvest management technologies (bring quality up to market standards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28760" indent="-228600">
              <a:spcBef>
                <a:spcPts val="550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hancing capacities of local communiti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Oval 3"/>
          <p:cNvSpPr/>
          <p:nvPr/>
        </p:nvSpPr>
        <p:spPr>
          <a:xfrm>
            <a:off x="844560" y="3186000"/>
            <a:ext cx="2514600" cy="1905120"/>
          </a:xfrm>
          <a:prstGeom prst="ellipse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Oval 4"/>
          <p:cNvSpPr/>
          <p:nvPr/>
        </p:nvSpPr>
        <p:spPr>
          <a:xfrm>
            <a:off x="2092320" y="3200400"/>
            <a:ext cx="2514600" cy="1905120"/>
          </a:xfrm>
          <a:prstGeom prst="ellipse">
            <a:avLst/>
          </a:prstGeom>
          <a:noFill/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1" name="TextBox 31" descr=""/>
          <p:cNvPicPr/>
          <p:nvPr/>
        </p:nvPicPr>
        <p:blipFill>
          <a:blip r:embed="rId1"/>
          <a:stretch/>
        </p:blipFill>
        <p:spPr>
          <a:xfrm>
            <a:off x="1011240" y="3651120"/>
            <a:ext cx="1066680" cy="920880"/>
          </a:xfrm>
          <a:prstGeom prst="rect">
            <a:avLst/>
          </a:prstGeom>
          <a:ln w="0">
            <a:noFill/>
          </a:ln>
        </p:spPr>
      </p:pic>
      <p:pic>
        <p:nvPicPr>
          <p:cNvPr id="582" name="TextBox 32" descr=""/>
          <p:cNvPicPr/>
          <p:nvPr/>
        </p:nvPicPr>
        <p:blipFill>
          <a:blip r:embed="rId2"/>
          <a:stretch/>
        </p:blipFill>
        <p:spPr>
          <a:xfrm>
            <a:off x="3103560" y="3462480"/>
            <a:ext cx="1449360" cy="798480"/>
          </a:xfrm>
          <a:prstGeom prst="rect">
            <a:avLst/>
          </a:prstGeom>
          <a:ln w="0">
            <a:noFill/>
          </a:ln>
        </p:spPr>
      </p:pic>
      <p:sp>
        <p:nvSpPr>
          <p:cNvPr id="583" name="Rounded Rectangle 33"/>
          <p:cNvSpPr/>
          <p:nvPr/>
        </p:nvSpPr>
        <p:spPr>
          <a:xfrm>
            <a:off x="1714680" y="17524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Donor (USAI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Rounded Rectangle 34"/>
          <p:cNvSpPr/>
          <p:nvPr/>
        </p:nvSpPr>
        <p:spPr>
          <a:xfrm>
            <a:off x="1600200" y="5473800"/>
            <a:ext cx="2438280" cy="99036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Benefici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(Smallhol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5" name="Straight Arrow Connector 37"/>
          <p:cNvCxnSpPr/>
          <p:nvPr/>
        </p:nvCxnSpPr>
        <p:spPr>
          <a:xfrm>
            <a:off x="3374640" y="2781360"/>
            <a:ext cx="108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86" name="Straight Arrow Connector 38"/>
          <p:cNvCxnSpPr/>
          <p:nvPr/>
        </p:nvCxnSpPr>
        <p:spPr>
          <a:xfrm>
            <a:off x="2193480" y="2781360"/>
            <a:ext cx="108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87" name="TextBox 39"/>
          <p:cNvSpPr/>
          <p:nvPr/>
        </p:nvSpPr>
        <p:spPr>
          <a:xfrm>
            <a:off x="2181240" y="3825720"/>
            <a:ext cx="1143000" cy="61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MS PGothic"/>
              </a:rPr>
              <a:t>Common mandat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Up-Down Arrow 40"/>
          <p:cNvSpPr/>
          <p:nvPr/>
        </p:nvSpPr>
        <p:spPr>
          <a:xfrm>
            <a:off x="2590920" y="5032440"/>
            <a:ext cx="228600" cy="436320"/>
          </a:xfrm>
          <a:prstGeom prst="upDownArrow">
            <a:avLst>
              <a:gd name="adj1" fmla="val 50000"/>
              <a:gd name="adj2" fmla="val 50120"/>
            </a:avLst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TextBox 42"/>
          <p:cNvSpPr/>
          <p:nvPr/>
        </p:nvSpPr>
        <p:spPr>
          <a:xfrm>
            <a:off x="4718160" y="1676520"/>
            <a:ext cx="4349520" cy="55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CG centers operate with national research institutions in all si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Work closely with NAFAKA team members; identify others – NGOs, private sec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MS PGothic"/>
              </a:rPr>
              <a:t>Leverage resources (N2Africa, private secto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Calibri"/>
                <a:ea typeface="MS PGothic"/>
              </a:rPr>
              <a:t>Deepen work with DAICOs especially VAEOS/WAE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GIS for better targe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Communication and coordination (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beneficiari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,  </a:t>
            </a:r>
            <a:r>
              <a:rPr b="0" lang="en-US" sz="2000" spc="-1" strike="noStrike">
                <a:solidFill>
                  <a:srgbClr val="00b050"/>
                </a:solidFill>
                <a:latin typeface="Calibri"/>
                <a:ea typeface="MS PGothic"/>
              </a:rPr>
              <a:t>partners, </a:t>
            </a:r>
            <a:r>
              <a:rPr b="0" lang="en-US" sz="2000" spc="-1" strike="noStrike">
                <a:solidFill>
                  <a:srgbClr val="1e4abd"/>
                </a:solidFill>
                <a:latin typeface="Calibri"/>
                <a:ea typeface="MS PGothic"/>
              </a:rPr>
              <a:t>donor team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TextBox 41"/>
          <p:cNvSpPr/>
          <p:nvPr/>
        </p:nvSpPr>
        <p:spPr>
          <a:xfrm>
            <a:off x="1098720" y="961920"/>
            <a:ext cx="72388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Partnership – arrangem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828800" y="761760"/>
            <a:ext cx="6781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23232"/>
                </a:solidFill>
                <a:latin typeface="Calibri"/>
              </a:rPr>
              <a:t>Achievements – mid 2017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graphicFrame>
        <p:nvGraphicFramePr>
          <p:cNvPr id="592" name=""/>
          <p:cNvGraphicFramePr/>
          <p:nvPr/>
        </p:nvGraphicFramePr>
        <p:xfrm>
          <a:off x="457200" y="1676520"/>
          <a:ext cx="8153280" cy="4649760"/>
        </p:xfrm>
        <a:graphic>
          <a:graphicData uri="http://schemas.openxmlformats.org/drawingml/2006/table">
            <a:tbl>
              <a:tblPr/>
              <a:tblGrid>
                <a:gridCol w="4114800"/>
                <a:gridCol w="838080"/>
                <a:gridCol w="1219320"/>
                <a:gridCol w="990720"/>
                <a:gridCol w="990360"/>
              </a:tblGrid>
              <a:tr h="84132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Indica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12240">
                      <a:solidFill>
                        <a:srgbClr val="604878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FY 2017 Tar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12240">
                      <a:solidFill>
                        <a:srgbClr val="604878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FY 2017 Achiev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(April 2017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12240">
                      <a:solidFill>
                        <a:srgbClr val="604878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LOP tar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12240">
                      <a:solidFill>
                        <a:srgbClr val="604878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LOP  Achieve-ment 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12240">
                      <a:solidFill>
                        <a:srgbClr val="604878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EG.3.2-18: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Number of hectares under improved technolog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1224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58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1224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12,9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1224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58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1224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alibri"/>
                          <a:ea typeface="Calibri"/>
                        </a:rPr>
                        <a:t>22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1224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</a:tr>
              <a:tr h="64584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EG.3.2-17: 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Number of farmers and others who have applied new technolog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47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10,3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47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noFill/>
                  </a:tcPr>
                </a:tc>
              </a:tr>
              <a:tr h="841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G.3.2-1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individuals who have received short-term agricultural sector productivity or food security trai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,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,4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,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6600"/>
                          </a:solidFill>
                          <a:latin typeface="Calibri"/>
                        </a:rPr>
                        <a:t>94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</a:tr>
              <a:tr h="1120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G.3.2-4: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private enterprises (for profit), producers organizations and associations/organizations benefitting (mostly farmers’ groups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6600"/>
                          </a:solidFill>
                          <a:latin typeface="Calibri"/>
                          <a:ea typeface="Calibri"/>
                        </a:rPr>
                        <a:t>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G.3-1: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rural households benefiting directly from interven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1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6600"/>
                          </a:solidFill>
                          <a:latin typeface="Calibri"/>
                        </a:rPr>
                        <a:t>8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8960" marR="48960">
                    <a:lnL w="5760">
                      <a:solidFill>
                        <a:srgbClr val="604878"/>
                      </a:solidFill>
                    </a:lnL>
                    <a:lnR w="5760">
                      <a:solidFill>
                        <a:srgbClr val="604878"/>
                      </a:solidFill>
                    </a:lnR>
                    <a:lnT w="5760">
                      <a:solidFill>
                        <a:srgbClr val="604878"/>
                      </a:solidFill>
                    </a:lnT>
                    <a:lnB w="5760">
                      <a:solidFill>
                        <a:srgbClr val="604878"/>
                      </a:solidFill>
                    </a:lnB>
                    <a:solidFill>
                      <a:srgbClr val="604878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Other achievement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380880" y="18284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uthoni, F., Zhe, G., Bekunda, M.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seguya, 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, Kizito, F., Baijukya, F. P. &amp; Hoeschle-Zeledon, I.  (2017). Sustainable recommendation domains for scaling agricultural technologies in Tanzania. </a:t>
            </a:r>
            <a:r>
              <a:rPr b="0" i="1" lang="en-US" sz="2000" spc="-1" strike="noStrike">
                <a:solidFill>
                  <a:srgbClr val="0000ff"/>
                </a:solidFill>
                <a:latin typeface="Calibri"/>
              </a:rPr>
              <a:t>Land use Policy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, 66: 34-4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Gramzow, A.,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Sseguya, H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., Afari-Sefa, V., Bekunda, M. &amp; Lukumay, J.P. Taking agricultural technologies to scale: Experiences from a vegetable technology dissemination initiative in Tanzania. </a:t>
            </a:r>
            <a:r>
              <a:rPr b="0" lang="en-GB" sz="2000" spc="-1" strike="noStrike">
                <a:solidFill>
                  <a:srgbClr val="008000"/>
                </a:solidFill>
                <a:latin typeface="Calibri"/>
              </a:rPr>
              <a:t>Under review: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International Journal of Agricultural Sustainabilit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Other achievement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380880" y="18284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156734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156734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Sseguya, H.,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Bekunda, M., Muthoni, F. &amp; Masigo J. Transfer of training for sustainable intensification in Tanzania: critical considerations for scaling-up. </a:t>
            </a:r>
            <a:r>
              <a:rPr b="0" lang="en-GB" sz="2000" spc="-1" strike="noStrike">
                <a:solidFill>
                  <a:srgbClr val="008000"/>
                </a:solidFill>
                <a:latin typeface="Calibri"/>
              </a:rPr>
              <a:t>Positive review response:  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Journal of Agricultural Science and Technolog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156734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buClr>
                <a:srgbClr val="156734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Calibri"/>
              </a:rPr>
              <a:t>Training manuals, briefs, brochu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7T17:37:57Z</dcterms:created>
  <dc:creator>Haroon Sseguya</dc:creator>
  <dc:description/>
  <dc:language>en-US</dc:language>
  <cp:lastModifiedBy>Haroon Sseguya</cp:lastModifiedBy>
  <cp:lastPrinted>2011-10-06T11:45:23Z</cp:lastPrinted>
  <dcterms:modified xsi:type="dcterms:W3CDTF">2017-07-03T05:45:28Z</dcterms:modified>
  <cp:revision>53</cp:revision>
  <dc:subject/>
  <dc:title>PowerPoint Presentation</dc:title>
</cp:coreProperties>
</file>