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677-A3E9-429F-B1BE-CB9EC530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B68-3A86-4FBA-A937-A80178E7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FB21-43C8-4D90-BF24-988515D5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B5F-767F-465C-B21B-DF8951ED5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98F4-42DA-4FB1-86C9-6F40D1B7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5F67-FA73-4312-8DFD-85E6B15A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A7F5-4287-4B67-B52B-9BCE51C6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4F2-E77B-4911-8E25-EDE1FA60C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53D-0EBD-4819-9998-53DDEEA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7FF-BCF0-4372-912B-5CC8D4C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D6F6-CFBC-4AFE-B081-AED20957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12C-12FF-4E81-A0DE-5DF74867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7F47-03DA-4E2A-A6B7-1BA2EDB381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: some possible scenari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209320" y="1828440"/>
            <a:ext cx="48769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n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. Dev. : 1027.7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f: 1.28  (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=0.0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the required sample size to detect a 30% change in maize yiel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ote this is the same question as if you wanted to see a 30% difference between related questions in the same datas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31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62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94k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$124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3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1043.4 kg/hect (baseline +3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9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0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1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9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2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70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4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11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82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20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2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963.1 kg/hect (baseline +2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9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79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6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357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required sample size to detect a 10% change in maize yiel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,828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2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566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84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.13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Size -10% change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ing a clustered sample with 10 households/cluster (</a:t>
            </a:r>
            <a:r>
              <a:rPr b="0" lang="el-GR" sz="32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.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ize yield (kg/hec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sel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02.6 kg/h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Mean a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llow-up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882.6 kg/hect (baseline +10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 required=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,59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useholds x 2 survey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 per household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10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5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$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cost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$718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$1.08m $1.44m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cost of a rigorous evaluation depends on many parame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ssuming confidence level=90% and same correlation between baseline and follow-up measurements, survey cost can range from $62k to $1.44m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key hypothesis is just on the value of the % change: the lower the projected change the higher the sample required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t, better be conservative and prepared to pick even the 10% change, as if we plan for the 30% and then the 10% occurs, our sample will be too small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2:59:44Z</dcterms:created>
  <dc:creator>CAZZARRI</dc:creator>
  <dc:description/>
  <dc:language>en-US</dc:language>
  <cp:lastModifiedBy>LeBorgne, Ewen (ILRI)</cp:lastModifiedBy>
  <dcterms:modified xsi:type="dcterms:W3CDTF">2012-10-02T10:14:20Z</dcterms:modified>
  <cp:revision>12</cp:revision>
  <dc:subject/>
  <dc:title>Evaluation: some possible scenarios</dc:title>
</cp:coreProperties>
</file>