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 name="PlaceHolder 3"/>
          <p:cNvSpPr>
            <a:spLocks noGrp="1"/>
          </p:cNvSpPr>
          <p:nvPr>
            <p:ph type="sldImg"/>
          </p:nvPr>
        </p:nvSpPr>
        <p:spPr>
          <a:xfrm>
            <a:off x="116172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 name="PlaceHolder 6"/>
          <p:cNvSpPr>
            <a:spLocks noGrp="1"/>
          </p:cNvSpPr>
          <p:nvPr>
            <p:ph type="sldNum" idx="6"/>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E7A9-AB45-4F67-BFF8-3E097C757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81120"/>
            <a:ext cx="4538520" cy="3403440"/>
          </a:xfrm>
          <a:prstGeom prst="rect">
            <a:avLst/>
          </a:prstGeom>
          <a:ln w="0">
            <a:noFill/>
          </a:ln>
        </p:spPr>
      </p:sp>
      <p:sp>
        <p:nvSpPr>
          <p:cNvPr id="8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37AA-CFD0-4B4E-A72B-05E834A001D7}"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62080" y="681120"/>
            <a:ext cx="4538520" cy="3403440"/>
          </a:xfrm>
          <a:prstGeom prst="rect">
            <a:avLst/>
          </a:prstGeom>
          <a:ln w="0">
            <a:noFill/>
          </a:ln>
        </p:spPr>
      </p:sp>
      <p:sp>
        <p:nvSpPr>
          <p:cNvPr id="9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AFAA-02ED-4C1B-8696-87C7AB779EDC}"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81120"/>
            <a:ext cx="4538520" cy="3403440"/>
          </a:xfrm>
          <a:prstGeom prst="rect">
            <a:avLst/>
          </a:prstGeom>
          <a:ln w="0">
            <a:noFill/>
          </a:ln>
        </p:spPr>
      </p:sp>
      <p:sp>
        <p:nvSpPr>
          <p:cNvPr id="9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57EA-C254-4016-BAFB-ACF6C77EF35B}"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81120"/>
            <a:ext cx="4538520" cy="3403440"/>
          </a:xfrm>
          <a:prstGeom prst="rect">
            <a:avLst/>
          </a:prstGeom>
          <a:ln w="0">
            <a:noFill/>
          </a:ln>
        </p:spPr>
      </p:sp>
      <p:sp>
        <p:nvSpPr>
          <p:cNvPr id="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F199-0538-4DF7-AD04-B88EF2A66AF5}"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81120"/>
            <a:ext cx="4538520" cy="3403440"/>
          </a:xfrm>
          <a:prstGeom prst="rect">
            <a:avLst/>
          </a:prstGeom>
          <a:ln w="0">
            <a:noFill/>
          </a:ln>
        </p:spPr>
      </p:sp>
      <p:sp>
        <p:nvSpPr>
          <p:cNvPr id="8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9341-9EE8-492A-A702-54E91DA45959}"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81120"/>
            <a:ext cx="4538520" cy="3403440"/>
          </a:xfrm>
          <a:prstGeom prst="rect">
            <a:avLst/>
          </a:prstGeom>
          <a:ln w="0">
            <a:noFill/>
          </a:ln>
        </p:spPr>
      </p:sp>
      <p:sp>
        <p:nvSpPr>
          <p:cNvPr id="9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AF76-AD25-4CD2-B065-9563DF1D3C40}"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81120"/>
            <a:ext cx="4538520" cy="3403440"/>
          </a:xfrm>
          <a:prstGeom prst="rect">
            <a:avLst/>
          </a:prstGeom>
          <a:ln w="0">
            <a:noFill/>
          </a:ln>
        </p:spPr>
      </p:sp>
      <p:sp>
        <p:nvSpPr>
          <p:cNvPr id="9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5DF5-3CB4-4BC4-A088-D569D28395BE}"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A742C-6461-4E0D-9DD2-A07186423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F8FC1-6399-4262-B1BB-10D055D61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D67E9-FB08-46E6-9D43-5659A931D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96562-D9BA-4624-83BE-E3097D345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0CBC8-40A0-4EE5-B5AC-8C15709E7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77C3D-FC08-47E5-B80F-B71154658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76B0E-38D5-4DCE-AA23-0FDE0089E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7AD94-BAE1-4F3B-BDD4-C6CC74B9B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F2115-94A2-4D51-BDB0-47AD7D14C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60D27-0867-45CE-BDA8-D40D24AE1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B0760-0B76-4EDC-9BF8-B33FED1DA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C0E50-CA38-4D11-8973-7D5EF9BD1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99E2-2B81-4836-ADB1-19E2BE7D40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ffff00"/>
                </a:solidFill>
                <a:latin typeface="Arial"/>
              </a:rPr>
              <a:t> </a:t>
            </a:r>
            <a:br>
              <a:rPr sz="4400"/>
            </a:br>
            <a:br>
              <a:rPr sz="4400"/>
            </a:br>
            <a:r>
              <a:rPr b="1" lang="en-US" sz="2400" spc="-1" strike="noStrike">
                <a:solidFill>
                  <a:srgbClr val="ffff00"/>
                </a:solidFill>
                <a:latin typeface="Tahoma"/>
                <a:ea typeface="Tahoma"/>
              </a:rPr>
              <a:t>Household food insecurity, coping strategies and nutritional status of pregnant women in rural areas of Northern Ghana</a:t>
            </a:r>
            <a:br>
              <a:rPr sz="2400"/>
            </a:br>
            <a:br>
              <a:rPr sz="2400"/>
            </a:br>
            <a:br>
              <a:rPr sz="2400"/>
            </a:br>
            <a:endParaRPr b="0" lang="en-US" sz="2400" spc="-1" strike="noStrike">
              <a:solidFill>
                <a:srgbClr val="ffff00"/>
              </a:solidFill>
              <a:latin typeface="Arial"/>
            </a:endParaRPr>
          </a:p>
        </p:txBody>
      </p:sp>
      <p:sp>
        <p:nvSpPr>
          <p:cNvPr id="49" name="PlaceHolder 2"/>
          <p:cNvSpPr>
            <a:spLocks noGrp="1"/>
          </p:cNvSpPr>
          <p:nvPr>
            <p:ph type="subTitle"/>
          </p:nvPr>
        </p:nvSpPr>
        <p:spPr>
          <a:xfrm>
            <a:off x="1371600" y="1599840"/>
            <a:ext cx="7391520" cy="2971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SENTED BY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r Mahama Saaka (PhD)</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DS, School of Allied Health Sciences- Tamal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the Nadowli District, women resident in the Kasena-Nankana/Bongo District were 6 times more likely of experiencing food insecurity (OR=6.91, CI: 3.16, 15.11) and households having lower wealth index (AOR=5.14, CI: 2.88, 9.18) were  5 times more likely to be food insecur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proportion of women in food insecure households adopted coping strategies to minimize the impact of food insecurit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rategies included relying on less expensive foods, limiting portion size of meals and reducing number of meals eaten in a 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analysis showed that coping strategy index (CSI) was positively associated with overall household food insecurity as measured by household hunger scale (HHS) among pregnant women in rural households (r = 0.60, p &lt;0.001).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I associated negatively with dietary diversity score for women (r = -0.17, p &lt;0.00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ependent predictors of maternal thinness were region of residence, gestational age and maternal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stational age was the greatest predictor of maternal thinnes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women in the first trimester, women in the third trimester were 2.2 times more likely of being underweight (OR=2.19, CI: 1.02, 4.7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ho were under 20 years of age were 11.9 times more likely of being thin compared to women aged more than 35 years (OR= 11.97, CI: 2.55, 5. 6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Tahoma"/>
              </a:rPr>
              <a:t>Conclusion and Recommendation</a:t>
            </a:r>
            <a:endParaRPr b="0" lang="en-US" sz="3600" spc="-1" strike="noStrike">
              <a:solidFill>
                <a:srgbClr val="ffff00"/>
              </a:solidFill>
              <a:latin typeface="Arial"/>
            </a:endParaRPr>
          </a:p>
        </p:txBody>
      </p:sp>
      <p:sp>
        <p:nvSpPr>
          <p:cNvPr id="77"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 perceived food insecurity was highly prevalent, it was not associated with maternal thinness of this sample of rural pregnant wom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isk of maternal thinness increased as the gestational age increased and this has a great potential of adversely influencing pregnancy outcomes and overall quality of lif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NKS</a:t>
            </a:r>
            <a:endParaRPr b="0" lang="en-US" sz="4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PRESEN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understanding of the factors that contribute to household food insecurity is critical for designing effective strategies to address poor maternal dietary intake.</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there is limited information on the magnitude of household food insecurity and how it relates to the nutritional status of pregnant women in Northern Ghan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tudy assessed household food insecurity, its determinants and relationship with nutritional status of pregnant women belonging to different gestational ages in the Africa RISING West Africa project intervention communities of Northern Ghan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5" name=""/>
          <p:cNvSpPr txBox="1"/>
          <p:nvPr/>
        </p:nvSpPr>
        <p:spPr>
          <a:xfrm>
            <a:off x="456840" y="1600200"/>
            <a:ext cx="84582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ousehold-based cross-sectional study involving 400 pregnant women in different stages of gestation was conducted in 25 communiti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ach community, a complete list of all households was compiled and were serially numbered. Systematic random sampling was then used in selecting study househol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Tahoma"/>
                <a:ea typeface="Tahoma"/>
              </a:rPr>
              <a:t>Study Design, study Population and Sampling</a:t>
            </a:r>
            <a:br>
              <a:rPr sz="4400"/>
            </a:br>
            <a:endParaRPr b="0" lang="en-US" sz="4400" spc="-1" strike="noStrike">
              <a:solidFill>
                <a:srgbClr val="ffff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usehold Food Insecurity (HFI) was quantified using the Household Hunger Scale and the reduced coping strategy index (rCS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 upper arm circumference (MUAC) was used to assess the nutritional status of the wom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ary logistic regression was performed to test whether HFI significantly predicts maternal nutritional status, controlling for potential confounding factor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 value of &lt; 0.05 was considered statistically significant.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Arial"/>
              </a:rPr>
              <a:t>Results</a:t>
            </a:r>
            <a:br>
              <a:rPr sz="3600"/>
            </a:br>
            <a:endParaRPr b="0" lang="en-US" sz="4400" spc="-1" strike="noStrike">
              <a:solidFill>
                <a:srgbClr val="ffff00"/>
              </a:solidFill>
              <a:latin typeface="Arial"/>
            </a:endParaRPr>
          </a:p>
        </p:txBody>
      </p:sp>
      <p:sp>
        <p:nvSpPr>
          <p:cNvPr id="61" name="PlaceHolder 2"/>
          <p:cNvSpPr>
            <a:spLocks noGrp="1"/>
          </p:cNvSpPr>
          <p:nvPr>
            <p:ph/>
          </p:nvPr>
        </p:nvSpPr>
        <p:spPr>
          <a:xfrm>
            <a:off x="456840" y="1600200"/>
            <a:ext cx="8381880" cy="510552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The mean dietary diversity score (DDS) of study population from ten food groups was 4.2±1.5 (95 % CI: 4.08 to 4.37).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Of the 400 women, 46.1 % (95 % CI: 40.0 to 52.2) met the  minimum dietary diversity for women (MDD-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3" name=""/>
          <p:cNvSpPr txBox="1"/>
          <p:nvPr/>
        </p:nvSpPr>
        <p:spPr>
          <a:xfrm>
            <a:off x="456840" y="1600200"/>
            <a:ext cx="8381880" cy="5105520"/>
          </a:xfrm>
          <a:prstGeom prst="rect">
            <a:avLst/>
          </a:prstGeom>
          <a:noFill/>
          <a:ln w="0">
            <a:noFill/>
          </a:ln>
        </p:spPr>
        <p:txBody>
          <a:bodyPr anchor="t">
            <a:normAutofit/>
          </a:bodyPr>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majority (77.5 %) of households experienced some degree of food insecurity in the month prior to the survey. </a:t>
            </a:r>
            <a:endParaRPr b="0" lang="en-US" sz="3600" spc="-1" strike="noStrike">
              <a:solidFill>
                <a:srgbClr val="ffffff"/>
              </a:solidFill>
              <a:latin typeface="Arial"/>
            </a:endParaRPr>
          </a:p>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prevalence of moderate and severe household hunger were 25.9 % (95% CI: 19.0 – 34.3) and 6.8 % (95% CI: 4.2 – 10.9) respectivel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istic regression analysis showed that households with larger number of children (&gt; 4) under five years were 6 times more likely (AOR=6.85, CI:2.13, 22.05) to be food insec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2:30:10Z</dcterms:created>
  <dc:creator>Amy</dc:creator>
  <dc:description/>
  <dc:language>en-US</dc:language>
  <cp:lastModifiedBy>mahama Saaka</cp:lastModifiedBy>
  <dcterms:modified xsi:type="dcterms:W3CDTF">2016-12-12T11:57:39Z</dcterms:modified>
  <cp:revision>1467</cp:revision>
  <dc:subject/>
  <dc:title>Gastroenteritis at a University in Texas</dc:title>
</cp:coreProperties>
</file>