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433-E15E-4CD9-818E-6ACCF8EB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5E64-3247-406A-A5E6-FCA982CD2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DEB1-A3F1-42C4-8E47-18CC079F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5C34-DBF2-4AB4-A80A-92AED1AAC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B81-A9C3-4F7B-9A7D-2A37C624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10E9-A7A3-46E8-A10B-F393F951A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5C53-A559-4548-8D28-73021B0D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CB8D-AF3A-4886-8A75-4AFD29C2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24D7-83A8-4692-B2C8-A58DFD62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F66-AB3F-41B1-8E5F-DC6D71EC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1C00-67AC-4D0D-A76B-062C513A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45F-56D1-4346-ACB7-E103C7C4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CBDA-DB37-4458-87CE-8C1309D82DB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-physical and socio-economic benchma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How?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keholder surve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cioeconomic and biophysical bench marks from RC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eer to peer vis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ion sites on selected farmers land and farming land sca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udio and vide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sters, .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isit to successful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dio and news paper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xhibitions and exp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monstrate new technolog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thiopian Agricultural Portal(EAP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ith who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TC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earch cent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GIAR (ICRAF, ILRI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National partners (MoA, BoA, NGO and civic societies) 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frica  is rising!!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soil degradation status and manage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Vegetation cover and diversity (spatial distributio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water availability(Irrigation, ponds, poatble water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feed sources and availabilit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livestock resources and productiv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improved crop varieties (fodder, fruit, legume, vegetables, cereal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Diversity and level of intensif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Existing infrastructure (FTC, road, market, telecommunication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?.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92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ocioeconomic Bench mark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velihood status (vulnerability, food securit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come sources ( on farm and off f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use hold size and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ducational statu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vailability of lab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operatives (saving and credit, consumer associations, multipurpose) and local institu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vel of ecological knowledge and innovativ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design and introduce appropriate intervention options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to identify gaps,barriers,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opportunities and fill the gap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scaling up and out of best local practic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tributes to RC3, 4, 5, 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monitoring and e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80520" y="1294920"/>
            <a:ext cx="86108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G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icipatory resource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urv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y informant discussion and int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condary in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akeholder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KT5 softwa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EA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th whom?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Regional research institut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participate in the design, implementation and M and E of the project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ocal administration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 Community mobilization and political backstopping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Bureau of Agriculture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secondary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Livestock resource development and health agencie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/Oromia and Amhara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Cooperatives and microfinance institutio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/facilitate access to cred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3000" spc="-1" strike="noStrike">
                <a:solidFill>
                  <a:srgbClr val="000000"/>
                </a:solidFill>
                <a:latin typeface="Calibri"/>
              </a:rPr>
              <a:t>ILR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,  ICRA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ocio economic bench marks ICRAF/Biophysical characterisation and list of existing tech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Community knowledge exchange groups (CKEGs</a:t>
            </a:r>
            <a:r>
              <a:rPr b="1" lang="en-GB" sz="3200" spc="-1" strike="noStrike">
                <a:solidFill>
                  <a:srgbClr val="898989"/>
                </a:solidFill>
                <a:latin typeface="Calibri"/>
              </a:rPr>
              <a:t>)</a:t>
            </a: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Identify, characterise,  capacitate  existing community institutions (formal and informal)- Gender and age based organisation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; Development groups (men, women , youth); Farmers association community leaders and eld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00000"/>
                </a:solidFill>
                <a:latin typeface="Calibri"/>
              </a:rPr>
              <a:t>Establish CKEGs as appropriate Farmers research  extension groups community based breeding scheme (Oromia and South reg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share and disseminate knowledge, skill  lessons, opportunities and challe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plan interventio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caling up and out best bet indigenous and exogenous te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introduce demonstrate appropriate technolog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ntribution to RC 3, 4, 5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9:09:01Z</dcterms:created>
  <dc:creator>Asrat</dc:creator>
  <dc:description/>
  <dc:language>en-US</dc:language>
  <cp:lastModifiedBy>Asrat</cp:lastModifiedBy>
  <dcterms:modified xsi:type="dcterms:W3CDTF">2013-02-14T05:59:33Z</dcterms:modified>
  <cp:revision>4</cp:revision>
  <dc:subject/>
  <dc:title>Bio-physical and socio-economic benchmarks</dc:title>
</cp:coreProperties>
</file>