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E683-548D-4BB4-9F33-15B514E16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9D40-AF8C-4B12-85E9-80C5918FEE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12BB-0535-4328-B0F5-FE85FF34F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DB42-8E14-44B9-A14F-2B4E1C40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D483-1188-40CE-BDBD-8FE6E1FE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6048-77F1-4837-8A50-00050629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11EB-B708-49C9-A95E-39341F58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BAFF-1992-4F6B-8140-F054309A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7D48-4AD4-4290-BD61-8B07C432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472A-36DE-44AE-A702-CFF1A131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9B26-6857-4BC2-B8B1-CBBDAE94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FDBB-F1AA-451E-B872-8030B5BF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37DE-9A01-4CCC-B724-142BB4D9F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1843-E1D4-4889-8D68-79B05FDF4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5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4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8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9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FBE6-420D-4451-A46A-184606531C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71247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0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ing partnership among Africa RISING, NAFAKA and TUBORESHE CHAKULA Programs for fast tracking delivery and scaling of agricultural technologies in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112480" y="4648320"/>
            <a:ext cx="4575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Haroon Ssegu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Scaling Speciali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 Placeholder 2"/>
          <p:cNvSpPr/>
          <p:nvPr/>
        </p:nvSpPr>
        <p:spPr>
          <a:xfrm>
            <a:off x="2438280" y="3733920"/>
            <a:ext cx="4575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Operational iss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Scaling Framework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45" name="Content Placeholder 3" descr=""/>
          <p:cNvPicPr/>
          <p:nvPr/>
        </p:nvPicPr>
        <p:blipFill>
          <a:blip r:embed="rId1"/>
          <a:stretch/>
        </p:blipFill>
        <p:spPr>
          <a:xfrm>
            <a:off x="1069920" y="1600200"/>
            <a:ext cx="7004160" cy="452592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4"/>
          <p:cNvSpPr/>
          <p:nvPr/>
        </p:nvSpPr>
        <p:spPr>
          <a:xfrm>
            <a:off x="1069920" y="6172200"/>
            <a:ext cx="5483160" cy="4572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urce: World Health Organization (20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Scaling 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Picture 2" descr=""/>
          <p:cNvPicPr/>
          <p:nvPr/>
        </p:nvPicPr>
        <p:blipFill>
          <a:blip r:embed="rId1"/>
          <a:srcRect l="15176" t="23270" r="-378" b="0"/>
          <a:stretch/>
        </p:blipFill>
        <p:spPr>
          <a:xfrm>
            <a:off x="762120" y="1488960"/>
            <a:ext cx="70866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Operational issues  - general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Gener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caling up or ou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to involve local (especially district ag) institu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nitoring data collection (DCFs, Success stori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change visi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FAKA presence – new/old are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Operational issues - expansion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Expan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FAKA presence (old and new region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am partnership (some already in new areas, others no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unity entry (new are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onnaissance visit and buy-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al re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7:37:57Z</dcterms:created>
  <dc:creator>Haroon Sseguya</dc:creator>
  <dc:description/>
  <dc:language>en-US</dc:language>
  <cp:lastModifiedBy>Haroon Sseguya</cp:lastModifiedBy>
  <cp:lastPrinted>2011-10-06T11:45:23Z</cp:lastPrinted>
  <dcterms:modified xsi:type="dcterms:W3CDTF">2015-07-09T05:08:44Z</dcterms:modified>
  <cp:revision>21</cp:revision>
  <dc:subject/>
  <dc:title>PowerPoint Presentation</dc:title>
</cp:coreProperties>
</file>