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7A7-BEDA-46E7-998C-3BCE950A3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3D6D-4EA9-43A9-853A-2ADE693816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B73-DE9D-40F0-AB92-FAF135CB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D438-019A-455F-AFF4-DBD3C140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512-FF61-4E27-BE8D-EEECB0E1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3821-60A3-4F8F-B851-350207C2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17E4-B38B-48BA-9338-E9F5F6A3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E8C0-2E03-4123-84B9-6F30A636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3D6-ED9C-4DD6-8481-084ACF1F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DFD-2999-402B-8B30-01227F3CF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EE2E-B889-4844-B004-8970E099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FBC-9B7D-4CE9-90D0-832731231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9A4-9520-462F-BAF8-80601B6FD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05F-9798-4D73-9F98-9EAE36E9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5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4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2" name="Group 8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633E-FD74-4BE4-8002-EC0EB57A9B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7720" y="1752480"/>
            <a:ext cx="7124760" cy="14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10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hancing partnership among Africa RISING, NAFAKA and TUBORESHE CHAKULA Programs for fast tracking delivery and scaling of agricultural technologies in Tanzan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112480" y="4648320"/>
            <a:ext cx="45752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Calibri"/>
              </a:rPr>
              <a:t>Haroon Sseguy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chnology Scaling Speciali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 Placeholder 2"/>
          <p:cNvSpPr/>
          <p:nvPr/>
        </p:nvSpPr>
        <p:spPr>
          <a:xfrm>
            <a:off x="2438280" y="3733920"/>
            <a:ext cx="4575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Calibri"/>
              </a:rPr>
              <a:t>Operational issu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Scaling Framework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45" name="Content Placeholder 3" descr=""/>
          <p:cNvPicPr/>
          <p:nvPr/>
        </p:nvPicPr>
        <p:blipFill>
          <a:blip r:embed="rId1"/>
          <a:stretch/>
        </p:blipFill>
        <p:spPr>
          <a:xfrm>
            <a:off x="1069920" y="1600200"/>
            <a:ext cx="7004160" cy="452592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4"/>
          <p:cNvSpPr/>
          <p:nvPr/>
        </p:nvSpPr>
        <p:spPr>
          <a:xfrm>
            <a:off x="1069920" y="6172200"/>
            <a:ext cx="5483160" cy="457200"/>
          </a:xfrm>
          <a:prstGeom prst="rect">
            <a:avLst/>
          </a:prstGeom>
          <a:solidFill>
            <a:srgbClr val="f07f09"/>
          </a:solidFill>
          <a:ln w="2556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ource: World Health Organization (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"/>
              </a:rPr>
              <a:t>Scaling approa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8" name="Picture 2" descr=""/>
          <p:cNvPicPr/>
          <p:nvPr/>
        </p:nvPicPr>
        <p:blipFill>
          <a:blip r:embed="rId1"/>
          <a:srcRect l="15176" t="23270" r="-378" b="0"/>
          <a:stretch/>
        </p:blipFill>
        <p:spPr>
          <a:xfrm>
            <a:off x="762120" y="1488960"/>
            <a:ext cx="708660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 - general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Gener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caling up or out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ow to involve local (especially district ag) institu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nitoring data collection (DCFs, Success stor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xchange visit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– new/old are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Operational issues - expansion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Expan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FAKA presence (old and new region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eam partnership (some already in new areas, others not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mmunity entry (new area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nnaissance visit and buy-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al reorganiz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15673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7T17:37:57Z</dcterms:created>
  <dc:creator>Haroon Sseguya</dc:creator>
  <dc:description/>
  <dc:language>en-US</dc:language>
  <cp:lastModifiedBy>Haroon Sseguya</cp:lastModifiedBy>
  <cp:lastPrinted>2011-10-06T11:45:23Z</cp:lastPrinted>
  <dcterms:modified xsi:type="dcterms:W3CDTF">2015-07-09T05:08:44Z</dcterms:modified>
  <cp:revision>21</cp:revision>
  <dc:subject/>
  <dc:title>PowerPoint Presentation</dc:title>
</cp:coreProperties>
</file>