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7B197-CC61-4A7A-8886-FFBC6CB3447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D3D68-C2B2-4BFE-9B70-CB02000B90F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BDFE2-01D3-4477-95A4-D375AA3D7C0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F9548-7663-4165-8DC9-11DB9F5CAB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9DA2-3A46-4AF1-9F76-DA6F62CB62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418CA984-B8CE-4EC9-8770-A7ADFCECF2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6F8FC-0D16-426F-9B35-CAC4F65D35B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649E-205F-44C1-A15B-0E1E71971C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14C77-B7CF-4FFA-891A-27D95A1736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608C-42C3-4B0C-A98E-060B400AD25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D0697-4B83-46D6-AFFD-C4FECA1CA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4B5BA-87AF-4EF4-9AB3-2B9F9F09A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B512B-E8E7-4533-9251-9BE2FC8925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8DBCD-3DFA-44A7-AD1F-D564DB38B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0E15D8-9E15-4E37-8B88-402871BD87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8B6B5-62E3-49BE-9D9D-AA75C35D9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85902-53A4-4660-9C2D-EE8199003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E7136-FF35-412A-85F7-AA06DE0D5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7D9D6-F511-42C0-B36F-0D12D3B998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7676A-4F8D-4117-97F0-FC43D5ADB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57AAF-3BDE-42A9-A422-9D5FFE3D1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BBC2-5C17-48A7-9073-DF2F0AE7B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F7C71-6C45-4127-A628-8DAF0C076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C96AA-50FB-4177-993C-1C3C3C418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6C76F-F9B0-477C-B7DB-7FAA8DC4CF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9C003-B94E-4C53-AB4B-C82A203A09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726FDB-F9F6-439B-B8D9-E918E4F8D9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4936E8-ADD7-4447-8552-A03938371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CA2B19-03B8-4474-B7E7-256E16791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DE1CA-BE65-4B87-969C-98BCB3D3F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21ACD-4445-4468-861E-BE295C24F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D1F2C-9D03-41A9-A0DA-703E495C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3D450-D524-4B4E-8E60-5AD8EAF11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72E1-6103-472A-8535-92F810EB34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D7A7-7A11-4246-861E-49BD0909D17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B71FB-C97F-455D-9381-7D21A24F0C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1C42E-E40A-4235-B595-55632A46E26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B3C2A-4904-4D7A-B528-1C233FCF706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9B69-B13D-40B6-92A2-1A3949110A6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635FD-654F-44B9-BD82-8667A318002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Ethiopian Highlands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30,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0D071-87A0-482E-8D1A-C9AF5A0C2F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Ethiopian Highland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Addis Ababa, 30 January-2 Febr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2618-346F-44E4-9E2D-CC9156ADF39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1-30T11:02:34Z</dcterms:modified>
  <cp:revision>241</cp:revision>
  <dc:subject/>
  <dc:title>PowerPoint Presentation</dc:title>
</cp:coreProperties>
</file>