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AD4B-29A5-46A3-B39A-3B1801A5AEFB}"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C45C-CC37-49A3-9520-8CFE74197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D5A4-CB4E-43B7-B6A7-A7114CBBA6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2226-B387-40D6-B5E8-A6F201C349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EFBC-9CC4-4E68-A4AE-8669BAF176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8225C99-23CD-4503-9A35-E65609EF2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E38E-BFED-4C2D-B314-9E20C7FD4C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6C43-F512-4E8A-847D-FFB1829D0A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D353-E653-4044-BFE9-6248B5B8A0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B47B-3A96-4ABC-A9F9-1F132F030C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879E3-F785-41EB-9F34-5EE9DC104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6828-213B-4398-AC1B-4C0C4FE26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E3EDE-791D-4FBE-AF91-1A10AB3D5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5847D-C9B4-4B4D-97CB-E39D59612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344AE-6103-4DD6-9703-87714F5C6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BA13E-CFE1-4D31-B7B8-D08B7AA4D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0B6D7-E947-4013-AA56-A70909778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39696-2AC5-47A7-B2C7-66DEA67D3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A67BD-E833-4435-944B-92C24826B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2D72C-4B76-4577-A86F-8A6A4E2E5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77E37-B166-4034-B289-09110D6C4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CCA33-6B9B-44B1-9E06-E686F5860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9F901-495C-4D6C-9DBE-E7013A0D8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44490-0F67-4331-831C-6D8282342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1C027-5131-427C-B797-6671F45DB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EF348-D28F-4536-A47D-BDB1C65DF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64B7F-368E-46C3-8395-778CB4A01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E8ABE-5B01-4008-8FDE-8723B14E2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EA804-4E2C-437D-8A6B-469ADE8C7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55EF7-1F14-4F86-9F51-3B99561D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1297-F165-43D4-930C-4E250E1D7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52A27-817E-471C-996E-A2FE00AD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4C63-39F8-4A73-B467-8A28C787D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18C39-A8F3-47CC-B363-9B0E1A8B1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0243-10EC-422C-9385-AC7FD002839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6295-998E-4481-8319-3F633A667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234E-20EF-4F19-8458-D8C8F9B04B1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DAEB-461E-4E9C-ACAF-B7D19A8F37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9351-A1F7-445F-868F-2BD91522F25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F4E7-0D36-4339-8C31-828D0999CC6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Ethiopian Highlands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30,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C32E-E7B2-4104-8A9E-4E04668D74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Ethiopian Highland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Addis Ababa, 30 January-2 Febr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1A56-CD06-4191-A8B8-66B95BE1CF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1-30T11:02:34Z</dcterms:modified>
  <cp:revision>241</cp:revision>
  <dc:subject/>
  <dc:title>PowerPoint Presentation</dc:title>
</cp:coreProperties>
</file>