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CB5C-CC1B-490A-ADA6-811403F4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313-BDBD-41D8-A4BC-92B7D72A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F48A-6760-4D57-B848-3CB01AC4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532D-603C-4CF4-A1C5-9EAD97C8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A87B-0E2A-45D9-8D11-379495BD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3B68-EE41-4B59-99E8-2791779E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690C-ACAD-4181-A78C-BB479DC5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8CA2-A529-4CC3-AA31-5F13AE7F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2213-8F0E-4AD9-87E4-96B20940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BC14-EABE-4F61-85EF-3FC9882E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189A-409A-413A-9F77-270B7C4E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3C9-61FF-423C-85AE-D9500DFD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8D52-8060-49D7-94CB-F83A33EE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B677-DF5D-44A0-8C3A-2BEE3EF4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037E-9243-4DA7-88B3-738C0192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FA4A-B014-43E0-9639-BC18663B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D238-9D99-4368-B6AC-477DC1BF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D0C71-BE85-49FE-8308-8323C5FE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6ECEF-E540-40FE-9C99-1871D717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9439F-41CE-4590-911A-E686ABB8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0D7AA-5680-475D-B32A-DDCD517D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C3120-B3B4-4A6B-BEF4-D7BF51FC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E3B-8FB4-4763-B844-9D1A9828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0D6FE-93B3-4306-9979-CF0955EE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68E12-AB16-4081-B2DA-539A17E0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CA8C7-384A-43AD-8BBB-4B5D4ABB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1AAF5-43E3-406D-90B5-74BF5EDB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68052-C686-4194-9507-02701F51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F10B7-BBF2-47A9-88A1-A25974CE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A1C70-C182-485E-ABC7-04594A7E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0D4F2-F5E9-451A-B6EC-2F00D7FF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60C1B-E439-4BD0-AE53-435D15DA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74AF4-EFA5-4913-8FF7-2C48B76A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C0CB-3846-4467-A547-93010E69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85BC2-C167-4623-94FD-0CB9998E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D51A9-C8F1-483A-A8BE-493615EF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383C0-1E73-47F7-93D5-A16C3BAD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34663-D28C-4687-A28F-88CBF262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4B76F-D614-447D-BC95-27E4E1BE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4414A-B986-4BB9-ADE7-1B99D6B0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98605-AEF6-48B7-996C-6F7094CC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CD90E-F91D-48BE-9BF5-96DFE0F9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5638F-AD8A-4C33-8CD8-805E7471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F8B49-012E-47EB-A381-8ADF2398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6DC-A7C0-45FA-AB85-E96E2D74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9BD79-9D4E-4C1C-8F69-2CB8D5F8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1238D-BD8B-47A5-B075-72F6A057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4613C-E038-4095-B0B6-1F1181B6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3C4EB-9E1F-4554-8EFD-F7D51C4D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F504F-61E8-4637-8545-8891E43B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68249-BF5E-41F1-A9E8-3E8B7037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D5870-6EE5-4EB0-9621-FFD03D10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3A35F-976C-4AF3-9DA7-9D510427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D1359-5E52-49C8-98C6-F9E12B01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2A50B-7ECB-4328-AD11-EC80CC9A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F706-6DCC-42A0-B2AE-F96FE844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BC43B-D7F5-4DC9-9806-97FD1CCC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167-E823-463F-A7FE-1F095B05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1D5-B0EC-4331-9C78-3DFE29D4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9CD1-6543-4642-AF41-D3605B20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33E7-E43D-4F02-8A5E-DF6595CF140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F980-3880-4C0B-B7FD-E8D089877E9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ACEC-801F-4B27-A707-D13F9A61D9F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F484-5168-4C3B-B614-87F1EC44425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2C73-2C4B-4E99-A97A-869B71EC2A2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hyperlink" Target="http://mofa.gov.gh/site" TargetMode="Externa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3"/>
          <p:cNvSpPr/>
          <p:nvPr/>
        </p:nvSpPr>
        <p:spPr>
          <a:xfrm>
            <a:off x="0" y="152280"/>
            <a:ext cx="91440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Sustainable Intensification of Key Farming Systems in the Sudano-Sahelian Zone of West Afric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N. Karbo, F. K. Avornyo, H. K. Dei, B. Alenyorege, E. Osafo, S. Konlan, A. Fal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SIR-ARI, UDS, ILR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1523880" cy="121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CSIR\Local Settings\Temp\Rar$DI00.406\4221308719_7e861369dc.jpg"/>
          <p:cNvPicPr/>
          <p:nvPr/>
        </p:nvPicPr>
        <p:blipFill>
          <a:blip r:embed="rId2"/>
          <a:stretch/>
        </p:blipFill>
        <p:spPr>
          <a:xfrm>
            <a:off x="685800" y="685800"/>
            <a:ext cx="863640" cy="887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6719132809_d02a581715_b.jpg"/>
          <p:cNvPicPr/>
          <p:nvPr/>
        </p:nvPicPr>
        <p:blipFill>
          <a:blip r:embed="rId3"/>
          <a:stretch/>
        </p:blipFill>
        <p:spPr>
          <a:xfrm>
            <a:off x="7162920" y="380880"/>
            <a:ext cx="971280" cy="1041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University for Development Studies logo - All Ghana Data"/>
          <p:cNvPicPr/>
          <p:nvPr/>
        </p:nvPicPr>
        <p:blipFill>
          <a:blip r:embed="rId4"/>
          <a:stretch/>
        </p:blipFill>
        <p:spPr>
          <a:xfrm>
            <a:off x="5181480" y="457200"/>
            <a:ext cx="1067040" cy="961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http://www.knust.edu.gh/images/content/pics/img27052010_135229.gif"/>
          <p:cNvPicPr/>
          <p:nvPr/>
        </p:nvPicPr>
        <p:blipFill>
          <a:blip r:embed="rId5"/>
          <a:stretch/>
        </p:blipFill>
        <p:spPr>
          <a:xfrm>
            <a:off x="228600" y="5410080"/>
            <a:ext cx="4572000" cy="914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Republic of Ghan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76920" y="5486400"/>
            <a:ext cx="4114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28600" y="685800"/>
            <a:ext cx="8686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Capacity building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implemente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mprovement in understanding of crop-livestock syste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Benefited from biometry training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farme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ensitization on protoco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emonstration on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228600" y="1066680"/>
            <a:ext cx="85345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studen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emonstration on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rop-livestock syste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228600" y="838080"/>
            <a:ext cx="85345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Dissemin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rmer field visits (75 men and 42 women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eed millers’ visit to project sit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mmunity experience-sharing and learning (120 participant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osters distributed (3,000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228600" y="609480"/>
            <a:ext cx="868680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Challeng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Harmonization gaps of the protocols due to limited  information on socio-cultural setting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ime and area to cover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Managing in the absence of a project vehicl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upport needed by farmers for technology/innovation uptak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How to sustain the process/interventions – farmers are wondering if we will come back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228600" y="1219320"/>
            <a:ext cx="84582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Lesson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eam work contributed greatly to the achievemen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egional teams required monitoring due to peculiarity of data collection - without which project might have fail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228600" y="762120"/>
            <a:ext cx="853452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Element of long term relationship, commitment and trus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Wet season intervention is justified particularly for restrained animal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Land is an issue for intensification  - In UER where crops are failing diversifying into livestock production for integration with crops can improve livelihood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228600" y="533520"/>
            <a:ext cx="8763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Opportuniti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mmunity members are more receptive and are organizing themselves into group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ome feed formulations were promising and this provides an opportunity for scaling up – development of feed marke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New partnerships formed present an opportunity for future collaborations (internal and external partner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228600" y="1143000"/>
            <a:ext cx="868680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esence of milk groups presents an opportunity for the development of the dairy sector in northern Ghan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vailability of synthesized knowledge for uptake – proceedings, repor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Working as a consortium for future projec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609480" y="685800"/>
            <a:ext cx="7620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Perpetu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0" y="762120"/>
            <a:ext cx="914400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Perpetua"/>
              </a:rPr>
              <a:t>ACTIVITIES/OUTPUT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Perpetua"/>
              </a:rPr>
              <a:t>Planning meeting and team form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Core team for coordin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Regional teams for coordin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Committee on planning for Regional workshop, training cours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Areas for protocol development identifi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6"/>
          <p:cNvSpPr/>
          <p:nvPr/>
        </p:nvSpPr>
        <p:spPr>
          <a:xfrm>
            <a:off x="228600" y="228600"/>
            <a:ext cx="868680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Regional workshop on constraints and opportunities for intensification of integrated crop-livestock system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ceeding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Technologies tested/generated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On-st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lse yam for guinea fowls (8 feed formulation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lse yam fro pigs (9 feed formulations out of which two were promising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C:\Users\DELPHE\Pictures\23-09-2012\DSC00556.JPG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152280" y="152280"/>
            <a:ext cx="883944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On-farm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eed supplementation under wet season management of small ruminants – 1 promising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orghum spent malt for guinea fowls (cheaper feed formulation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Best-bet technologies in milk hygiene and processing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ppropriate pasteurization equipmen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osters on milk hygiene, milk platform, salt wagashi, good wagashi, quesco blanco cheese and yoghur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DSC05820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C:\Users\DELPHE\Pictures\23-09-2012\DSC00570.JPG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Figure 1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wagashibrine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22:14:50Z</dcterms:created>
  <dc:creator>Hp</dc:creator>
  <dc:description/>
  <dc:language>en-US</dc:language>
  <cp:lastModifiedBy>LeBorgne, Ewen (ILRI)</cp:lastModifiedBy>
  <dcterms:modified xsi:type="dcterms:W3CDTF">2012-10-24T12:28:10Z</dcterms:modified>
  <cp:revision>118</cp:revision>
  <dc:subject/>
  <dc:title>Slide 1</dc:title>
</cp:coreProperties>
</file>