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353C-9642-4B48-974B-A6CF1D732D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6B0DF-B322-46E0-B226-0AA9783D92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8352-CE65-4181-B18F-E164524056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2BB21-33EB-486D-93D8-5A3B3172A0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C7FC-B560-4663-8CE5-49311A9AFA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D30F-C38B-4B6B-BA42-BB5691F0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72CE-0140-4D26-B933-32EA5961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15E5-5177-4B2E-ACA2-62698AABC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7252-1499-456C-AE07-B5DC15D0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A60-7064-4229-8E74-22E959BB4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ECA4-0827-432C-A0B8-507B440E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259E-86DE-4539-BB77-9C0B9006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5B4C-F173-43EA-B21C-BE3694AD9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02A5-2F89-4F55-B1F5-9B457C0C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B7B-7B25-48CB-889E-CD4552F0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FD94-640C-4F79-9A8B-D30B0BE2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7C0-0609-41E9-9688-5099E76E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5665-711C-4E71-9728-37E8F130865F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GIAR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grated Systems Approach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 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. Asiedu, I. Hoeschle-Zeledon, and E. 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2057400" y="2438280"/>
            <a:ext cx="502776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9132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8088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670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52280" y="6095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Site Transects and Satellite Sites in the West African Sahel and dry sava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64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Impact  zones and IITA h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3480" y="1215720"/>
            <a:ext cx="4740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ion system plat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3920" y="852120"/>
            <a:ext cx="3879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llaborativ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24400" y="1855440"/>
            <a:ext cx="381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USAID Feed 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GRA &amp; BMG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Millennium vill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egional pri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ARA learning 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-9360" y="1967040"/>
            <a:ext cx="53179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33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tegration of IITA research with C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le 3"/>
          <p:cNvSpPr/>
          <p:nvPr/>
        </p:nvSpPr>
        <p:spPr>
          <a:xfrm>
            <a:off x="762120" y="3048120"/>
            <a:ext cx="1728720" cy="1447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Genetic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Up-Down Arrow 4"/>
          <p:cNvSpPr/>
          <p:nvPr/>
        </p:nvSpPr>
        <p:spPr>
          <a:xfrm>
            <a:off x="1295280" y="2619360"/>
            <a:ext cx="457200" cy="53352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/>
          <p:cNvSpPr/>
          <p:nvPr/>
        </p:nvSpPr>
        <p:spPr>
          <a:xfrm>
            <a:off x="2590920" y="3124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5, CRP 1.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n Arrow 9"/>
          <p:cNvSpPr/>
          <p:nvPr/>
        </p:nvSpPr>
        <p:spPr>
          <a:xfrm flipV="1">
            <a:off x="54100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>
            <a:off x="4687920" y="3071880"/>
            <a:ext cx="1941480" cy="13939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ciences &amp; Commerc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2, CR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0"/>
          <p:cNvSpPr/>
          <p:nvPr/>
        </p:nvSpPr>
        <p:spPr>
          <a:xfrm flipV="1">
            <a:off x="7467480" y="2554200"/>
            <a:ext cx="45108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7"/>
          <p:cNvSpPr/>
          <p:nvPr/>
        </p:nvSpPr>
        <p:spPr>
          <a:xfrm>
            <a:off x="6719760" y="3065400"/>
            <a:ext cx="1758960" cy="1393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5, CRP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8"/>
          <p:cNvSpPr/>
          <p:nvPr/>
        </p:nvSpPr>
        <p:spPr>
          <a:xfrm flipV="1">
            <a:off x="33526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going change process will in the near future see the operations of the CGIAR implemented through a number Research Programs (CRP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0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2"/>
          <p:cNvSpPr/>
          <p:nvPr/>
        </p:nvSpPr>
        <p:spPr>
          <a:xfrm>
            <a:off x="91440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68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04920" y="533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Commod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16" descr=""/>
          <p:cNvPicPr/>
          <p:nvPr/>
        </p:nvPicPr>
        <p:blipFill>
          <a:blip r:embed="rId5"/>
          <a:stretch/>
        </p:blipFill>
        <p:spPr>
          <a:xfrm>
            <a:off x="2511360" y="500040"/>
            <a:ext cx="1206720" cy="102384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8"/>
          <p:cNvSpPr/>
          <p:nvPr/>
        </p:nvSpPr>
        <p:spPr>
          <a:xfrm>
            <a:off x="370836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496584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622296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/breeds and best management/husbandry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85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86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87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97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2"/>
          <p:cNvSpPr/>
          <p:nvPr/>
        </p:nvSpPr>
        <p:spPr>
          <a:xfrm>
            <a:off x="6248520" y="533520"/>
            <a:ext cx="107604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 &amp; Fi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76200" y="228600"/>
            <a:ext cx="8615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71640" y="1176480"/>
            <a:ext cx="7200720" cy="4505040"/>
          </a:xfrm>
          <a:prstGeom prst="rect">
            <a:avLst/>
          </a:prstGeom>
          <a:ln w="0">
            <a:noFill/>
          </a:ln>
        </p:spPr>
      </p:pic>
      <p:sp>
        <p:nvSpPr>
          <p:cNvPr id="102" name="Title 3"/>
          <p:cNvSpPr/>
          <p:nvPr/>
        </p:nvSpPr>
        <p:spPr>
          <a:xfrm>
            <a:off x="457200" y="304920"/>
            <a:ext cx="82296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idtropics R4D Impact Mode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PBallantyne</cp:lastModifiedBy>
  <dcterms:modified xsi:type="dcterms:W3CDTF">2012-01-10T07:20:21Z</dcterms:modified>
  <cp:revision>76</cp:revision>
  <dc:subject/>
  <dc:title>Slide 1</dc:title>
</cp:coreProperties>
</file>