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CAF9-9583-4B7B-A7F9-565B9A89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6E93-3AB0-4F2E-BC69-28D7C930F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4C66-9CA9-4698-8887-D5167472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717D-C20A-4B8F-B4B9-04D75416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633-1A89-41D6-8E52-8308A564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FFC-FD44-4E08-B81D-FA165B25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B41-64CA-44A1-BDA1-3296DC68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99DD-B41A-4513-B3E8-7BE33572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F213-F7AC-4909-BF20-0A59F598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C308-ED1E-414D-B626-7F8B18BE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22FA-A68B-40DB-B2C1-861959D7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803-AF85-4E71-82FF-3C870378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6C307-3B44-4E4E-A013-EF9385C5B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6F26-837D-468B-A677-4B8AE9A5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B8C7-BB96-4FA9-97ED-266C02F6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7EAAB-3207-4FC3-87C8-BC3384B6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1B00C-375A-4C0A-852A-AB7B1457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F419-23A1-41C5-AAC8-94BC5986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57F5-D849-457B-B933-7DAFDBE6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941A-93F0-4D50-AAF7-662086AA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5DDF-F2CA-4C19-A401-89C536C1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75D1-A67C-4681-98BF-B7A51C6BE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D8DA3-4F75-4C33-82B3-D3D476ED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17D59-F895-4DB9-A921-F5968104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9D574-CD90-44B3-89AD-6B3569109DB2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5E50-10DB-40BE-9268-4D9A412170D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4"/>
          <p:cNvSpPr/>
          <p:nvPr/>
        </p:nvSpPr>
        <p:spPr>
          <a:xfrm>
            <a:off x="328680" y="333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me 2: Timelines for revision and submission of manu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1280" y="907920"/>
          <a:ext cx="8893440" cy="5722920"/>
        </p:xfrm>
        <a:graphic>
          <a:graphicData uri="http://schemas.openxmlformats.org/drawingml/2006/table">
            <a:tbl>
              <a:tblPr/>
              <a:tblGrid>
                <a:gridCol w="3170520"/>
                <a:gridCol w="1353960"/>
                <a:gridCol w="1373400"/>
                <a:gridCol w="1498320"/>
                <a:gridCol w="1497240"/>
              </a:tblGrid>
              <a:tr h="64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script tit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uth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letion of rev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bmission of manu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rget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rralling, plant density and N fertilizer rate effect on soil, weed and grain y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vestock corralling density effect on soil quality inde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ude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eode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growth type effects on productivity  and profitability of hybri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aru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1/12/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mproved rice variety response to nitrogen rate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li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t. J of Agric. &amp; Bi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Gh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vity of maize-vegetable intercrops in Northern 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ean-Bapt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/01/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xp. Agri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LTIT2</cp:lastModifiedBy>
  <cp:lastPrinted>2015-09-01T11:16:39Z</cp:lastPrinted>
  <dcterms:modified xsi:type="dcterms:W3CDTF">2016-12-13T15:46:07Z</dcterms:modified>
  <cp:revision>998</cp:revision>
  <dc:subject/>
  <dc:title>Diapositiva 1</dc:title>
</cp:coreProperties>
</file>