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8.jpeg" ContentType="image/jpeg"/>
  <Override PartName="/ppt/media/image5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13.png" ContentType="image/png"/>
  <Override PartName="/ppt/media/image23.wmf" ContentType="image/x-wmf"/>
  <Override PartName="/ppt/media/image22.jpeg" ContentType="image/jpeg"/>
  <Override PartName="/ppt/media/image17.jpeg" ContentType="image/jpeg"/>
  <Override PartName="/ppt/media/image14.png" ContentType="image/png"/>
  <Override PartName="/ppt/media/image21.png" ContentType="image/png"/>
  <Override PartName="/ppt/media/image16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jpeg" ContentType="image/jpeg"/>
  <Override PartName="/ppt/media/image10.png" ContentType="image/pn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1880" y="123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1880" y="160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1880" y="396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1880" y="123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188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892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188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892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1880" y="123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1880" y="160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4320" y="160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6760" y="160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1880" y="396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4320" y="396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6760" y="396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1880" y="123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6188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1880" y="123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188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1880" y="123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188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92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1880" y="123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61880" y="1234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1880" y="123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188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892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188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1880" y="123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188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1880" y="123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188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892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892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1880" y="123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188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892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1880" y="396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1880" y="123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1880" y="160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1880" y="396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1880" y="123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188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892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188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892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1880" y="123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1880" y="160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44320" y="160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6760" y="160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1880" y="396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44320" y="396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6760" y="396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1880" y="123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188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1880" y="123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188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892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1880" y="123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1880" y="1234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1880" y="123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188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92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188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1880" y="123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1880" y="160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92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8920" y="396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1880" y="123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188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8920" y="160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1880" y="396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"/>
          <p:cNvSpPr/>
          <p:nvPr/>
        </p:nvSpPr>
        <p:spPr>
          <a:xfrm>
            <a:off x="1149480" y="6726240"/>
            <a:ext cx="1144440" cy="144360"/>
          </a:xfrm>
          <a:prstGeom prst="rect">
            <a:avLst/>
          </a:prstGeom>
          <a:solidFill>
            <a:srgbClr val="437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03f"/>
              </a:solidFill>
              <a:latin typeface="Arial"/>
            </a:endParaRPr>
          </a:p>
        </p:txBody>
      </p:sp>
      <p:sp>
        <p:nvSpPr>
          <p:cNvPr id="1" name="Rectangle 4"/>
          <p:cNvSpPr/>
          <p:nvPr/>
        </p:nvSpPr>
        <p:spPr>
          <a:xfrm>
            <a:off x="4680" y="6726240"/>
            <a:ext cx="1144800" cy="144360"/>
          </a:xfrm>
          <a:prstGeom prst="rect">
            <a:avLst/>
          </a:prstGeom>
          <a:solidFill>
            <a:srgbClr val="437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03f"/>
              </a:solidFill>
              <a:latin typeface="Arial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5715000" y="6726240"/>
            <a:ext cx="1144440" cy="144360"/>
          </a:xfrm>
          <a:prstGeom prst="rect">
            <a:avLst/>
          </a:prstGeom>
          <a:solidFill>
            <a:srgbClr val="437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03f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4583160" y="6726240"/>
            <a:ext cx="1144440" cy="144360"/>
          </a:xfrm>
          <a:prstGeom prst="rect">
            <a:avLst/>
          </a:prstGeom>
          <a:solidFill>
            <a:srgbClr val="437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03f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3438360" y="6726240"/>
            <a:ext cx="1144800" cy="144360"/>
          </a:xfrm>
          <a:prstGeom prst="rect">
            <a:avLst/>
          </a:prstGeom>
          <a:solidFill>
            <a:srgbClr val="437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03f"/>
              </a:solidFill>
              <a:latin typeface="Arial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2293920" y="6726240"/>
            <a:ext cx="1144440" cy="144360"/>
          </a:xfrm>
          <a:prstGeom prst="rect">
            <a:avLst/>
          </a:prstGeom>
          <a:solidFill>
            <a:srgbClr val="437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03f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1880" y="123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6188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7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99ac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450720" y="1009800"/>
            <a:ext cx="8242560" cy="88920"/>
          </a:xfrm>
          <a:prstGeom prst="rect">
            <a:avLst/>
          </a:prstGeom>
          <a:gradFill rotWithShape="0">
            <a:gsLst>
              <a:gs pos="0">
                <a:srgbClr val="7fb99b"/>
              </a:gs>
              <a:gs pos="50000">
                <a:srgbClr val="437b5e"/>
              </a:gs>
              <a:gs pos="100000">
                <a:srgbClr val="7fb99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03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3"/>
          <p:cNvSpPr/>
          <p:nvPr/>
        </p:nvSpPr>
        <p:spPr>
          <a:xfrm>
            <a:off x="1149480" y="6726240"/>
            <a:ext cx="1144440" cy="144360"/>
          </a:xfrm>
          <a:prstGeom prst="rect">
            <a:avLst/>
          </a:prstGeom>
          <a:solidFill>
            <a:srgbClr val="437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03f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4680" y="6726240"/>
            <a:ext cx="1144800" cy="144360"/>
          </a:xfrm>
          <a:prstGeom prst="rect">
            <a:avLst/>
          </a:prstGeom>
          <a:solidFill>
            <a:srgbClr val="437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03f"/>
              </a:solidFill>
              <a:latin typeface="Arial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5715000" y="6726240"/>
            <a:ext cx="1144440" cy="144360"/>
          </a:xfrm>
          <a:prstGeom prst="rect">
            <a:avLst/>
          </a:prstGeom>
          <a:solidFill>
            <a:srgbClr val="437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03f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4583160" y="6726240"/>
            <a:ext cx="1144440" cy="144360"/>
          </a:xfrm>
          <a:prstGeom prst="rect">
            <a:avLst/>
          </a:prstGeom>
          <a:solidFill>
            <a:srgbClr val="437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03f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3438360" y="6726240"/>
            <a:ext cx="1144800" cy="144360"/>
          </a:xfrm>
          <a:prstGeom prst="rect">
            <a:avLst/>
          </a:prstGeom>
          <a:solidFill>
            <a:srgbClr val="437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03f"/>
              </a:solidFill>
              <a:latin typeface="Arial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2293920" y="6726240"/>
            <a:ext cx="1144440" cy="144360"/>
          </a:xfrm>
          <a:prstGeom prst="rect">
            <a:avLst/>
          </a:prstGeom>
          <a:solidFill>
            <a:srgbClr val="437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03f"/>
              </a:solidFill>
              <a:latin typeface="Arial"/>
            </a:endParaRPr>
          </a:p>
        </p:txBody>
      </p:sp>
      <p:sp>
        <p:nvSpPr>
          <p:cNvPr id="51" name="Rectangle 13"/>
          <p:cNvSpPr/>
          <p:nvPr/>
        </p:nvSpPr>
        <p:spPr>
          <a:xfrm>
            <a:off x="450720" y="1009800"/>
            <a:ext cx="8242560" cy="88920"/>
          </a:xfrm>
          <a:prstGeom prst="rect">
            <a:avLst/>
          </a:prstGeom>
          <a:gradFill rotWithShape="0">
            <a:gsLst>
              <a:gs pos="0">
                <a:srgbClr val="7fb99b"/>
              </a:gs>
              <a:gs pos="50000">
                <a:srgbClr val="437b5e"/>
              </a:gs>
              <a:gs pos="100000">
                <a:srgbClr val="7fb99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03f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7999560" y="0"/>
            <a:ext cx="1144440" cy="3424320"/>
          </a:xfrm>
          <a:prstGeom prst="rect">
            <a:avLst/>
          </a:prstGeom>
          <a:solidFill>
            <a:srgbClr val="437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03f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7999560" y="4568760"/>
            <a:ext cx="1144440" cy="2289240"/>
          </a:xfrm>
          <a:prstGeom prst="rect">
            <a:avLst/>
          </a:prstGeom>
          <a:solidFill>
            <a:srgbClr val="437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03f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7999560" y="3424320"/>
            <a:ext cx="1144440" cy="1144440"/>
          </a:xfrm>
          <a:prstGeom prst="rect">
            <a:avLst/>
          </a:prstGeom>
          <a:solidFill>
            <a:srgbClr val="437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03f"/>
              </a:solidFill>
              <a:latin typeface="Arial"/>
            </a:endParaRPr>
          </a:p>
        </p:txBody>
      </p:sp>
      <p:sp>
        <p:nvSpPr>
          <p:cNvPr id="55" name="Rectangle 10"/>
          <p:cNvSpPr/>
          <p:nvPr/>
        </p:nvSpPr>
        <p:spPr>
          <a:xfrm>
            <a:off x="1144440" y="5684760"/>
            <a:ext cx="1144800" cy="144720"/>
          </a:xfrm>
          <a:prstGeom prst="rect">
            <a:avLst/>
          </a:prstGeom>
          <a:solidFill>
            <a:srgbClr val="437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03f"/>
              </a:solidFill>
              <a:latin typeface="Arial"/>
            </a:endParaRPr>
          </a:p>
        </p:txBody>
      </p:sp>
      <p:sp>
        <p:nvSpPr>
          <p:cNvPr id="56" name="Rectangle 11"/>
          <p:cNvSpPr/>
          <p:nvPr/>
        </p:nvSpPr>
        <p:spPr>
          <a:xfrm>
            <a:off x="0" y="5684760"/>
            <a:ext cx="1144440" cy="144720"/>
          </a:xfrm>
          <a:prstGeom prst="rect">
            <a:avLst/>
          </a:prstGeom>
          <a:solidFill>
            <a:srgbClr val="437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03f"/>
              </a:solidFill>
              <a:latin typeface="Arial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5710320" y="5684760"/>
            <a:ext cx="1144440" cy="144720"/>
          </a:xfrm>
          <a:prstGeom prst="rect">
            <a:avLst/>
          </a:prstGeom>
          <a:solidFill>
            <a:srgbClr val="437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03f"/>
              </a:solidFill>
              <a:latin typeface="Arial"/>
            </a:endParaRPr>
          </a:p>
        </p:txBody>
      </p:sp>
      <p:sp>
        <p:nvSpPr>
          <p:cNvPr id="58" name="Rectangle 13"/>
          <p:cNvSpPr/>
          <p:nvPr/>
        </p:nvSpPr>
        <p:spPr>
          <a:xfrm>
            <a:off x="4578480" y="5684760"/>
            <a:ext cx="1144440" cy="144720"/>
          </a:xfrm>
          <a:prstGeom prst="rect">
            <a:avLst/>
          </a:prstGeom>
          <a:solidFill>
            <a:srgbClr val="437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03f"/>
              </a:solidFill>
              <a:latin typeface="Arial"/>
            </a:endParaRPr>
          </a:p>
        </p:txBody>
      </p:sp>
      <p:sp>
        <p:nvSpPr>
          <p:cNvPr id="59" name="Rectangle 14"/>
          <p:cNvSpPr/>
          <p:nvPr/>
        </p:nvSpPr>
        <p:spPr>
          <a:xfrm>
            <a:off x="3433680" y="5684760"/>
            <a:ext cx="1144800" cy="144720"/>
          </a:xfrm>
          <a:prstGeom prst="rect">
            <a:avLst/>
          </a:prstGeom>
          <a:solidFill>
            <a:srgbClr val="437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03f"/>
              </a:solidFill>
              <a:latin typeface="Arial"/>
            </a:endParaRPr>
          </a:p>
        </p:txBody>
      </p:sp>
      <p:sp>
        <p:nvSpPr>
          <p:cNvPr id="60" name="Rectangle 15"/>
          <p:cNvSpPr/>
          <p:nvPr/>
        </p:nvSpPr>
        <p:spPr>
          <a:xfrm>
            <a:off x="2289240" y="5684760"/>
            <a:ext cx="1144440" cy="144720"/>
          </a:xfrm>
          <a:prstGeom prst="rect">
            <a:avLst/>
          </a:prstGeom>
          <a:solidFill>
            <a:srgbClr val="437b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03f"/>
              </a:solidFill>
              <a:latin typeface="Arial"/>
            </a:endParaRPr>
          </a:p>
        </p:txBody>
      </p:sp>
      <p:pic>
        <p:nvPicPr>
          <p:cNvPr id="61" name="Picture 17" descr="AAC_couleur_eng"/>
          <p:cNvPicPr/>
          <p:nvPr/>
        </p:nvPicPr>
        <p:blipFill>
          <a:blip r:embed="rId2"/>
          <a:stretch/>
        </p:blipFill>
        <p:spPr>
          <a:xfrm>
            <a:off x="322200" y="6151680"/>
            <a:ext cx="3460680" cy="272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ua"/>
          <p:cNvPicPr/>
          <p:nvPr/>
        </p:nvPicPr>
        <p:blipFill>
          <a:blip r:embed="rId3"/>
          <a:stretch/>
        </p:blipFill>
        <p:spPr>
          <a:xfrm>
            <a:off x="5376960" y="5996160"/>
            <a:ext cx="2452680" cy="5839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1880" y="123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6188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7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99ac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hyperlink" Target="http://www.google.ca/url?sa=i&amp;rct=j&amp;q=&amp;esrc=s&amp;source=images&amp;cd=&amp;cad=rja&amp;uact=8&amp;ved=0ahUKEwjK1KT-rqfNAhUK2BoKHX8LCncQjRwIBw&amp;url=http%3A%2F%2Fflickrhivemind.net%2FTags%2Fafrica%2Ccassava%2FInteresting&amp;bvm=bv.124272578,d.d2s&amp;psig=AFQjCNH9jexaR8OXcMKueleI3RnFOw-Mtg&amp;ust=1465988454224152" TargetMode="External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274680" y="5902200"/>
            <a:ext cx="3672000" cy="760680"/>
            <a:chOff x="274680" y="5902200"/>
            <a:chExt cx="3672000" cy="760680"/>
          </a:xfrm>
        </p:grpSpPr>
        <p:pic>
          <p:nvPicPr>
            <p:cNvPr id="102" name="Picture 13" descr="https://encrypted-tbn2.gstatic.com/images?q=tbn:ANd9GcSUkHTlHNUTLADC-4E2yuHXUsAM_uQDjBaBXamMU-gTpmQ_ahXz"/>
            <p:cNvPicPr/>
            <p:nvPr/>
          </p:nvPicPr>
          <p:blipFill>
            <a:blip r:embed="rId2"/>
            <a:stretch/>
          </p:blipFill>
          <p:spPr>
            <a:xfrm>
              <a:off x="274680" y="5902200"/>
              <a:ext cx="838080" cy="76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Rectangle 2"/>
            <p:cNvSpPr/>
            <p:nvPr/>
          </p:nvSpPr>
          <p:spPr>
            <a:xfrm>
              <a:off x="1128600" y="5980680"/>
              <a:ext cx="2818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600" spc="-1" strike="noStrike">
                  <a:solidFill>
                    <a:srgbClr val="262626"/>
                  </a:solidFill>
                  <a:latin typeface="Bookman Old Style"/>
                </a:rPr>
                <a:t>University for Development Studies</a:t>
              </a:r>
              <a:endParaRPr b="0" lang="en-US" sz="1600" spc="-1" strike="noStrike">
                <a:solidFill>
                  <a:srgbClr val="00603f"/>
                </a:solidFill>
                <a:latin typeface="Arial"/>
              </a:endParaRPr>
            </a:p>
          </p:txBody>
        </p:sp>
      </p:grpSp>
      <p:sp>
        <p:nvSpPr>
          <p:cNvPr id="104" name="Rectangle 41"/>
          <p:cNvSpPr/>
          <p:nvPr/>
        </p:nvSpPr>
        <p:spPr>
          <a:xfrm>
            <a:off x="274680" y="1411560"/>
            <a:ext cx="7680240" cy="31413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ell MT"/>
                <a:ea typeface="Arial"/>
              </a:rPr>
              <a:t>Effects of ensiling cassava peels on some fermentation characteristics and on growth performance of sheep on-farm</a:t>
            </a:r>
            <a:endParaRPr b="0" lang="en-US" sz="4000" spc="-1" strike="noStrike">
              <a:solidFill>
                <a:srgbClr val="00603f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274680" y="5159520"/>
            <a:ext cx="780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603f"/>
                </a:solidFill>
                <a:latin typeface="Arial"/>
                <a:ea typeface="Arial"/>
              </a:rPr>
              <a:t>Addah, W., Niayale, R. and Ayantunde, A. A.</a:t>
            </a:r>
            <a:endParaRPr b="0" lang="en-US" sz="2800" spc="-1" strike="noStrike">
              <a:solidFill>
                <a:srgbClr val="00603f"/>
              </a:solidFill>
              <a:latin typeface="Arial"/>
            </a:endParaRPr>
          </a:p>
        </p:txBody>
      </p:sp>
      <p:pic>
        <p:nvPicPr>
          <p:cNvPr id="106" name="Picture 12" descr=""/>
          <p:cNvPicPr/>
          <p:nvPr/>
        </p:nvPicPr>
        <p:blipFill>
          <a:blip r:embed="rId3"/>
          <a:stretch/>
        </p:blipFill>
        <p:spPr>
          <a:xfrm>
            <a:off x="4145040" y="5864400"/>
            <a:ext cx="4827600" cy="779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Image result for cassava peels in Ghana"/>
          <p:cNvPicPr/>
          <p:nvPr/>
        </p:nvPicPr>
        <p:blipFill>
          <a:blip r:embed="rId4"/>
          <a:stretch/>
        </p:blipFill>
        <p:spPr>
          <a:xfrm>
            <a:off x="631800" y="133200"/>
            <a:ext cx="1619280" cy="809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http://farm6.static.flickr.com/5332/16985016787_2aaed1f6fa_m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773680" y="133200"/>
            <a:ext cx="1685880" cy="809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https://landportal.info/sites/landportal.info/files/8095235618_eacd755913_z.jpg"/>
          <p:cNvPicPr/>
          <p:nvPr/>
        </p:nvPicPr>
        <p:blipFill>
          <a:blip r:embed="rId7"/>
          <a:stretch/>
        </p:blipFill>
        <p:spPr>
          <a:xfrm>
            <a:off x="2398680" y="123840"/>
            <a:ext cx="1638360" cy="819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2" descr=""/>
          <p:cNvPicPr/>
          <p:nvPr/>
        </p:nvPicPr>
        <p:blipFill>
          <a:blip r:embed="rId8"/>
          <a:stretch/>
        </p:blipFill>
        <p:spPr>
          <a:xfrm>
            <a:off x="4213080" y="123840"/>
            <a:ext cx="1409760" cy="81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1880" y="123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800000"/>
                </a:solidFill>
                <a:latin typeface="Arial"/>
              </a:rPr>
              <a:t>Conclusion &amp; recommendations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6188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7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ermentation indices were favour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7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7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heep that received the ensiled diet had greater AD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7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7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Studies to determine the effect of ensiling on HCN concentration is warra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54080" y="5686560"/>
            <a:ext cx="87422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63240" y="514440"/>
            <a:ext cx="4429080" cy="63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6600"/>
                </a:solidFill>
                <a:latin typeface="Arial"/>
              </a:rPr>
              <a:t>Discussions?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71" name="Object 3"/>
          <p:cNvGraphicFramePr/>
          <p:nvPr/>
        </p:nvGraphicFramePr>
        <p:xfrm>
          <a:off x="2476440" y="546120"/>
          <a:ext cx="3676680" cy="526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6440" y="546120"/>
                    <a:ext cx="3676680" cy="526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3" name="Picture 3" descr=""/>
          <p:cNvPicPr/>
          <p:nvPr/>
        </p:nvPicPr>
        <p:blipFill>
          <a:blip r:embed="rId3"/>
          <a:stretch/>
        </p:blipFill>
        <p:spPr>
          <a:xfrm>
            <a:off x="210960" y="5867280"/>
            <a:ext cx="8742600" cy="9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515880" y="1344600"/>
          <a:ext cx="7912080" cy="4557600"/>
        </p:xfrm>
        <a:graphic>
          <a:graphicData uri="http://schemas.openxmlformats.org/drawingml/2006/table">
            <a:tbl>
              <a:tblPr/>
              <a:tblGrid>
                <a:gridCol w="93600"/>
                <a:gridCol w="3140280"/>
                <a:gridCol w="2727360"/>
                <a:gridCol w="1950840"/>
              </a:tblGrid>
              <a:tr h="701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ble 2: Sensory characteristics of cassava peel silage after 45 d of ensiling in large bag silos.</a:t>
                      </a:r>
                      <a:endParaRPr b="0" lang="en-US" sz="20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em</a:t>
                      </a:r>
                      <a:endParaRPr b="0" lang="en-US" sz="20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cription </a:t>
                      </a:r>
                      <a:endParaRPr b="0" lang="en-US" sz="20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core</a:t>
                      </a:r>
                      <a:r>
                        <a:rPr b="0" lang="en-CA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1000">
                <a:tc gridSpan="2"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lour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1-15)</a:t>
                      </a:r>
                      <a:endParaRPr b="0" lang="en-US" sz="20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ght brown</a:t>
                      </a:r>
                      <a:endParaRPr b="0" lang="en-US" sz="20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2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±</a:t>
                      </a: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4</a:t>
                      </a:r>
                      <a:endParaRPr b="0" lang="en-US" sz="20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1000">
                <a:tc gridSpan="2"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mell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1-15)</a:t>
                      </a:r>
                      <a:endParaRPr b="0" lang="en-US" sz="20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y pleasant</a:t>
                      </a:r>
                      <a:endParaRPr b="0" lang="en-US" sz="20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5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±</a:t>
                      </a: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6</a:t>
                      </a:r>
                      <a:endParaRPr b="0" lang="en-US" sz="20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1000">
                <a:tc gridSpan="2"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xture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(1-10)</a:t>
                      </a:r>
                      <a:endParaRPr b="0" lang="en-US" sz="20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rm</a:t>
                      </a:r>
                      <a:endParaRPr b="0" lang="en-US" sz="20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0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±</a:t>
                      </a: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0</a:t>
                      </a:r>
                      <a:endParaRPr b="0" lang="en-US" sz="20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1000">
                <a:tc gridSpan="2"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de</a:t>
                      </a:r>
                      <a:endParaRPr b="0" lang="en-US" sz="20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ood</a:t>
                      </a:r>
                      <a:endParaRPr b="0" lang="en-US" sz="20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.7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±</a:t>
                      </a: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72 </a:t>
                      </a:r>
                      <a:endParaRPr b="0" lang="en-US" sz="20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1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</a:t>
                      </a:r>
                      <a:endParaRPr b="0" lang="en-US" sz="20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ower</a:t>
                      </a:r>
                      <a:endParaRPr b="0" lang="en-US" sz="20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2+0.03</a:t>
                      </a:r>
                      <a:endParaRPr b="0" lang="en-US" sz="20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Values are means of three large silos (n = 3)</a:t>
                      </a:r>
                      <a:endParaRPr b="0" lang="en-US" sz="20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he silages were graded by summing the scores for colour (1-15), texture (1-10) and smell (1-15) as excellent grade (40-31), good grade (30-21), general grade (20-11) and low-grade (≥10). (Jian et al., 2015; Jianxin, 2002).</a:t>
                      </a:r>
                      <a:endParaRPr b="0" lang="en-US" sz="20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5" name="Rectangle 1"/>
          <p:cNvSpPr/>
          <p:nvPr/>
        </p:nvSpPr>
        <p:spPr>
          <a:xfrm>
            <a:off x="1887480" y="26067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0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-195120" y="0"/>
            <a:ext cx="9339120" cy="7848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561840" y="1136520"/>
            <a:ext cx="5048280" cy="578160"/>
          </a:xfrm>
          <a:prstGeom prst="rect">
            <a:avLst/>
          </a:prstGeom>
          <a:noFill/>
          <a:ln w="34920">
            <a:solidFill>
              <a:srgbClr val="9c9cdf">
                <a:alpha val="59000"/>
              </a:srgbClr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Outline of this presentation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611520" y="2225520"/>
            <a:ext cx="5151600" cy="24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447840" indent="-447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80"/>
                </a:solidFill>
                <a:latin typeface="Arial"/>
              </a:rPr>
              <a:t>Slide 1:</a:t>
            </a:r>
            <a:r>
              <a:rPr b="0" lang="en-GB" sz="24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roduction &amp; obj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447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80"/>
                </a:solidFill>
                <a:latin typeface="Arial"/>
              </a:rPr>
              <a:t>Slide 2:</a:t>
            </a:r>
            <a:r>
              <a:rPr b="0" lang="en-GB" sz="24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earch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447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80"/>
                </a:solidFill>
                <a:latin typeface="Arial"/>
              </a:rPr>
              <a:t>Slide 3-4:</a:t>
            </a:r>
            <a:r>
              <a:rPr b="0" lang="en-GB" sz="24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in results &amp; discu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447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80"/>
                </a:solidFill>
                <a:latin typeface="Arial"/>
              </a:rPr>
              <a:t>Slide 5:</a:t>
            </a:r>
            <a:r>
              <a:rPr b="0" lang="en-GB" sz="24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clusio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67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0" y="-144360"/>
            <a:ext cx="317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03f"/>
              </a:solidFill>
              <a:latin typeface="Arial"/>
            </a:endParaRPr>
          </a:p>
        </p:txBody>
      </p:sp>
      <p:pic>
        <p:nvPicPr>
          <p:cNvPr id="115" name="Picture 6" descr=""/>
          <p:cNvPicPr/>
          <p:nvPr/>
        </p:nvPicPr>
        <p:blipFill>
          <a:blip r:embed="rId2"/>
          <a:stretch/>
        </p:blipFill>
        <p:spPr>
          <a:xfrm>
            <a:off x="152280" y="76320"/>
            <a:ext cx="874260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41360" y="-360"/>
            <a:ext cx="8702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ortance of conserving crop residues to  ruminant production in Ghana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7" name="Line 4"/>
          <p:cNvSpPr/>
          <p:nvPr/>
        </p:nvSpPr>
        <p:spPr>
          <a:xfrm>
            <a:off x="990720" y="1676520"/>
            <a:ext cx="0" cy="426708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500" spc="-1" strike="noStrike">
              <a:solidFill>
                <a:srgbClr val="00603f"/>
              </a:solidFill>
              <a:latin typeface="Arial"/>
            </a:endParaRPr>
          </a:p>
        </p:txBody>
      </p:sp>
      <p:sp>
        <p:nvSpPr>
          <p:cNvPr id="118" name="Line 5"/>
          <p:cNvSpPr/>
          <p:nvPr/>
        </p:nvSpPr>
        <p:spPr>
          <a:xfrm>
            <a:off x="990720" y="5943600"/>
            <a:ext cx="7848360" cy="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500" spc="-1" strike="noStrike">
              <a:solidFill>
                <a:srgbClr val="00603f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3657600" y="6095880"/>
            <a:ext cx="518148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y season</a:t>
            </a:r>
            <a:endParaRPr b="0" lang="en-US" sz="2800" spc="-1" strike="noStrike">
              <a:solidFill>
                <a:srgbClr val="00603f"/>
              </a:solidFill>
              <a:latin typeface="Arial"/>
            </a:endParaRPr>
          </a:p>
        </p:txBody>
      </p:sp>
      <p:sp>
        <p:nvSpPr>
          <p:cNvPr id="120" name="Freeform 7"/>
          <p:cNvSpPr/>
          <p:nvPr/>
        </p:nvSpPr>
        <p:spPr>
          <a:xfrm>
            <a:off x="1066680" y="2070000"/>
            <a:ext cx="7620120" cy="3721320"/>
          </a:xfrm>
          <a:custGeom>
            <a:avLst/>
            <a:gdLst>
              <a:gd name="textAreaLeft" fmla="*/ 0 w 7620120"/>
              <a:gd name="textAreaRight" fmla="*/ 7620480 w 7620120"/>
              <a:gd name="textAreaTop" fmla="*/ 0 h 3721320"/>
              <a:gd name="textAreaBottom" fmla="*/ 3721680 h 3721320"/>
            </a:gdLst>
            <a:ahLst/>
            <a:rect l="textAreaLeft" t="textAreaTop" r="textAreaRight" b="textAreaBottom"/>
            <a:pathLst>
              <a:path w="5040" h="2056">
                <a:moveTo>
                  <a:pt x="0" y="1440"/>
                </a:moveTo>
                <a:cubicBezTo>
                  <a:pt x="336" y="768"/>
                  <a:pt x="672" y="96"/>
                  <a:pt x="1056" y="48"/>
                </a:cubicBezTo>
                <a:cubicBezTo>
                  <a:pt x="1440" y="0"/>
                  <a:pt x="1968" y="1000"/>
                  <a:pt x="2304" y="1152"/>
                </a:cubicBezTo>
                <a:cubicBezTo>
                  <a:pt x="2640" y="1304"/>
                  <a:pt x="2888" y="976"/>
                  <a:pt x="3072" y="960"/>
                </a:cubicBezTo>
                <a:cubicBezTo>
                  <a:pt x="3256" y="944"/>
                  <a:pt x="3136" y="896"/>
                  <a:pt x="3408" y="1056"/>
                </a:cubicBezTo>
                <a:cubicBezTo>
                  <a:pt x="3680" y="1216"/>
                  <a:pt x="4432" y="1784"/>
                  <a:pt x="4704" y="1920"/>
                </a:cubicBezTo>
                <a:cubicBezTo>
                  <a:pt x="4976" y="2056"/>
                  <a:pt x="5008" y="1964"/>
                  <a:pt x="5040" y="1872"/>
                </a:cubicBezTo>
              </a:path>
            </a:pathLst>
          </a:custGeom>
          <a:noFill/>
          <a:ln w="7632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500" spc="-1" strike="noStrike">
              <a:solidFill>
                <a:srgbClr val="00603f"/>
              </a:solidFill>
              <a:latin typeface="Arial"/>
            </a:endParaRPr>
          </a:p>
        </p:txBody>
      </p:sp>
      <p:sp>
        <p:nvSpPr>
          <p:cNvPr id="121" name="Freeform 8"/>
          <p:cNvSpPr/>
          <p:nvPr/>
        </p:nvSpPr>
        <p:spPr>
          <a:xfrm>
            <a:off x="1143000" y="2514600"/>
            <a:ext cx="6477120" cy="2819520"/>
          </a:xfrm>
          <a:custGeom>
            <a:avLst/>
            <a:gdLst>
              <a:gd name="textAreaLeft" fmla="*/ 0 w 6477120"/>
              <a:gd name="textAreaRight" fmla="*/ 6477480 w 6477120"/>
              <a:gd name="textAreaTop" fmla="*/ 0 h 2819520"/>
              <a:gd name="textAreaBottom" fmla="*/ 2819880 h 2819520"/>
            </a:gdLst>
            <a:ahLst/>
            <a:rect l="textAreaLeft" t="textAreaTop" r="textAreaRight" b="textAreaBottom"/>
            <a:pathLst>
              <a:path w="4752" h="2072">
                <a:moveTo>
                  <a:pt x="0" y="1352"/>
                </a:moveTo>
                <a:cubicBezTo>
                  <a:pt x="228" y="780"/>
                  <a:pt x="456" y="208"/>
                  <a:pt x="960" y="104"/>
                </a:cubicBezTo>
                <a:cubicBezTo>
                  <a:pt x="1464" y="0"/>
                  <a:pt x="2392" y="400"/>
                  <a:pt x="3024" y="728"/>
                </a:cubicBezTo>
                <a:cubicBezTo>
                  <a:pt x="3656" y="1056"/>
                  <a:pt x="4204" y="1564"/>
                  <a:pt x="4752" y="2072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500" spc="-1" strike="noStrike">
              <a:solidFill>
                <a:srgbClr val="00603f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4191120" y="1187280"/>
            <a:ext cx="4647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tural pasture/crop residues</a:t>
            </a:r>
            <a:endParaRPr b="0" lang="en-US" sz="2600" spc="-1" strike="noStrike">
              <a:solidFill>
                <a:srgbClr val="00603f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5257800" y="24382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ight gain</a:t>
            </a:r>
            <a:endParaRPr b="0" lang="en-US" sz="2800" spc="-1" strike="noStrike">
              <a:solidFill>
                <a:srgbClr val="00603f"/>
              </a:solidFill>
              <a:latin typeface="Arial"/>
            </a:endParaRPr>
          </a:p>
        </p:txBody>
      </p:sp>
      <p:sp>
        <p:nvSpPr>
          <p:cNvPr id="124" name="Line 11"/>
          <p:cNvSpPr/>
          <p:nvPr/>
        </p:nvSpPr>
        <p:spPr>
          <a:xfrm flipH="1">
            <a:off x="3124080" y="1676520"/>
            <a:ext cx="106704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500" spc="-1" strike="noStrike">
              <a:solidFill>
                <a:srgbClr val="00603f"/>
              </a:solidFill>
              <a:latin typeface="Arial"/>
            </a:endParaRPr>
          </a:p>
        </p:txBody>
      </p:sp>
      <p:sp>
        <p:nvSpPr>
          <p:cNvPr id="125" name="Line 12"/>
          <p:cNvSpPr/>
          <p:nvPr/>
        </p:nvSpPr>
        <p:spPr>
          <a:xfrm flipH="1">
            <a:off x="4190760" y="2743200"/>
            <a:ext cx="114300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500" spc="-1" strike="noStrike">
              <a:solidFill>
                <a:srgbClr val="00603f"/>
              </a:solidFill>
              <a:latin typeface="Arial"/>
            </a:endParaRPr>
          </a:p>
        </p:txBody>
      </p:sp>
      <p:sp>
        <p:nvSpPr>
          <p:cNvPr id="126" name="Text Box 14"/>
          <p:cNvSpPr/>
          <p:nvPr/>
        </p:nvSpPr>
        <p:spPr>
          <a:xfrm>
            <a:off x="1581120" y="4253040"/>
            <a:ext cx="243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  <a:ea typeface="ＭＳ Ｐゴシック"/>
              </a:rPr>
              <a:t>Conserved crop residues</a:t>
            </a:r>
            <a:endParaRPr b="0" lang="en-US" sz="2800" spc="-1" strike="noStrike">
              <a:solidFill>
                <a:srgbClr val="00603f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990720" y="6095880"/>
            <a:ext cx="2666880" cy="52056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in season</a:t>
            </a:r>
            <a:endParaRPr b="0" lang="en-US" sz="2800" spc="-1" strike="noStrike">
              <a:solidFill>
                <a:srgbClr val="00603f"/>
              </a:solidFill>
              <a:latin typeface="Arial"/>
            </a:endParaRPr>
          </a:p>
        </p:txBody>
      </p:sp>
      <p:sp>
        <p:nvSpPr>
          <p:cNvPr id="128" name="Moon 1"/>
          <p:cNvSpPr/>
          <p:nvPr/>
        </p:nvSpPr>
        <p:spPr>
          <a:xfrm rot="5175600">
            <a:off x="2416680" y="1894320"/>
            <a:ext cx="492120" cy="1204920"/>
          </a:xfrm>
          <a:custGeom>
            <a:avLst/>
            <a:gdLst>
              <a:gd name="textAreaLeft" fmla="*/ 243720 w 492120"/>
              <a:gd name="textAreaRight" fmla="*/ 323280 w 492120"/>
              <a:gd name="textAreaTop" fmla="*/ 82440 h 1204920"/>
              <a:gd name="textAreaBottom" fmla="*/ 1122480 h 12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7896" y="2546"/>
                  <a:pt x="14191" y="5080"/>
                  <a:pt x="14191" y="10800"/>
                </a:cubicBezTo>
                <a:cubicBezTo>
                  <a:pt x="14191" y="16520"/>
                  <a:pt x="17896" y="1905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03f"/>
              </a:solidFill>
              <a:latin typeface="Arial"/>
            </a:endParaRPr>
          </a:p>
        </p:txBody>
      </p:sp>
      <p:sp>
        <p:nvSpPr>
          <p:cNvPr id="129" name="Moon 18"/>
          <p:cNvSpPr/>
          <p:nvPr/>
        </p:nvSpPr>
        <p:spPr>
          <a:xfrm rot="18006000">
            <a:off x="4051080" y="2425320"/>
            <a:ext cx="882720" cy="233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03f"/>
              </a:solidFill>
              <a:latin typeface="Arial"/>
            </a:endParaRPr>
          </a:p>
        </p:txBody>
      </p:sp>
      <p:sp>
        <p:nvSpPr>
          <p:cNvPr id="130" name="Line 13"/>
          <p:cNvSpPr/>
          <p:nvPr/>
        </p:nvSpPr>
        <p:spPr>
          <a:xfrm>
            <a:off x="2666880" y="2438280"/>
            <a:ext cx="0" cy="1600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500" spc="-1" strike="noStrike">
              <a:solidFill>
                <a:srgbClr val="00603f"/>
              </a:solidFill>
              <a:latin typeface="Arial"/>
            </a:endParaRPr>
          </a:p>
        </p:txBody>
      </p:sp>
      <p:sp>
        <p:nvSpPr>
          <p:cNvPr id="131" name="Line 15"/>
          <p:cNvSpPr/>
          <p:nvPr/>
        </p:nvSpPr>
        <p:spPr>
          <a:xfrm flipV="1">
            <a:off x="3417840" y="3592440"/>
            <a:ext cx="773280" cy="72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500" spc="-1" strike="noStrike">
              <a:solidFill>
                <a:srgbClr val="0060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55680" y="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3300"/>
                </a:solidFill>
                <a:latin typeface="Arial"/>
              </a:rPr>
              <a:t>Conservation of cassava peels: </a:t>
            </a:r>
            <a:br>
              <a:rPr sz="2800"/>
            </a:br>
            <a:r>
              <a:rPr b="1" lang="en-CA" sz="2800" spc="-1" strike="noStrike">
                <a:solidFill>
                  <a:srgbClr val="003300"/>
                </a:solidFill>
                <a:latin typeface="Arial"/>
              </a:rPr>
              <a:t>drying or ensiling?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85480" y="1204560"/>
            <a:ext cx="602604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7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assava is grown everywhere in Ghana except some parts of UE and U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67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7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itterness (HCN ) of the peel reduces its palatability and int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67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7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ducing HCN concent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Sun-drying (86%) vs ensiling (96%) (Tewe, 1992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0067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7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uminal degradability of cassava peels (Asaolu, 1988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0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70%  (drying) vs 73% (ensil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67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6689880" y="1235160"/>
            <a:ext cx="21859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3" descr=""/>
          <p:cNvPicPr/>
          <p:nvPr/>
        </p:nvPicPr>
        <p:blipFill>
          <a:blip r:embed="rId1"/>
          <a:stretch/>
        </p:blipFill>
        <p:spPr>
          <a:xfrm>
            <a:off x="2476440" y="0"/>
            <a:ext cx="3346560" cy="22273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6334200" y="2227320"/>
            <a:ext cx="2476440" cy="1692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C:\Users\FS 029\Desktop\Silage-making\DR ADDAH\Dr. pix\20160401_111832.jpg"/>
          <p:cNvPicPr/>
          <p:nvPr/>
        </p:nvPicPr>
        <p:blipFill>
          <a:blip r:embed="rId3"/>
          <a:stretch/>
        </p:blipFill>
        <p:spPr>
          <a:xfrm>
            <a:off x="12600" y="4656240"/>
            <a:ext cx="2957760" cy="19954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C:\Users\FS 029\Desktop\Silage-making\DR ADDAH\Dr. pix\20160401_100450.jpg"/>
          <p:cNvPicPr/>
          <p:nvPr/>
        </p:nvPicPr>
        <p:blipFill>
          <a:blip r:embed="rId4"/>
          <a:stretch/>
        </p:blipFill>
        <p:spPr>
          <a:xfrm>
            <a:off x="6095880" y="4656240"/>
            <a:ext cx="3048120" cy="1995480"/>
          </a:xfrm>
          <a:prstGeom prst="rect">
            <a:avLst/>
          </a:prstGeom>
          <a:ln w="0">
            <a:noFill/>
          </a:ln>
        </p:spPr>
      </p:pic>
      <p:sp>
        <p:nvSpPr>
          <p:cNvPr id="139" name="Oval 8"/>
          <p:cNvSpPr/>
          <p:nvPr/>
        </p:nvSpPr>
        <p:spPr>
          <a:xfrm>
            <a:off x="2685960" y="2500200"/>
            <a:ext cx="3137040" cy="2156040"/>
          </a:xfrm>
          <a:prstGeom prst="ellipse">
            <a:avLst/>
          </a:prstGeom>
          <a:solidFill>
            <a:srgbClr val="00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Conservation of </a:t>
            </a:r>
            <a:endParaRPr b="0" lang="en-US" sz="2400" spc="-1" strike="noStrike">
              <a:solidFill>
                <a:srgbClr val="00603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  <a:ea typeface="Arial"/>
              </a:rPr>
              <a:t>cassava peels</a:t>
            </a:r>
            <a:endParaRPr b="0" lang="en-US" sz="2400" spc="-1" strike="noStrike">
              <a:solidFill>
                <a:srgbClr val="00603f"/>
              </a:solidFill>
              <a:latin typeface="Arial"/>
            </a:endParaRPr>
          </a:p>
        </p:txBody>
      </p:sp>
      <p:grpSp>
        <p:nvGrpSpPr>
          <p:cNvPr id="140" name="Group 21531"/>
          <p:cNvGrpSpPr/>
          <p:nvPr/>
        </p:nvGrpSpPr>
        <p:grpSpPr>
          <a:xfrm>
            <a:off x="444600" y="1650600"/>
            <a:ext cx="1898640" cy="2807280"/>
            <a:chOff x="444600" y="1650600"/>
            <a:chExt cx="1898640" cy="2807280"/>
          </a:xfrm>
        </p:grpSpPr>
        <p:cxnSp>
          <p:nvCxnSpPr>
            <p:cNvPr id="141" name="Straight Arrow Connector 4"/>
            <p:cNvCxnSpPr/>
            <p:nvPr/>
          </p:nvCxnSpPr>
          <p:spPr>
            <a:xfrm rot="5400000">
              <a:off x="205920" y="2320920"/>
              <a:ext cx="2807640" cy="1467360"/>
            </a:xfrm>
            <a:prstGeom prst="curvedConnector5">
              <a:avLst>
                <a:gd name="adj1" fmla="val 9258"/>
                <a:gd name="adj2" fmla="val 49987"/>
                <a:gd name="adj3" fmla="val 9258"/>
              </a:avLst>
            </a:prstGeom>
            <a:ln w="82440">
              <a:solidFill>
                <a:srgbClr val="003300"/>
              </a:solidFill>
              <a:miter/>
              <a:tailEnd len="med" type="triangle" w="med"/>
            </a:ln>
          </p:spPr>
        </p:cxnSp>
        <p:sp>
          <p:nvSpPr>
            <p:cNvPr id="142" name="Rectangle 21530"/>
            <p:cNvSpPr/>
            <p:nvPr/>
          </p:nvSpPr>
          <p:spPr>
            <a:xfrm rot="16932000">
              <a:off x="-35640" y="2629080"/>
              <a:ext cx="17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400" spc="-1" strike="noStrike">
                  <a:solidFill>
                    <a:srgbClr val="003300"/>
                  </a:solidFill>
                  <a:latin typeface="Arial"/>
                  <a:ea typeface="Arial"/>
                </a:rPr>
                <a:t>Sun-drying</a:t>
              </a:r>
              <a:endParaRPr b="0" lang="en-US" sz="2400" spc="-1" strike="noStrike">
                <a:solidFill>
                  <a:srgbClr val="00603f"/>
                </a:solidFill>
                <a:latin typeface="Arial"/>
              </a:endParaRPr>
            </a:p>
          </p:txBody>
        </p:sp>
      </p:grpSp>
      <p:grpSp>
        <p:nvGrpSpPr>
          <p:cNvPr id="143" name="Group 21533"/>
          <p:cNvGrpSpPr/>
          <p:nvPr/>
        </p:nvGrpSpPr>
        <p:grpSpPr>
          <a:xfrm>
            <a:off x="5982480" y="771120"/>
            <a:ext cx="2245320" cy="1416960"/>
            <a:chOff x="5982480" y="771120"/>
            <a:chExt cx="2245320" cy="1416960"/>
          </a:xfrm>
        </p:grpSpPr>
        <p:cxnSp>
          <p:nvCxnSpPr>
            <p:cNvPr id="144" name="Straight Arrow Connector 4"/>
            <p:cNvCxnSpPr/>
            <p:nvPr/>
          </p:nvCxnSpPr>
          <p:spPr>
            <a:xfrm flipH="1" rot="16200000">
              <a:off x="5837040" y="988560"/>
              <a:ext cx="1344960" cy="1054080"/>
            </a:xfrm>
            <a:prstGeom prst="curvedConnector4">
              <a:avLst>
                <a:gd name="adj1" fmla="val -5381"/>
                <a:gd name="adj2" fmla="val 37717"/>
              </a:avLst>
            </a:prstGeom>
            <a:ln w="82440">
              <a:solidFill>
                <a:srgbClr val="003300"/>
              </a:solidFill>
              <a:miter/>
              <a:tailEnd len="med" type="triangle" w="med"/>
            </a:ln>
          </p:spPr>
        </p:cxnSp>
        <p:sp>
          <p:nvSpPr>
            <p:cNvPr id="145" name="Rectangle 21532"/>
            <p:cNvSpPr/>
            <p:nvPr/>
          </p:nvSpPr>
          <p:spPr>
            <a:xfrm>
              <a:off x="6861240" y="1163880"/>
              <a:ext cx="136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400" spc="-1" strike="noStrike">
                  <a:solidFill>
                    <a:srgbClr val="003300"/>
                  </a:solidFill>
                  <a:latin typeface="Arial"/>
                  <a:ea typeface="Arial"/>
                </a:rPr>
                <a:t>Ensiling</a:t>
              </a:r>
              <a:endParaRPr b="0" lang="en-US" sz="2400" spc="-1" strike="noStrike">
                <a:solidFill>
                  <a:srgbClr val="00603f"/>
                </a:solidFill>
                <a:latin typeface="Arial"/>
              </a:endParaRPr>
            </a:p>
          </p:txBody>
        </p:sp>
      </p:grpSp>
      <p:grpSp>
        <p:nvGrpSpPr>
          <p:cNvPr id="146" name="Group 34"/>
          <p:cNvGrpSpPr/>
          <p:nvPr/>
        </p:nvGrpSpPr>
        <p:grpSpPr>
          <a:xfrm>
            <a:off x="7346520" y="3981600"/>
            <a:ext cx="1788480" cy="675000"/>
            <a:chOff x="7346520" y="3981600"/>
            <a:chExt cx="1788480" cy="675000"/>
          </a:xfrm>
        </p:grpSpPr>
        <p:cxnSp>
          <p:nvCxnSpPr>
            <p:cNvPr id="147" name="Straight Arrow Connector 4"/>
            <p:cNvCxnSpPr/>
            <p:nvPr/>
          </p:nvCxnSpPr>
          <p:spPr>
            <a:xfrm flipH="1" rot="16200000">
              <a:off x="7668360" y="4228200"/>
              <a:ext cx="675360" cy="181440"/>
            </a:xfrm>
            <a:prstGeom prst="curvedConnector5">
              <a:avLst>
                <a:gd name="adj1" fmla="val 49973"/>
                <a:gd name="adj2" fmla="val 49900"/>
                <a:gd name="adj3" fmla="val 49973"/>
              </a:avLst>
            </a:prstGeom>
            <a:ln w="82440">
              <a:solidFill>
                <a:srgbClr val="003300"/>
              </a:solidFill>
              <a:miter/>
              <a:tailEnd len="med" type="triangle" w="med"/>
            </a:ln>
          </p:spPr>
        </p:cxnSp>
        <p:sp>
          <p:nvSpPr>
            <p:cNvPr id="148" name="Rectangle 33"/>
            <p:cNvSpPr/>
            <p:nvPr/>
          </p:nvSpPr>
          <p:spPr>
            <a:xfrm>
              <a:off x="7346520" y="4022280"/>
              <a:ext cx="178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400" spc="-1" strike="noStrike">
                  <a:solidFill>
                    <a:srgbClr val="003300"/>
                  </a:solidFill>
                  <a:latin typeface="Arial"/>
                  <a:ea typeface="Arial"/>
                </a:rPr>
                <a:t>Sun-drying</a:t>
              </a:r>
              <a:endParaRPr b="0" lang="en-US" sz="2400" spc="-1" strike="noStrike">
                <a:solidFill>
                  <a:srgbClr val="00603f"/>
                </a:solidFill>
                <a:latin typeface="Arial"/>
              </a:endParaRPr>
            </a:p>
          </p:txBody>
        </p:sp>
      </p:grpSp>
      <p:sp>
        <p:nvSpPr>
          <p:cNvPr id="149" name="Rectangle 1"/>
          <p:cNvSpPr/>
          <p:nvPr/>
        </p:nvSpPr>
        <p:spPr>
          <a:xfrm>
            <a:off x="-45720" y="473040"/>
            <a:ext cx="2552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Arial"/>
                <a:ea typeface="Arial"/>
              </a:rPr>
              <a:t>Methodology</a:t>
            </a:r>
            <a:endParaRPr b="0" lang="en-US" sz="3000" spc="-1" strike="noStrike">
              <a:solidFill>
                <a:srgbClr val="00603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Chart 3" descr=""/>
          <p:cNvPicPr/>
          <p:nvPr/>
        </p:nvPicPr>
        <p:blipFill>
          <a:blip r:embed="rId1"/>
          <a:stretch/>
        </p:blipFill>
        <p:spPr>
          <a:xfrm>
            <a:off x="450720" y="1341360"/>
            <a:ext cx="8096400" cy="420552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4"/>
          <p:cNvSpPr/>
          <p:nvPr/>
        </p:nvSpPr>
        <p:spPr>
          <a:xfrm>
            <a:off x="473040" y="0"/>
            <a:ext cx="818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Arial"/>
                <a:ea typeface="Calibri"/>
              </a:rPr>
              <a:t>Fig.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Calibri"/>
              </a:rPr>
              <a:t>: Extent of pH decline after 45 d of ensiling cassava peels in mini silos</a:t>
            </a:r>
            <a:endParaRPr b="0" lang="en-US" sz="2800" spc="-1" strike="noStrike">
              <a:solidFill>
                <a:srgbClr val="00603f"/>
              </a:solidFill>
              <a:latin typeface="Arial"/>
            </a:endParaRPr>
          </a:p>
        </p:txBody>
      </p:sp>
      <p:grpSp>
        <p:nvGrpSpPr>
          <p:cNvPr id="152" name="Group 2"/>
          <p:cNvGrpSpPr/>
          <p:nvPr/>
        </p:nvGrpSpPr>
        <p:grpSpPr>
          <a:xfrm>
            <a:off x="912960" y="5769000"/>
            <a:ext cx="7122960" cy="915840"/>
            <a:chOff x="912960" y="5769000"/>
            <a:chExt cx="7122960" cy="915840"/>
          </a:xfrm>
        </p:grpSpPr>
        <p:grpSp>
          <p:nvGrpSpPr>
            <p:cNvPr id="153" name="Group 1"/>
            <p:cNvGrpSpPr/>
            <p:nvPr/>
          </p:nvGrpSpPr>
          <p:grpSpPr>
            <a:xfrm>
              <a:off x="912960" y="5769000"/>
              <a:ext cx="5360040" cy="910440"/>
              <a:chOff x="912960" y="5769000"/>
              <a:chExt cx="5360040" cy="910440"/>
            </a:xfrm>
          </p:grpSpPr>
          <p:pic>
            <p:nvPicPr>
              <p:cNvPr id="154" name="Picture 2" descr="C:\Users\FS 029\Desktop\ILRI-UDS\PICTURES\IMG_20151020_230444.jpg"/>
              <p:cNvPicPr/>
              <p:nvPr/>
            </p:nvPicPr>
            <p:blipFill>
              <a:blip r:embed="rId2"/>
              <a:stretch/>
            </p:blipFill>
            <p:spPr>
              <a:xfrm>
                <a:off x="2741760" y="5769000"/>
                <a:ext cx="1658880" cy="866880"/>
              </a:xfrm>
              <a:prstGeom prst="rect">
                <a:avLst/>
              </a:prstGeom>
              <a:ln w="34920">
                <a:solidFill>
                  <a:srgbClr val="003300"/>
                </a:solidFill>
                <a:miter/>
              </a:ln>
            </p:spPr>
          </p:pic>
          <p:pic>
            <p:nvPicPr>
              <p:cNvPr id="155" name="Picture 3" descr="C:\Users\FS 029\Desktop\ILRI-UDS\PICTURES\IMG_20151021_000007.jpg"/>
              <p:cNvPicPr/>
              <p:nvPr/>
            </p:nvPicPr>
            <p:blipFill>
              <a:blip r:embed="rId3"/>
              <a:stretch/>
            </p:blipFill>
            <p:spPr>
              <a:xfrm>
                <a:off x="912960" y="5787720"/>
                <a:ext cx="1706760" cy="891720"/>
              </a:xfrm>
              <a:prstGeom prst="rect">
                <a:avLst/>
              </a:prstGeom>
              <a:ln w="34920">
                <a:solidFill>
                  <a:srgbClr val="003300"/>
                </a:solidFill>
                <a:miter/>
              </a:ln>
            </p:spPr>
          </p:pic>
          <p:pic>
            <p:nvPicPr>
              <p:cNvPr id="156" name="Picture 4" descr=""/>
              <p:cNvPicPr/>
              <p:nvPr/>
            </p:nvPicPr>
            <p:blipFill>
              <a:blip r:embed="rId4"/>
              <a:stretch/>
            </p:blipFill>
            <p:spPr>
              <a:xfrm>
                <a:off x="4564440" y="5781600"/>
                <a:ext cx="1708560" cy="890280"/>
              </a:xfrm>
              <a:prstGeom prst="rect">
                <a:avLst/>
              </a:prstGeom>
              <a:ln w="34920">
                <a:solidFill>
                  <a:srgbClr val="003300"/>
                </a:solidFill>
                <a:miter/>
              </a:ln>
            </p:spPr>
          </p:pic>
        </p:grpSp>
        <p:pic>
          <p:nvPicPr>
            <p:cNvPr id="157" name="Picture 5" descr="C:\Users\FS 029\Desktop\ILRI-UDS\Mini Silo\IMG_20151021_043202.jpg"/>
            <p:cNvPicPr/>
            <p:nvPr/>
          </p:nvPicPr>
          <p:blipFill>
            <a:blip r:embed="rId5"/>
            <a:stretch/>
          </p:blipFill>
          <p:spPr>
            <a:xfrm rot="5400000">
              <a:off x="6782040" y="5430960"/>
              <a:ext cx="902880" cy="1604880"/>
            </a:xfrm>
            <a:prstGeom prst="rect">
              <a:avLst/>
            </a:prstGeom>
            <a:ln w="34920">
              <a:solidFill>
                <a:srgbClr val="0033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417600" y="1173240"/>
          <a:ext cx="8215200" cy="4946400"/>
        </p:xfrm>
        <a:graphic>
          <a:graphicData uri="http://schemas.openxmlformats.org/drawingml/2006/table">
            <a:tbl>
              <a:tblPr/>
              <a:tblGrid>
                <a:gridCol w="2759040"/>
                <a:gridCol w="944640"/>
                <a:gridCol w="1828800"/>
                <a:gridCol w="960480"/>
                <a:gridCol w="1722240"/>
              </a:tblGrid>
              <a:tr h="1682280">
                <a:tc gridSpan="5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able 1: pH ammonia N (mg/kg) and microbial composition (CFU /kg DM) of dried  or ensiled cassava peels after 45 d of ensiling in bag silos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tem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ried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Ensiled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EM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value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75d1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H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2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2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29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.0001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mmonia N 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48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12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65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29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actic acid bacteria 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.4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.4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.256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.014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Yeasts 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.5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.7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.272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.474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oulds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.4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.4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.164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.011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080">
                <a:tc gridSpan="5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EM: Pooled standard error of least square means (n =3).</a:t>
                      </a:r>
                      <a:endParaRPr b="0" lang="en-US" sz="24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154080" y="5686560"/>
            <a:ext cx="87422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66400" y="1127160"/>
            <a:ext cx="8877240" cy="8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ble 2: Nutrient composition </a:t>
            </a:r>
            <a:r>
              <a:rPr b="1" lang="en-CA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(mean ± SD) of  dried or ensiled cassava peels diet</a:t>
            </a:r>
            <a:br>
              <a:rPr sz="2800"/>
            </a:b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85840" y="2006640"/>
          <a:ext cx="8191440" cy="2944800"/>
        </p:xfrm>
        <a:graphic>
          <a:graphicData uri="http://schemas.openxmlformats.org/drawingml/2006/table">
            <a:tbl>
              <a:tblPr/>
              <a:tblGrid>
                <a:gridCol w="3671640"/>
                <a:gridCol w="1825920"/>
                <a:gridCol w="2693880"/>
              </a:tblGrid>
              <a:tr h="490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tem</a:t>
                      </a:r>
                      <a:endParaRPr b="0" lang="en-US" sz="28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ried</a:t>
                      </a:r>
                      <a:endParaRPr b="0" lang="en-US" sz="28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siled</a:t>
                      </a:r>
                      <a:endParaRPr b="0" lang="en-US" sz="28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3a3e0"/>
                    </a:solidFill>
                  </a:tcPr>
                </a:tc>
              </a:tr>
              <a:tr h="490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ry matter</a:t>
                      </a:r>
                      <a:endParaRPr b="0" lang="en-US" sz="28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4.4±0.85</a:t>
                      </a:r>
                      <a:endParaRPr b="0" lang="en-US" sz="28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5.0±0.61</a:t>
                      </a:r>
                      <a:endParaRPr b="0" lang="en-US" sz="28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90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ude protein</a:t>
                      </a:r>
                      <a:endParaRPr b="0" lang="en-US" sz="28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.3±0.5</a:t>
                      </a:r>
                      <a:endParaRPr b="0" lang="en-US" sz="28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12.6</a:t>
                      </a: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±</a:t>
                      </a:r>
                      <a:r>
                        <a:rPr b="0" lang="en-CA" sz="28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0.42</a:t>
                      </a:r>
                      <a:endParaRPr b="0" lang="en-US" sz="28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14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ude fat</a:t>
                      </a:r>
                      <a:endParaRPr b="0" lang="en-US" sz="28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.2 ±0.48</a:t>
                      </a:r>
                      <a:endParaRPr b="0" lang="en-US" sz="28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.4 ±0.55</a:t>
                      </a:r>
                      <a:endParaRPr b="0" lang="en-US" sz="28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0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 free extract</a:t>
                      </a:r>
                      <a:endParaRPr b="0" lang="en-US" sz="28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4.6±0.94</a:t>
                      </a:r>
                      <a:endParaRPr b="0" lang="en-US" sz="28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55.9±0.96</a:t>
                      </a:r>
                      <a:endParaRPr b="0" lang="en-US" sz="28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0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E (MJ/kg DM)</a:t>
                      </a:r>
                      <a:endParaRPr b="0" lang="en-US" sz="28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2.5</a:t>
                      </a:r>
                      <a:endParaRPr b="0" lang="en-US" sz="28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0000"/>
                          </a:solidFill>
                          <a:latin typeface="Arial"/>
                          <a:ea typeface="Calibri"/>
                        </a:rPr>
                        <a:t>12.7</a:t>
                      </a:r>
                      <a:endParaRPr b="0" lang="en-US" sz="28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Rectangle 4"/>
          <p:cNvSpPr/>
          <p:nvPr/>
        </p:nvSpPr>
        <p:spPr>
          <a:xfrm>
            <a:off x="361800" y="4951440"/>
            <a:ext cx="811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Diets: cassava peels: whole cotton seed (75:25)</a:t>
            </a:r>
            <a:endParaRPr b="0" lang="en-US" sz="2000" spc="-1" strike="noStrike">
              <a:solidFill>
                <a:srgbClr val="00603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ME (MJ/kg DM; Pauzenga, 1985).</a:t>
            </a:r>
            <a:endParaRPr b="0" lang="en-US" sz="2000" spc="-1" strike="noStrike">
              <a:solidFill>
                <a:srgbClr val="00603f"/>
              </a:solidFill>
              <a:latin typeface="Arial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154080" y="5686560"/>
            <a:ext cx="87422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122400" y="1100160"/>
          <a:ext cx="9021600" cy="4275000"/>
        </p:xfrm>
        <a:graphic>
          <a:graphicData uri="http://schemas.openxmlformats.org/drawingml/2006/table">
            <a:tbl>
              <a:tblPr/>
              <a:tblGrid>
                <a:gridCol w="2923920"/>
                <a:gridCol w="1032120"/>
                <a:gridCol w="1361880"/>
                <a:gridCol w="1433520"/>
                <a:gridCol w="944640"/>
                <a:gridCol w="1325520"/>
              </a:tblGrid>
              <a:tr h="945000">
                <a:tc gridSpan="6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 3: DMI &amp; growth performance of sheep (n = 3) fed dried or ensiled cassava peel diets </a:t>
                      </a:r>
                      <a:endParaRPr b="0" lang="en-US" sz="28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2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m </a:t>
                      </a:r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ied</a:t>
                      </a:r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iled</a:t>
                      </a:r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</a:t>
                      </a:r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</a:t>
                      </a:r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CA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1" lang="en-CA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value</a:t>
                      </a:r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75d1"/>
                    </a:solidFill>
                  </a:tcPr>
                </a:tc>
              </a:tr>
              <a:tr h="571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itial weight (kg)</a:t>
                      </a:r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6</a:t>
                      </a:r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500" spc="-1" strike="noStrike">
                          <a:solidFill>
                            <a:srgbClr val="003300"/>
                          </a:solidFill>
                          <a:latin typeface="Arial"/>
                          <a:ea typeface="Calibri"/>
                        </a:rPr>
                        <a:t>11.9</a:t>
                      </a:r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500" spc="-1" strike="noStrike">
                          <a:solidFill>
                            <a:srgbClr val="003300"/>
                          </a:solidFill>
                          <a:latin typeface="Arial"/>
                          <a:ea typeface="Calibri"/>
                        </a:rPr>
                        <a:t>11.3</a:t>
                      </a:r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6</a:t>
                      </a:r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37</a:t>
                      </a:r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71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 weight (kg)</a:t>
                      </a:r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0</a:t>
                      </a:r>
                      <a:r>
                        <a:rPr b="0" lang="en-CA" sz="2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500" spc="-1" strike="noStrike">
                          <a:solidFill>
                            <a:srgbClr val="003300"/>
                          </a:solidFill>
                          <a:latin typeface="Arial"/>
                          <a:ea typeface="Calibri"/>
                        </a:rPr>
                        <a:t>18.7</a:t>
                      </a:r>
                      <a:r>
                        <a:rPr b="0" lang="en-CA" sz="2500" spc="-1" strike="noStrike" baseline="30000">
                          <a:solidFill>
                            <a:srgbClr val="003300"/>
                          </a:solidFill>
                          <a:latin typeface="Arial"/>
                          <a:ea typeface="Calibri"/>
                        </a:rPr>
                        <a:t>a</a:t>
                      </a:r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500" spc="-1" strike="noStrike">
                          <a:solidFill>
                            <a:srgbClr val="003300"/>
                          </a:solidFill>
                          <a:latin typeface="Arial"/>
                          <a:ea typeface="Calibri"/>
                        </a:rPr>
                        <a:t>16.0</a:t>
                      </a:r>
                      <a:r>
                        <a:rPr b="0" lang="en-CA" sz="2500" spc="-1" strike="noStrike" baseline="30000">
                          <a:solidFill>
                            <a:srgbClr val="003300"/>
                          </a:solidFill>
                          <a:latin typeface="Arial"/>
                          <a:ea typeface="Calibri"/>
                        </a:rPr>
                        <a:t>b</a:t>
                      </a:r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5</a:t>
                      </a:r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0</a:t>
                      </a:r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1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wt. gain (kg)</a:t>
                      </a:r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1</a:t>
                      </a:r>
                      <a:r>
                        <a:rPr b="0" lang="en-CA" sz="2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500" spc="-1" strike="noStrike">
                          <a:solidFill>
                            <a:srgbClr val="006600"/>
                          </a:solidFill>
                          <a:latin typeface="Arial"/>
                          <a:ea typeface="Calibri"/>
                        </a:rPr>
                        <a:t>6.9</a:t>
                      </a:r>
                      <a:r>
                        <a:rPr b="0" lang="en-CA" sz="2500" spc="-1" strike="noStrike" baseline="30000">
                          <a:solidFill>
                            <a:srgbClr val="006600"/>
                          </a:solidFill>
                          <a:latin typeface="Arial"/>
                          <a:ea typeface="Calibri"/>
                        </a:rPr>
                        <a:t>a</a:t>
                      </a:r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.0</a:t>
                      </a:r>
                      <a:r>
                        <a:rPr b="0" lang="en-CA" sz="25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b</a:t>
                      </a:r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3</a:t>
                      </a:r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8</a:t>
                      </a:r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1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M intake (kg/d)</a:t>
                      </a:r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8</a:t>
                      </a:r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</a:t>
                      </a:r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</a:t>
                      </a:r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36</a:t>
                      </a:r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1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G (kg/d)</a:t>
                      </a:r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</a:t>
                      </a:r>
                      <a:r>
                        <a:rPr b="0" lang="en-CA" sz="2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500" spc="-1" strike="noStrike">
                          <a:solidFill>
                            <a:srgbClr val="006600"/>
                          </a:solidFill>
                          <a:latin typeface="Arial"/>
                          <a:ea typeface="Calibri"/>
                        </a:rPr>
                        <a:t>0.10</a:t>
                      </a:r>
                      <a:r>
                        <a:rPr b="0" lang="en-CA" sz="2500" spc="-1" strike="noStrike" baseline="30000">
                          <a:solidFill>
                            <a:srgbClr val="006600"/>
                          </a:solidFill>
                          <a:latin typeface="Arial"/>
                          <a:ea typeface="Calibri"/>
                        </a:rPr>
                        <a:t>a</a:t>
                      </a:r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5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.06</a:t>
                      </a:r>
                      <a:r>
                        <a:rPr b="0" lang="en-CA" sz="25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</a:t>
                      </a:r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</a:t>
                      </a:r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31</a:t>
                      </a:r>
                      <a:endParaRPr b="0" lang="en-US" sz="2500" spc="-1" strike="noStrike">
                        <a:solidFill>
                          <a:srgbClr val="00603f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Rectangle 3"/>
          <p:cNvSpPr/>
          <p:nvPr/>
        </p:nvSpPr>
        <p:spPr>
          <a:xfrm>
            <a:off x="184680" y="5970600"/>
            <a:ext cx="29408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  <a:ea typeface="Times New Roman"/>
              </a:rPr>
              <a:t>ADG: average daily gain</a:t>
            </a:r>
            <a:endParaRPr b="0" lang="en-US" sz="2000" spc="-1" strike="noStrike">
              <a:solidFill>
                <a:srgbClr val="00603f"/>
              </a:solidFill>
              <a:latin typeface="Arial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173160" y="5756400"/>
            <a:ext cx="874224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6T17:42:17Z</dcterms:created>
  <dc:creator>Erin Cadieu</dc:creator>
  <dc:description/>
  <dc:language>en-US</dc:language>
  <cp:lastModifiedBy>Odhong, Jonathan (IITA)</cp:lastModifiedBy>
  <cp:lastPrinted>2013-08-12T17:02:15Z</cp:lastPrinted>
  <dcterms:modified xsi:type="dcterms:W3CDTF">2016-12-14T07:44:33Z</dcterms:modified>
  <cp:revision>1027</cp:revision>
  <dc:subject>January 20, 1998</dc:subject>
  <dc:title>New strategies for the prevention of pasture bloat</dc:title>
</cp:coreProperties>
</file>