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49CDC-7EDA-4897-9D33-F2B8F393A9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0AAD5-B59F-429D-88D0-8FF1000B6B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D357CF-6662-48EF-A170-A3764A9ED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AE9BA-CC83-40E1-A019-9620D2703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4F8EEA-495B-433D-B80B-44166091C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72238-9A6C-494B-BD2D-1F7E6A6CD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2BC7D-41A4-4CDB-8073-79E9B7D78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DAFFD-C655-4A8C-B2E4-758D59BD6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299B8-4EDE-47FB-8B87-08F95C087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22C989-98B2-470E-B376-941338DDC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B787F-7894-4E72-8613-FACC9447A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605A0-EE32-42E8-A9FF-7E87AAAC9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7650F-A5CE-4BC3-B7DF-B51A1FD94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8CB85-F0DD-480F-AD66-E95AAA50B8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7611A-8005-4EBE-B2A6-E51EF633CC91}"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37669-E568-40A1-9F27-F75C5EB7ED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80520"/>
            <a:ext cx="8686800" cy="3048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4000" spc="-1" strike="noStrike">
                <a:solidFill>
                  <a:srgbClr val="000000"/>
                </a:solidFill>
                <a:latin typeface="Calibri"/>
              </a:rPr>
              <a:t>Effect of concentrate supplementation and season on nitrogen flow and growth performance of sheep in smallholder production system </a:t>
            </a:r>
            <a:br>
              <a:rPr sz="4000"/>
            </a:br>
            <a:r>
              <a:rPr b="1" i="1" lang="en-US" sz="4000" spc="-1" strike="noStrike">
                <a:solidFill>
                  <a:srgbClr val="000000"/>
                </a:solidFill>
                <a:latin typeface="Calibri"/>
              </a:rPr>
              <a:t> </a:t>
            </a:r>
            <a:br>
              <a:rPr sz="4000"/>
            </a:br>
            <a:br>
              <a:rPr sz="4000"/>
            </a:br>
            <a:br>
              <a:rPr sz="4000"/>
            </a:br>
            <a:endParaRPr b="0" lang="en-US" sz="4000" spc="-1" strike="noStrike">
              <a:solidFill>
                <a:srgbClr val="000000"/>
              </a:solidFill>
              <a:latin typeface="Calibri"/>
            </a:endParaRPr>
          </a:p>
        </p:txBody>
      </p:sp>
      <p:sp>
        <p:nvSpPr>
          <p:cNvPr id="49" name="PlaceHolder 2"/>
          <p:cNvSpPr>
            <a:spLocks noGrp="1"/>
          </p:cNvSpPr>
          <p:nvPr>
            <p:ph type="subTitle"/>
          </p:nvPr>
        </p:nvSpPr>
        <p:spPr>
          <a:xfrm>
            <a:off x="1447560" y="4495320"/>
            <a:ext cx="6629400" cy="129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98989"/>
                </a:solidFill>
                <a:latin typeface="Calibri"/>
              </a:rPr>
              <a:t>Konlan S. P., Ayantunde A., Addah W., Dei, H. K., Avornyo F. K. </a:t>
            </a:r>
            <a:r>
              <a:rPr b="1" lang="en-US" sz="3200" spc="-1" strike="noStrike" baseline="30000">
                <a:solidFill>
                  <a:srgbClr val="898989"/>
                </a:solidFill>
                <a:latin typeface="Calibri"/>
              </a:rPr>
              <a:t> </a:t>
            </a:r>
            <a:r>
              <a:rPr b="1" lang="en-US" sz="3200" spc="-1" strike="noStrike">
                <a:solidFill>
                  <a:srgbClr val="898989"/>
                </a:solidFill>
                <a:latin typeface="Calibri"/>
              </a:rPr>
              <a:t>and Karbo N.</a:t>
            </a:r>
            <a:endParaRPr b="0" lang="en-US" sz="32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7C41-9BAF-4742-8405-0FA6904305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roduction and objective  </a:t>
            </a:r>
            <a:endParaRPr b="0" lang="en-US" sz="4000" spc="-1" strike="noStrike">
              <a:solidFill>
                <a:srgbClr val="000000"/>
              </a:solidFill>
              <a:latin typeface="Calibri"/>
            </a:endParaRPr>
          </a:p>
        </p:txBody>
      </p:sp>
      <p:sp>
        <p:nvSpPr>
          <p:cNvPr id="52" name=""/>
          <p:cNvSpPr txBox="1"/>
          <p:nvPr/>
        </p:nvSpPr>
        <p:spPr>
          <a:xfrm>
            <a:off x="228600" y="914400"/>
            <a:ext cx="8610480" cy="55627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imals’ productivity is constraint by variability in quality and quantity of feed resources (Oppong-Anane, 2013) with change in season in tropic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Ghana, there is decreased in protein content of l pasture from wet season to dry season FAO (2006) and negatively affect productivity</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Nutrient content of feed especially N influences nutrient flows (Fernandez-Rivera, et al., 1995) and productivity.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1" lang="en-US" sz="3000" spc="-1" strike="noStrike">
                <a:solidFill>
                  <a:srgbClr val="000000"/>
                </a:solidFill>
                <a:latin typeface="Calibri"/>
              </a:rPr>
              <a:t>objective</a:t>
            </a:r>
            <a:r>
              <a:rPr b="0" lang="en-US" sz="3000" spc="-1" strike="noStrike">
                <a:solidFill>
                  <a:srgbClr val="000000"/>
                </a:solidFill>
                <a:latin typeface="Calibri"/>
              </a:rPr>
              <a:t> was to estimate the effect of concentrate supplementation plus healthcare and season on DM and N flow and growth performance of sheep in smallholder production system.</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D0BBB-32A5-46F4-AD6D-F865CE6BC5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terials and methods</a:t>
            </a:r>
            <a:endParaRPr b="0" lang="en-US" sz="4000" spc="-1" strike="noStrike">
              <a:solidFill>
                <a:srgbClr val="000000"/>
              </a:solidFill>
              <a:latin typeface="Calibri"/>
            </a:endParaRPr>
          </a:p>
        </p:txBody>
      </p:sp>
      <p:sp>
        <p:nvSpPr>
          <p:cNvPr id="55" name=""/>
          <p:cNvSpPr txBox="1"/>
          <p:nvPr/>
        </p:nvSpPr>
        <p:spPr>
          <a:xfrm>
            <a:off x="228600" y="837720"/>
            <a:ext cx="8763120" cy="5791320"/>
          </a:xfrm>
          <a:prstGeom prst="rect">
            <a:avLst/>
          </a:prstGeom>
          <a:noFill/>
          <a:ln w="0">
            <a:noFill/>
          </a:ln>
        </p:spPr>
        <p:txBody>
          <a:bodyPr anchor="t">
            <a:normAutofit fontScale="99000"/>
          </a:bodyPr>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study was conducted in NR, UER and UWR of Northern Ghana.  Districts were classified into 3 strata based on the length of growing period and 2 communities were randomly chosen from each strata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ix smallholder sheep farmers were selected in each village  based on their willingness to participate in the research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is was conducted as a randomized complete block design with region as a block</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Feed offer, grazing, and weight gain of all sheep in each pen of the farmers were studied across seasons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se  included early dry season (Nov. to Jan., 2013), late dry season (Feb. to Apr., 2014), early wet season (May to Jul., 2014), and main wet season (Aug. to Oct, 2014). </a:t>
            </a:r>
            <a:endParaRPr b="0" lang="en-US" sz="2700" spc="-1" strike="noStrike">
              <a:solidFill>
                <a:srgbClr val="000000"/>
              </a:solidFill>
              <a:latin typeface="Calibri"/>
            </a:endParaRPr>
          </a:p>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endParaRPr b="0" lang="en-US" sz="2700" spc="-1" strike="noStrike">
              <a:solidFill>
                <a:srgbClr val="000000"/>
              </a:solidFill>
              <a:latin typeface="Calibri"/>
            </a:endParaRPr>
          </a:p>
          <a:p>
            <a:pPr marL="33948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66292-7908-41B6-A8F8-0FDC0E8371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erials and methods</a:t>
            </a:r>
            <a:endParaRPr b="0" lang="en-US" sz="4400" spc="-1" strike="noStrike">
              <a:solidFill>
                <a:srgbClr val="000000"/>
              </a:solidFill>
              <a:latin typeface="Calibri"/>
            </a:endParaRPr>
          </a:p>
        </p:txBody>
      </p:sp>
      <p:sp>
        <p:nvSpPr>
          <p:cNvPr id="58" name=""/>
          <p:cNvSpPr txBox="1"/>
          <p:nvPr/>
        </p:nvSpPr>
        <p:spPr>
          <a:xfrm>
            <a:off x="228600" y="1599840"/>
            <a:ext cx="8610480" cy="480060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wo rams were sub-sampled from each pen for digestibility study.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wo management regimes ware applied as treatments, In the 1</a:t>
            </a:r>
            <a:r>
              <a:rPr b="0" lang="en-US" sz="2700" spc="-1" strike="noStrike" baseline="30000">
                <a:solidFill>
                  <a:srgbClr val="000000"/>
                </a:solidFill>
                <a:latin typeface="Calibri"/>
              </a:rPr>
              <a:t>st</a:t>
            </a:r>
            <a:r>
              <a:rPr b="0" lang="en-US" sz="2700" spc="-1" strike="noStrike">
                <a:solidFill>
                  <a:srgbClr val="000000"/>
                </a:solidFill>
                <a:latin typeface="Calibri"/>
              </a:rPr>
              <a:t> regime, (control) sheep were grazed daily at pasture and offered crop residues (75 g/d DM). In the 2</a:t>
            </a:r>
            <a:r>
              <a:rPr b="0" lang="en-US" sz="2700" spc="-1" strike="noStrike" baseline="30000">
                <a:solidFill>
                  <a:srgbClr val="000000"/>
                </a:solidFill>
                <a:latin typeface="Calibri"/>
              </a:rPr>
              <a:t>nd</a:t>
            </a:r>
            <a:r>
              <a:rPr b="0" lang="en-US" sz="2700" spc="-1" strike="noStrike">
                <a:solidFill>
                  <a:srgbClr val="000000"/>
                </a:solidFill>
                <a:latin typeface="Calibri"/>
              </a:rPr>
              <a:t>  regime (CH), sheep were offered concentrate  (180 g/d DM) plus healthcare in addition to the control.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tal DM inflow was determined from 24 h faecal collection and IVDMD of the feed consumed (Cottle, 2013) and use in estimating DM and N flow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ata  collected was analyzed with Genstat in 2 × 4 factorial arrangemen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5F61B-D1F3-4306-92DC-511C132347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nd discussion</a:t>
            </a:r>
            <a:endParaRPr b="0" lang="en-US" sz="4400" spc="-1" strike="noStrike">
              <a:solidFill>
                <a:srgbClr val="000000"/>
              </a:solidFill>
              <a:latin typeface="Calibri"/>
            </a:endParaRPr>
          </a:p>
        </p:txBody>
      </p:sp>
      <p:sp>
        <p:nvSpPr>
          <p:cNvPr id="61" name=""/>
          <p:cNvSpPr txBox="1"/>
          <p:nvPr/>
        </p:nvSpPr>
        <p:spPr>
          <a:xfrm>
            <a:off x="228600" y="1371600"/>
            <a:ext cx="8763120" cy="495288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ason did not affect (P&gt;0.05) the CP content and general quality  of the crop residues (Antwi et al., 2010)</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ason however, affected (P&lt;0.05) IVOMD</a:t>
            </a:r>
            <a:r>
              <a:rPr b="0" i="1" lang="en-US" sz="2700" spc="-1" strike="noStrike">
                <a:solidFill>
                  <a:srgbClr val="000000"/>
                </a:solidFill>
                <a:latin typeface="Calibri"/>
              </a:rPr>
              <a:t> </a:t>
            </a:r>
            <a:r>
              <a:rPr b="0" lang="en-US" sz="2700" spc="-1" strike="noStrike">
                <a:solidFill>
                  <a:srgbClr val="000000"/>
                </a:solidFill>
                <a:latin typeface="Calibri"/>
              </a:rPr>
              <a:t>of the crop residues offered to sheep.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easonality affected (P&lt;0.05) the nutrient content of common grazed forage at pasture.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P content was highest (P&lt;0.05) (142 g/kg DM) during early wet season and lowest (61 g/kg DM) in the late dry season </a:t>
            </a:r>
            <a:r>
              <a:rPr b="0" lang="en-GB" sz="2700" spc="-1" strike="noStrike">
                <a:solidFill>
                  <a:srgbClr val="000000"/>
                </a:solidFill>
                <a:latin typeface="Calibri"/>
              </a:rPr>
              <a:t>Fernandez-Rivera, et al. (1995)</a:t>
            </a:r>
            <a:r>
              <a:rPr b="0" lang="en-US" sz="2700" spc="-1" strike="noStrike">
                <a:solidFill>
                  <a:srgbClr val="000000"/>
                </a:solidFill>
                <a:latin typeface="Calibri"/>
              </a:rPr>
              <a:t>.</a:t>
            </a:r>
            <a:r>
              <a:rPr b="0" i="1"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flow of DM was higher (P &lt;0.05) in animals on CH than control (608 versus 515 g/d DM) due to supplementation</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16BD1-9B7D-466A-8478-F709C246F7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ults and discussion</a:t>
            </a:r>
            <a:endParaRPr b="0" lang="en-US" sz="4400" spc="-1" strike="noStrike">
              <a:solidFill>
                <a:srgbClr val="000000"/>
              </a:solidFill>
              <a:latin typeface="Calibri"/>
            </a:endParaRPr>
          </a:p>
        </p:txBody>
      </p:sp>
      <p:sp>
        <p:nvSpPr>
          <p:cNvPr id="64" name=""/>
          <p:cNvSpPr txBox="1"/>
          <p:nvPr/>
        </p:nvSpPr>
        <p:spPr>
          <a:xfrm>
            <a:off x="228600" y="685800"/>
            <a:ext cx="8763120" cy="59436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Intake at pasture differed (P&lt;0.05 g/d DM) across seasons due to variation in forage availability (Smith, 2010)</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Highest (679 g/d DM) DM inflow (P&lt;0.05) was recorded during early wet season and lowest (397 g/d DM) in main wet season due to confinement Awuma, (2012)</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Nitrogen inflow was higher (P&lt;0.05) among animals on CH than control group but N voiding was similar Powell et al. (1996)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Season affected (P&lt;0.05) N inflow and was highest during early wet season and lowest in late dry season Schlecht et al. (1995)</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nimals on CH had higher (P&lt;0.05) ADG (34 g/d) than control group (18 g/d) ICT (2014). Season affected (P&lt;0.05) the ADG. The ADG was  highest in early wet season and lowest in main wet season.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60ED8-2C3F-4E06-A8D4-AF109D3CE6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lusion </a:t>
            </a:r>
            <a:endParaRPr b="0" lang="en-US" sz="4400" spc="-1" strike="noStrike">
              <a:solidFill>
                <a:srgbClr val="000000"/>
              </a:solidFill>
              <a:latin typeface="Calibri"/>
            </a:endParaRPr>
          </a:p>
        </p:txBody>
      </p:sp>
      <p:sp>
        <p:nvSpPr>
          <p:cNvPr id="67" name=""/>
          <p:cNvSpPr txBox="1"/>
          <p:nvPr/>
        </p:nvSpPr>
        <p:spPr>
          <a:xfrm>
            <a:off x="152280" y="1143000"/>
            <a:ext cx="8763120" cy="548640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centrate feed plus healthcare application increased dry matter and nitrogen inflow but voiding in faeces was not affected.</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nflow of DM and N was highest in early wet season and lowest in main wet seasons. </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utput of DM was highest in early dry season and lowest in the main wet seaso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 voiding was highest during the early wet season and lowest in early dry seaso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centrate feed increased growth performanc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aecal quality as manure was highest in early dry season that could be collected to improve soil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3F308-3640-48C7-8107-40976BC07ED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34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000000"/>
                </a:solidFill>
                <a:latin typeface="Calibri"/>
              </a:rPr>
              <a:t>Thank you </a:t>
            </a:r>
            <a:endParaRPr b="0" lang="en-US" sz="13800" spc="-1" strike="noStrike">
              <a:solidFill>
                <a:srgbClr val="000000"/>
              </a:solidFill>
              <a:latin typeface="Calibri"/>
            </a:endParaRPr>
          </a:p>
        </p:txBody>
      </p:sp>
      <p:sp>
        <p:nvSpPr>
          <p:cNvPr id="7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08578-C000-47D7-8EBE-96F95F4BA1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0T16:54:40Z</dcterms:created>
  <dc:creator>Konlan</dc:creator>
  <dc:description/>
  <dc:language>en-US</dc:language>
  <cp:lastModifiedBy>Konlan</cp:lastModifiedBy>
  <dcterms:modified xsi:type="dcterms:W3CDTF">2016-12-12T11:58:10Z</dcterms:modified>
  <cp:revision>101</cp:revision>
  <dc:subject/>
  <dc:title>Effect of concentrate supplementation and season on nitrogen flow and growth performance of sheep in smallholder production system</dc:title>
</cp:coreProperties>
</file>